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215-6CF3-4E0E-B204-C2669164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96C-C226-4313-A1B0-2E81AC72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EF8-910F-42D6-8221-78593BFC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EAF-51F1-42CE-9CA1-8BDE2AAE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1D10-E9A3-4ED1-86A3-163E7547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FC58-47DA-460D-B283-783DED3C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E35B-29DE-4373-B7EC-2FAE6F76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F618-A044-435C-B954-CD85485E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5EA7-80F8-4825-A2BE-242C75A9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E093-A81D-4770-A094-49876C86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07F0-6C8E-4201-B114-B4CC746E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FA9-45EF-47C6-BB2B-DA68CCC6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0F55-CB74-4916-8839-B75FD755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1DA4-FC81-46BE-A3BA-9452C0C7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8E98-536A-4463-A9D2-E66F5257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1BF1-DE8B-4F43-9F2A-30B91B00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220E-19BA-43D1-87EC-ABEEEB4F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62B-6FC6-4E4B-A9E4-09C02D05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FDF-14B0-454E-AB0B-C89E2BF5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D91-E253-4C40-AD1F-E87801FD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575-2841-4444-88EA-8A425445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5C9-5A18-4D34-9F53-22868E81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263-792C-4B82-B3D0-F6EAD3AD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7A1-583F-475B-B492-2D37CE13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D45-0B34-4AD0-8463-B51BC3A4073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6105-C10F-46A6-9A90-A582685926E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Занятие 3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МИФЫ   НАРОДОВ     МИРА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Глубокое проникновение в культуру прошлого и культуры других народов сближает времена и стран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. С. Лихачё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Основные вопросы мифов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исхождение мир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обро и зл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раницы возможностей челове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Миф – греческое слово (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mythos)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, означающее «слово», «предание», «сказание»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РЕВНИЕ НАРОД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воя мифология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вои боги                        свои геро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Миф – произведение УНТ, как и сказ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ЧТО ИНТЕРЕСОВАЛО ДРЕВНЕГО    ЧЕЛОВЕКА И ОТРАЖАЛОСЬ В МИФАХ</a:t>
            </a:r>
            <a:endParaRPr b="0" lang="en-US" sz="28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 появился ми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или что управляет вс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день сменяется ночью, а лето – зим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 добыть огонь и сохранить е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 добыть пищ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 выжить и т. 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Мифология античности – </a:t>
            </a:r>
            <a:br>
              <a:rPr sz="3600"/>
            </a:b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то  прежде  всего   Олимп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лимп – это игра солнца и света, золота и лазури, величественность и красота бог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348000" y="1484280"/>
            <a:ext cx="4319640" cy="338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188424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Мифы Древней Греции – сокровищница мировой культуры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1955520" cy="2438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476360" y="4221000"/>
            <a:ext cx="1513080" cy="2376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276720" y="1628640"/>
            <a:ext cx="1866960" cy="2857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364000" y="2708280"/>
            <a:ext cx="2267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Мифы древних славян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196640"/>
            <a:ext cx="7386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4941720"/>
            <a:ext cx="2428920" cy="1695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2449440" cy="364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556000" y="2997360"/>
            <a:ext cx="2141280" cy="3273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211640" y="1052640"/>
            <a:ext cx="2232000" cy="3057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5508720" y="3500280"/>
            <a:ext cx="2266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Словарь славянских мифов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ру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акош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Ярил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варо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аждь-Бо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щ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Скандинавские мифы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Путешестви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ра в Утгард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95640" y="1484280"/>
            <a:ext cx="36324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Мифы североамериканских </a:t>
            </a:r>
            <a:br>
              <a:rPr sz="3600"/>
            </a:b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                     индейцев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. Лонгфелл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Песнь о Гайавате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2952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7:15:28Z</dcterms:created>
  <dc:creator>Пользователь</dc:creator>
  <dc:description/>
  <dc:language>en-US</dc:language>
  <cp:lastModifiedBy>UserXP</cp:lastModifiedBy>
  <dcterms:modified xsi:type="dcterms:W3CDTF">2011-09-13T16:32:34Z</dcterms:modified>
  <cp:revision>4</cp:revision>
  <dc:subject/>
  <dc:title>МИФЫ   НАРОДОВ     МИРА</dc:title>
</cp:coreProperties>
</file>