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1A0-86FF-474E-9B23-E6CA0B77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515-2449-41BF-B4C2-F9F8A876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F53-C1EA-4EA4-ACB4-F747D335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702-055B-4671-BFC9-C91EF8EB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CEA-3E6E-45A6-A471-5B4EA7D1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7A6-0848-41FB-98D6-E06B2DE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79E-079F-4586-97E4-3C222A94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FB3-A37C-4541-A4D4-00D1E75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40A-4B0B-4797-9774-CF353910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225-65C1-438C-B2CB-3C77CF2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B03-EA66-4700-8863-E679116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EDB-7061-49F5-A66A-F79701B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05F1-71E6-4012-84C0-85A27E62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ного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мкнутая фиг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рез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ежные отрез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лежат на одной пря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межные отрез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 имеют общих точек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628640"/>
            <a:ext cx="93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191628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1916280"/>
            <a:ext cx="5032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555640" y="1557360"/>
            <a:ext cx="14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1557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1557360"/>
            <a:ext cx="720720" cy="576360"/>
          </a:xfrm>
          <a:prstGeom prst="hexagon">
            <a:avLst>
              <a:gd name="adj" fmla="val 3126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8472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62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71600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8436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83400">
            <a:off x="755640" y="2708280"/>
            <a:ext cx="936720" cy="504720"/>
          </a:xfrm>
          <a:custGeom>
            <a:avLst/>
            <a:gdLst>
              <a:gd name="textAreaLeft" fmla="*/ 181800 w 936720"/>
              <a:gd name="textAreaRight" fmla="*/ 754920 w 936720"/>
              <a:gd name="textAreaTop" fmla="*/ 97920 h 504720"/>
              <a:gd name="textAreaBottom" fmla="*/ 4068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07" y="21600"/>
                </a:lnTo>
                <a:lnTo>
                  <a:pt x="439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637000"/>
            <a:ext cx="576360" cy="576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43280" y="249192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249228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419280" y="306864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42920" y="3068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284720" y="2491920"/>
            <a:ext cx="144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2492280"/>
            <a:ext cx="574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rot="10800000">
            <a:off x="3566160" y="2421000"/>
            <a:ext cx="14371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7893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29600">
            <a:off x="2085480" y="3778200"/>
            <a:ext cx="863640" cy="503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3716280"/>
            <a:ext cx="1152360" cy="720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378900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8800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789360"/>
            <a:ext cx="93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92360" y="386064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86064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501336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26560" y="4797360"/>
            <a:ext cx="576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26920" y="566100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4360" y="4797360"/>
            <a:ext cx="718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5013360"/>
            <a:ext cx="720720" cy="7207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5157720"/>
            <a:ext cx="1224000" cy="432000"/>
          </a:xfrm>
          <a:prstGeom prst="parallelogram">
            <a:avLst>
              <a:gd name="adj" fmla="val 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211640" y="50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5084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00720" y="501300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501336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лассификация многоугольников</a:t>
            </a:r>
            <a:br>
              <a:rPr sz="32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по числу уг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ыре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700280"/>
            <a:ext cx="1655640" cy="1224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350200">
            <a:off x="1258560" y="3429000"/>
            <a:ext cx="1584360" cy="863640"/>
          </a:xfrm>
          <a:custGeom>
            <a:avLst/>
            <a:gdLst>
              <a:gd name="textAreaLeft" fmla="*/ 356040 w 1584360"/>
              <a:gd name="textAreaRight" fmla="*/ 1228320 w 1584360"/>
              <a:gd name="textAreaTop" fmla="*/ 194040 h 863640"/>
              <a:gd name="textAreaBottom" fmla="*/ 669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014" y="21600"/>
                </a:lnTo>
                <a:lnTo>
                  <a:pt x="5586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797360"/>
            <a:ext cx="1656000" cy="1009800"/>
          </a:xfrm>
          <a:prstGeom prst="hexagon">
            <a:avLst>
              <a:gd name="adj" fmla="val 4099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лассификация многоугольнико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о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выпуклый               не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правильный           неправи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19280" y="907920"/>
            <a:ext cx="21564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90792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060640"/>
            <a:ext cx="647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916280"/>
            <a:ext cx="432000" cy="504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1989000"/>
            <a:ext cx="649080" cy="4334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1844640"/>
            <a:ext cx="358920" cy="792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1916280"/>
            <a:ext cx="504720" cy="433080"/>
          </a:xfrm>
          <a:prstGeom prst="plus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1844640"/>
            <a:ext cx="647640" cy="504720"/>
          </a:xfrm>
          <a:prstGeom prst="star5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1989000"/>
            <a:ext cx="432000" cy="360360"/>
          </a:xfrm>
          <a:prstGeom prst="flowChartOffpageConnec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349360"/>
            <a:ext cx="1081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133720"/>
            <a:ext cx="43200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1773360"/>
            <a:ext cx="0" cy="79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2060640"/>
            <a:ext cx="936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11280" y="1700280"/>
            <a:ext cx="12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70028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162864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628640"/>
            <a:ext cx="0" cy="100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378936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860640"/>
            <a:ext cx="3589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789360"/>
            <a:ext cx="504720" cy="431640"/>
          </a:xfrm>
          <a:prstGeom prst="hexagon">
            <a:avLst>
              <a:gd name="adj" fmla="val 29233"/>
              <a:gd name="vf" fmla="val 1154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3573360"/>
            <a:ext cx="505080" cy="792360"/>
          </a:xfrm>
          <a:prstGeom prst="diamond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3860640"/>
            <a:ext cx="720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97164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149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86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042560" y="4149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71628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76360" y="4076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363640" y="371628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4076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36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4292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Фор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число углов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а всех углов прави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( n – 2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· 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01:34Z</dcterms:created>
  <dc:creator>Вараксин М.С.</dc:creator>
  <dc:description/>
  <dc:language>en-US</dc:language>
  <cp:lastModifiedBy>Вараксин М.С.</cp:lastModifiedBy>
  <dcterms:modified xsi:type="dcterms:W3CDTF">2009-09-01T15:07:53Z</dcterms:modified>
  <cp:revision>4</cp:revision>
  <dc:subject/>
  <dc:title>Многоугольник</dc:title>
</cp:coreProperties>
</file>