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F43-A4C7-4BB2-A2B4-50C0F3A4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97D-4BF7-46A3-ABE5-0B2CEBC6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F74-CC18-49AA-BDB5-CFFB51BF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C6D-ABE2-47B6-997D-8DCFDF12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AC9-796B-4E0B-A383-54B58769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5C9-680F-478B-B405-ABA19334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AF0-3895-476E-A02B-215F3D8F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2FE-5905-43A8-8838-596D9975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3D8-7DEA-467E-802A-442E36F0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F05-2BC2-4FD6-9A4D-E1F4749D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836-F876-4125-82B3-F135B59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909-3706-4506-A097-572AF82D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DD1E-A3ED-4C05-B973-72214FCF1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876920"/>
            <a:ext cx="896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Руководитель работы: учитель биологии Андрее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Участники: учащиеся 6-9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1447920" y="1905120"/>
            <a:ext cx="6172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d13105"/>
                  </a:solidFill>
                  <a:miter/>
                </a:ln>
                <a:solidFill>
                  <a:srgbClr val="0fd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еленые друзья</a:t>
            </a:r>
            <a:endParaRPr b="0" lang="en-US" sz="1800" spc="1" strike="noStrike">
              <a:ln w="9360">
                <a:solidFill>
                  <a:srgbClr val="d13105"/>
                </a:solidFill>
                <a:miter/>
              </a:ln>
              <a:solidFill>
                <a:srgbClr val="0fd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С(К)ОУ «Специальная (коррекционная) общеобразовательная школ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1219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6400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замас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380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Озеленение участниками пришкольной 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477120" y="1143000"/>
            <a:ext cx="914544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24280" y="4091040"/>
            <a:ext cx="3733920" cy="257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838080" y="1523880"/>
            <a:ext cx="3810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440" y="4572000"/>
            <a:ext cx="91454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010280" y="0"/>
            <a:ext cx="914580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228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Обоснование выбора 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1905120"/>
            <a:ext cx="7391160" cy="45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ения, окружающие человека на протяжении большей части суток, обладают способностью не только дарить эстетическое наслаждение, но и благоприятно воздействовать на нервную систему, улучшать настроение и укреплять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ения повышают влажность воздуха в квартирах, что особенно важно зимой; они защищают от пыли и микроскопических вредных частиц, ионизируют воздух и обогащают его кислоро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ьно подобранное растение станет прекрасным дополнением к интерьеру и источником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440" y="4572000"/>
            <a:ext cx="914544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010280" y="0"/>
            <a:ext cx="914580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1143000"/>
            <a:ext cx="7391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1523880"/>
            <a:ext cx="65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учащихся по озеленению школы даст им необходимые навыки по уходу за растениями, укрепит связи биологических наук с практикой, послужит формированию у школьников бережного отношения к природе; воспитанию экологической культуры, любви ко всему живому, к прир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научатся понимать и ценить прекра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я в этой работе, дети получают практическое представление о некоторых профессиях (цветовод, озеленитель, флорист, фитодизайнер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е значение для ребят имеет труд в коллективе, общее для всех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5320" y="838080"/>
            <a:ext cx="18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-1440" y="4572000"/>
            <a:ext cx="9145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22860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одготовительного этап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бота с литературными, информационными источниками, определителями раст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 цели и задач практическ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  функциональных задач помещения, его размеров и экспозиции око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пределение путей решения и составление плана проведения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ления графика выполнения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Основного эта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ыращивание, изучение видового состава комнатных раст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накомство с приемами выращивания комнатных растений, правилами ухода за комнатными расте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ставление схематической карты помещения  с нанесением имеющихся комнатных растений с учетом освещенности и влажности поме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иски интересных горш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готовление кашпо собственного производства, специальных подставо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ределение комнатных растений по схеме с учетом освещенности поме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380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Участники практической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914544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914544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876920" y="1676520"/>
            <a:ext cx="3208320" cy="4800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85800" y="16765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457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Подготовительный этап практической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914544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95680" y="1295280"/>
            <a:ext cx="3962520" cy="2494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990720" y="3962520"/>
            <a:ext cx="3546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38080" y="380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335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Основной этап практической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914544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4876920" y="2438280"/>
            <a:ext cx="3200400" cy="419112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7400" y="457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Результаты практической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86400" y="1219320"/>
            <a:ext cx="914544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495680" y="3809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1440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95280" y="533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Результаты практической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9145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5:24:18Z</dcterms:created>
  <dc:creator>User</dc:creator>
  <dc:description/>
  <dc:language>en-US</dc:language>
  <cp:lastModifiedBy>User</cp:lastModifiedBy>
  <dcterms:modified xsi:type="dcterms:W3CDTF">2012-02-28T19:57:57Z</dcterms:modified>
  <cp:revision>4</cp:revision>
  <dc:subject/>
  <dc:title>Слайд 1</dc:title>
</cp:coreProperties>
</file>