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F19-BBB5-4310-9A24-9999B1CD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8D1-5D8B-43CD-A203-8A2AC00B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ED4-0A76-41C3-AE73-DC0E85B0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E68-A080-4CD7-8F9D-6628BD14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E21-8A09-4AF1-B82A-E878FD04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3DB-980B-48DB-9C48-3D704B78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17B-DD62-4BBD-A234-0219684B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7F0-9506-4C28-AE0D-FD4B5D00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D5A-026C-4B4F-9C5B-36F49170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20B-6A6D-4DDD-A375-0353C490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7DA-3273-4F4C-810F-CE1050F4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857-0B07-4ABC-B2B1-FDFA9304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5985-E4E3-4DFB-8495-B7C83082F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Monotype Corsiva"/>
              </a:rPr>
              <a:t>…</a:t>
            </a:r>
            <a:r>
              <a:rPr b="1" lang="en-US" sz="4000" spc="-1" strike="noStrike">
                <a:solidFill>
                  <a:srgbClr val="cc3300"/>
                </a:solidFill>
                <a:latin typeface="Monotype Corsiva"/>
              </a:rPr>
              <a:t>Мы все в эти годы любили,  Но значит, Любили и нас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… </a:t>
            </a:r>
            <a:r>
              <a:rPr b="1" i="1" lang="en-US" sz="3200" spc="-1" strike="noStrike">
                <a:solidFill>
                  <a:srgbClr val="0000cc"/>
                </a:solidFill>
                <a:latin typeface="Curlz MT"/>
              </a:rPr>
              <a:t>Руки милой - пара лебедей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urlz MT"/>
              </a:rPr>
              <a:t>В золоте волос моих ныря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urlz MT"/>
              </a:rPr>
              <a:t>Все на этом свете из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urlz MT"/>
              </a:rPr>
              <a:t>Песнь любви поют и повторяю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346560" cy="511812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99"/>
                </a:solidFill>
                <a:latin typeface="Arial Unicode MS"/>
              </a:rPr>
              <a:t>Шаганэ Талья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4319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о кто из женщин Есенина оставил в его поэзии такой заметный след, как эта бакинская учительница. Они познакомились во время путешествия поэта по Кавказу. Так родился цикл стихотворений «Персидские мотив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Шаганэ ты моя, Шаганэ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Потому, что я с севера, что л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Я готов рассказать тебе пол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Про волнистую рожь при лун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Шаганэ ты моя, Шаган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Я б порезал розы э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Ведь одна отрада мне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Чтобы не было на све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Лучше милой Шаган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4132440" cy="522288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wheel spokes="8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66"/>
                </a:solidFill>
                <a:latin typeface="Copperplate Gothic Bold"/>
              </a:rPr>
              <a:t>Софья Толста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186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стреча Есенина и Толстой была случайной и произошла 5 марта 1925года. У Есенина возникла идея соединить свое имя с именем Толстым. Это был литературно-династический бра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ояние здоровья поэта ухудшалось с каждым днем, иногда он не отвечал за свои поступки. В 1925г., находясь в психиатрической больнице, решает развестись с Толст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Arial"/>
              </a:rPr>
              <a:t>До свиданья, друг мой, до свида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Arial"/>
              </a:rPr>
              <a:t>Милый мой, ты у меня в гру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Arial"/>
              </a:rPr>
              <a:t>Предназначенное расставан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Arial"/>
              </a:rPr>
              <a:t>Обещает встречу впереди…</a:t>
            </a:r>
            <a:r>
              <a:rPr b="1" lang="en-US" sz="16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59280" y="1341360"/>
            <a:ext cx="3861000" cy="507204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wheel spokes="8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43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эт Сергей Городецкий вспоминал, что в тот момент, когда гроб с телом поэта опускали в могилу, в мертвой тишине раздался чей-то звонкий женский гол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- Прощай, моя сказ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127760" cy="556740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wheel spokes="8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6000" spc="-1" strike="noStrike">
                <a:solidFill>
                  <a:srgbClr val="660033"/>
                </a:solidFill>
                <a:latin typeface="Lucida Calligraphy"/>
              </a:rPr>
              <a:t>Анна Сардановская.</a:t>
            </a: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186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 считал ее «лучшей из девчон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omic Sans MS"/>
              </a:rPr>
              <a:t>В пятнадцать л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omic Sans MS"/>
              </a:rPr>
              <a:t>Взлюбил я до печон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omic Sans MS"/>
              </a:rPr>
              <a:t>И сладко думал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omic Sans MS"/>
              </a:rPr>
              <a:t>Лишь уединюсь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omic Sans MS"/>
              </a:rPr>
              <a:t>Что я на этой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omic Sans MS"/>
              </a:rPr>
              <a:t>Лучшей из девчонок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omic Sans MS"/>
              </a:rPr>
              <a:t>Достигнув возраста, женюс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2993760" cy="491976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06600"/>
                </a:solidFill>
                <a:uFillTx/>
                <a:latin typeface="Kunstler Script"/>
              </a:rPr>
              <a:t>Анна Изряднов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связанное с Есениным, было для нее свято, его поступков она не обсуждала и не осужд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жданская жена поэта. В декабре 1914 года Изряднова родила сына. Есенин внутренне не был готов к такому серьезному событию. Как вспоминала Анна, «на ребенка смотрел с любопытством, все твердил: «Вот я и отец». Вскоре Есенин покидает Москву, гражданскую жену и трехмесячного сына Юрика. Впереди лежал Петербург. Их сын в 1937 году был арестован и сгинул – либо в тюрьме, либо в лаг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7920" y="1052640"/>
            <a:ext cx="4398840" cy="545616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cc"/>
                </a:solidFill>
                <a:latin typeface="Alba"/>
              </a:rPr>
              <a:t>Лидия Ивановна Каш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43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на была старше Есенина на 10 лет, но это только придавало ей в представлении поэта еще больше очарования. Есенин написал стихотворение «Зеленая прическа, девическая грудь», посвятив его Каши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Открой, открой мне тай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Твоих древесных ду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Я полюбил печ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Твой предосенний шум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И так, вздохнувши глубо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Сказал под звон ветв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«Прощай моя голуб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До новых журавл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32360" y="1197000"/>
            <a:ext cx="3397320" cy="543384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comic"/>
              </a:rPr>
              <a:t>Зинаида Райх – жена любимая и ненавистн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43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17г., 4 августа состоялось венчание Есенина и Зинаиды Райх. В мае 1918г. у них родилась дочь Татьяна, 20 марта 1920 г. родился сын Константин. Семейная жизнь не сложилась. В октябре 1921г. был оформлен развод, поэт оставляет детей на попечение родителей и уезжает в Москву. Любил ли Есенин Зинаиду Райх? Очень точно на это вопрос ответил А.Мариенгоф: «кого же любил Есенин? Больше всего 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ненавидел З. Н. Райх. Вот ее, эту женщину…которую он ненавидел больше всех в жизни, - ее – единственную – он и любил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4283280" cy="489132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wheel spokes="8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91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Cooper Black"/>
              </a:rPr>
              <a:t>Галина Бениславск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691920"/>
            <a:ext cx="4176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на находила в себе силы устраняться и сейчас же появляться, если с Есениным стрясалась какая-нибудь беда. Через всю свою жизнь пронесла любовь и преданность поэту. Они познакомились когда, Галине было 19 лет. После разрыва с Дункан именно она стала для Есенина и женой и подругой и матерью, но счастье ее было недолгим,  он предпочел другую… В декабре 1926г. в годовщину смерти Сергея она покончила с собой на его могиле, оставив записку: «3 декабря 1926г. Самоубилась здесь, хотя и знаю, что после этого еще больше собак будут вешать на Есенина. Но и ему и мне это все равно. В этой могиле для меня все самое дорогое…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4087800" cy="513252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wheel spokes="8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0066"/>
                </a:solidFill>
                <a:latin typeface="Croobie"/>
              </a:rPr>
              <a:t>Айседора Дункан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4259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треча Дункан с Есениным состоялась 21 сентября 1921 г. в день рождения Сергея Есенина. Ему 26, Айседоре -42. Рок, судьба или случайность… Первый раз у Дункан был законный муж. Они уезжают в Европу. Совместная жизнь Есенина  и Дункан сложилась неудачно для них обоих.  В 1923г. Есенин возвращается на родину. Разрыв с Дункан неизбежен. Она всеми силами пыталась удержать молодого мужа, искала встреч, умоляла, проси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073320" cy="553068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wheel spokes="8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comic"/>
              </a:rPr>
              <a:t>Дункан, Есенин и ее приемная дочь Ир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1749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переди ее ждал тяжелый удар – весть о смерти Есенина. Ее стали посещать мысли о самоубийстве. Пыталась в Ницце осуществить свой замысел – зашла слишком далеко в море, но ее спа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1927 г. в Ницце она решила покататься на открытой гоночной машине. Ее последними словами бы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Прощайте, мои друзья! Я еду к слав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шина рванула с места, шаль развязалась, и конец ее попал на колесо и моментально накрутился на него. Так не стало женщины, сыгравшей столь значительную роль в жизни Есе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782880" cy="502308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wheel spokes="8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852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Verdana"/>
              </a:rPr>
              <a:t>Августа Миклашевск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4176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«Имя твое звен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Словно августовская прохл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вая красавица Камерного театра. Цикл стихотворений «Любовь хулигана» был посвящен 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вядающая сил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мирать – так умир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 кончины губы мил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хотел бы цел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ничто души не потревож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ничто ее не бросит в дрожь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то любил, уж тот любить не мож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то сгорел, того не подожж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4235760" cy="526428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4:40:05Z</dcterms:created>
  <dc:creator>Инна Александровна Повприц</dc:creator>
  <dc:description/>
  <dc:language>en-US</dc:language>
  <cp:lastModifiedBy>Инна Александровна Повприц</cp:lastModifiedBy>
  <dcterms:modified xsi:type="dcterms:W3CDTF">2007-11-16T08:38:59Z</dcterms:modified>
  <cp:revision>22</cp:revision>
  <dc:subject/>
  <dc:title>Слайд 1</dc:title>
</cp:coreProperties>
</file>