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704-AA86-4D30-81F9-66B9CE64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774-258A-4414-A6F4-04948445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38F-3143-464B-8730-C70981D5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84F-1D2E-4A56-B1BF-D473C956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261-CC75-43C9-875E-B189AEEE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B80-2FA6-4BDB-BE5C-1E1261F7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663-0982-4795-B8D2-6FDD05DF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372-7BED-4B0C-88E8-97E89A9D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1D4-FB67-4DB8-ACA2-5D34DDCD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459-581A-42CB-B3B4-689C7564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81A-185E-4575-8B36-17907AE6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463-4747-47A4-904C-09C05CF2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491E-F043-4D64-BA52-43C2F391F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357960" y="-360"/>
            <a:ext cx="4000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ЕРВНАЯ СИСТ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643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ыполнили: Рябчик Максим и Гусев Антон 4 «В» класс, школа №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-main-pic" descr="Картинка 15 из 45774"/>
          <p:cNvPicPr/>
          <p:nvPr/>
        </p:nvPicPr>
        <p:blipFill>
          <a:blip r:embed="rId1"/>
          <a:stretch/>
        </p:blipFill>
        <p:spPr>
          <a:xfrm>
            <a:off x="0" y="0"/>
            <a:ext cx="9144000" cy="5668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590400" y="-79200"/>
            <a:ext cx="7925040" cy="24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Центральный отдел </a:t>
            </a:r>
            <a:br>
              <a:rPr sz="4000"/>
            </a:b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нерв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71720" y="2214360"/>
            <a:ext cx="65721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Центральный отдел представлен </a:t>
            </a:r>
            <a:r>
              <a:rPr b="0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головным 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спинным мозгом,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защищенным оболоч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из соединительной тк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Головной моз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6160" y="164304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ловной мозг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положен в полости череп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ловном мозге, имеется белое и сер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лое веществ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ует проводящие пу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связывают головной мозг со спин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агодаря проводящим путям вся централь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рвная система функционирует как еди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ое веществ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полагается внутри бел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ме того, серое вещество, покрыв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шария мозга, образует кор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1"/>
          <p:cNvPicPr/>
          <p:nvPr/>
        </p:nvPicPr>
        <p:blipFill>
          <a:blip r:embed="rId1"/>
          <a:stretch/>
        </p:blipFill>
        <p:spPr>
          <a:xfrm>
            <a:off x="642960" y="2000160"/>
            <a:ext cx="3051000" cy="2405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ной моз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Спинной мозг"/>
          <p:cNvPicPr/>
          <p:nvPr/>
        </p:nvPicPr>
        <p:blipFill>
          <a:blip r:embed="rId1"/>
          <a:stretch/>
        </p:blipFill>
        <p:spPr>
          <a:xfrm>
            <a:off x="357120" y="1428840"/>
            <a:ext cx="1959120" cy="4443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2571840" y="1143000"/>
            <a:ext cx="65721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Спинной мозг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расположен в костном позвоночном канале. Он имеет вид длинного белого шнура диаметром около 1 с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пинной мозг выполняет 2 основные функции: рефлекторную и проводников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Calibri"/>
              </a:rPr>
              <a:t>Рефлекторная функция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пинного мозга обеспечивает движение. Через спинной мозг проходят рефлекторные дуги, с которыми связано сокращение скелетных мышц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водниковая функция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, белое вещество спинного мозга обеспечивает связь всех отделов центральной нервной системы. Нервные импульсы, поступающие в спинной мозг от рецепторов, передаются в головной мозг. Из головного мозга импульсы поступают в спинной мозг и оттуда - к орга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Автономн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нерв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-main-pic" descr="Картинка 21 из 45774"/>
          <p:cNvPicPr/>
          <p:nvPr/>
        </p:nvPicPr>
        <p:blipFill>
          <a:blip r:embed="rId1"/>
          <a:stretch/>
        </p:blipFill>
        <p:spPr>
          <a:xfrm>
            <a:off x="571680" y="2143080"/>
            <a:ext cx="3951000" cy="3238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714920" y="1500120"/>
            <a:ext cx="4286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Спинной мозг вместе с головным мозгом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регулирует работу внутренних органов: сердца, желудка, желез, легких, печень, мочевого пузыря и других орган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Это работа автономной нервной системы не подчиняется человека. Нельзя, например, по желанию остановить сердце, ускорить процесс пищев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заботиться о своей нервной систе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00040" y="1785960"/>
            <a:ext cx="82152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ловной мозг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яет лишь 5% от массы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ребляе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-25% всего кровотока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тановка в кровоснабжени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а 5 минут вызывает смерть мозга и гибель всех нейр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ьное пит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зкульту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утствие вредных привычек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идеальные условия для работы кровеносной системы, которая обеспечивает полезными веществами и кислородом нервные клетки – ней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теперь нескольк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есных фактов пр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з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зг является центральным органом человеческого тела. Он чрезвычайно сложен и изощрён. Функции мозга были рассмотрены ещё древними египтянами и греками в 400 г. до нашей эры. Гиппократ был первым, кто обнаружил, что мозг играет важную роль в ощущении и интеллекте. В настоящее время все понимают важность наличия мозга, но большинство из нас немного знают об этом. Вот несколько интересных фактов для в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ловном мозге нет болевых рецепторов, так что мозг не может чувствовать бо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ческий мозг самый жирный орган в вашем теле и может состоять из не менее 60 % ж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ди продолжают создавать новые нейроны на протяжении всей жизни в ответ на умственную де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коголь мешает мозгу процессом ослабления связей между нейрон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та позволяет мозгу видеть странные явления. Многие религии включают в себя специальные видения, которые произошли на больших высотах. Например, Моисей слышал голос, исходящий из горящего куста на горе Синай, а Мухаммеда посетил ангел на горе Хира. Об аналогичных явлениях сообщают альпинисты, но они не думают, что это что-то мистическое. Многие эффекты обусловлены снижением поступления кислорода в мозг.. На высоте 8000футов и выше, некоторые альпинисты докладывают, что  что они видят невидимых спутников, свет, исходящий от самих себя или других, видят второе тело, как своё, и чувствуют такие эмоции, как страх. Кислородное голодание может активно вмешиваться в области моз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ение вслух и частый разговор с маленьким ребёнком способствует развитию его моз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вая часть мозга контролирует правую сторону тела, а правое полушарие – левую сторону 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, которые обучаются двум языкам в возрасте до 5 лет, изменяют структуру своего мозга, и во взрослом возрасте имеют более плотное серое вещ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 время бодрствования, ваш мозг генерирует от 10 до 23 Вт энергии, которой достаточно, для питания лампо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9285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ение одного миллиона студентов в Нью-Йорке показали, что студенты, которые ели обеды, не включающие искусственные ароматизаторы, консерванты, красители, сделали на 14% лучше тесты п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Q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чем студенты, которые ели обеды с этими добав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мех над какой-нибудь шуткой не та уж простая задача, так как требует деятельности в 5 различных областях моз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нее число мыслей, которые проносятся в нашей голове каждый день 7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ет много споров, почему нам снятся сны? Одна из теорий предполагает, что сны служат нам для того, чтобы очистить мусор из нашего созн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поталамус, часть головного мозга, регулирует температуру тела так же, как термост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личия в весе мозга и размере не равны различиям в умственных способностях. Вес мозга Альберта Энштейна был 1230 г, что меньше, чем средней вес мозга челове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6357960" y="-360"/>
            <a:ext cx="4000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ЕРВНАЯ СИСТ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28680" y="1285560"/>
            <a:ext cx="50007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2060"/>
                </a:solidFill>
                <a:uFillTx/>
                <a:latin typeface="Calibri"/>
              </a:rPr>
              <a:t>Нервная система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грает важную роль в регуляции функций организ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на обеспечивает согласованную работу клеток, тканей, органов и их систем. При этом организм работает, как единое цел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ервная система осуществляет связь организма с внешней сре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ервная система собирает информацию, которая поступает из различных рецепторов и посылает организму сигналы о том, что он должен дела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39640" y="115920"/>
            <a:ext cx="77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Значение Нервной системы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17 из 45774"/>
          <p:cNvPicPr/>
          <p:nvPr/>
        </p:nvPicPr>
        <p:blipFill>
          <a:blip r:embed="rId1"/>
          <a:stretch/>
        </p:blipFill>
        <p:spPr>
          <a:xfrm>
            <a:off x="214200" y="1357200"/>
            <a:ext cx="3386160" cy="4286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ервная тка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Нервная ткань"/>
          <p:cNvPicPr/>
          <p:nvPr/>
        </p:nvPicPr>
        <p:blipFill>
          <a:blip r:embed="rId1"/>
          <a:stretch/>
        </p:blipFill>
        <p:spPr>
          <a:xfrm>
            <a:off x="428760" y="1643040"/>
            <a:ext cx="3181320" cy="3844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3786120" y="1571760"/>
            <a:ext cx="53578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рвная система образована нервной тканью, которая состоит из нейронов и мелких клеток-спутников.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йроны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главные клетки нервной ткани: они обеспечивают функции нерв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летки-спутники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кружают нейроны, выполняя питательную, опорную и защитную функции, их в 10 раз больше, чем нейро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Нейр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43200" y="1285560"/>
            <a:ext cx="55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Calibri"/>
              </a:rPr>
              <a:t>Нейрон</a:t>
            </a: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остоит из тела и отростков. Различают два типа отростков: дендриты и аксоны. Отростки могут быть длинными и коротки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Дендриты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(греч. дендрон - дерево) - короткие, сильно ветвящиеся отростки, по которым нервные импульсы поступают к телу нервной клетки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Calibri"/>
              </a:rPr>
              <a:t>Аксоны</a:t>
            </a: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, (греч. Аксис - отросток)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- длинный, мало ветвящийся отросток, по которому импульсы идут от тела клетки. Каждая нервная клетка имеет только 1 аксон, длина которого может достигать нескольких десятков сантимет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-main-pic" descr="Картинка 23 из 45774"/>
          <p:cNvPicPr/>
          <p:nvPr/>
        </p:nvPicPr>
        <p:blipFill>
          <a:blip r:embed="rId1"/>
          <a:stretch/>
        </p:blipFill>
        <p:spPr>
          <a:xfrm>
            <a:off x="357120" y="1643040"/>
            <a:ext cx="3571920" cy="2857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428760" y="5072040"/>
            <a:ext cx="8143920" cy="16185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Длинные отростки покрыты оболочкой из жироподобного вещества белого цвета. Их скопления в центральной нервной системе образуют белое вещество. Короткие отростки и тела нейронов не имеют такой оболочки. Их скопления образуют серое вещ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заимосвязь нейро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6160" y="1357200"/>
            <a:ext cx="4857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о дендритам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ервные импуль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оступают к телу нервной кле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о аксонам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мпульсы идут от тела кле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Три вида нейрон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Чувствительные нейроны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, перед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мпульсы от органов чувств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пинной и головной моз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Двигательные нейроны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, перед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мпульсы от спинного и головного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 мышцам и внутренним орган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Вставочные нейроны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осуществля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вязь между чувствительным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вигательными нейронами в спинном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голов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-main-pic" descr="Картинка 16 из 45774"/>
          <p:cNvPicPr/>
          <p:nvPr/>
        </p:nvPicPr>
        <p:blipFill>
          <a:blip r:embed="rId1"/>
          <a:srcRect l="2953" t="8625" r="1772" b="29013"/>
          <a:stretch/>
        </p:blipFill>
        <p:spPr>
          <a:xfrm>
            <a:off x="642960" y="2643120"/>
            <a:ext cx="3294000" cy="191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Р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560" y="1357200"/>
            <a:ext cx="535788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ер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скопления дли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тростков нервных клет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крытых оболочк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 ним импульсы идут 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центральной нерв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системе и обратно к орган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В теле взрослого человека бол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75 км нерв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-main-pic" descr="Картинка 2 из 45774"/>
          <p:cNvPicPr/>
          <p:nvPr/>
        </p:nvPicPr>
        <p:blipFill>
          <a:blip r:embed="rId1"/>
          <a:stretch/>
        </p:blipFill>
        <p:spPr>
          <a:xfrm>
            <a:off x="285840" y="1285920"/>
            <a:ext cx="300024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делы нервной сис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-main-pic" descr="Картинка 6 из 45774"/>
          <p:cNvPicPr/>
          <p:nvPr/>
        </p:nvPicPr>
        <p:blipFill>
          <a:blip r:embed="rId1"/>
          <a:stretch/>
        </p:blipFill>
        <p:spPr>
          <a:xfrm>
            <a:off x="1357200" y="1857240"/>
            <a:ext cx="6429600" cy="366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ериферический отдел </a:t>
            </a:r>
            <a:br>
              <a:rPr sz="4000"/>
            </a:b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нерв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85840" y="1643040"/>
            <a:ext cx="85723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К периферическому отделу относятся нервы и нервные уз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Часть нервной системы, которая регулирует работу скелетных мышц, называют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оматической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. Посредством соматической нервной системы человек может управлять движениями, произвольно вызывать или прекращать их (мы можем бегать, прыгать, сгибать и разгибать руки и ног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Часть нервной системы, регулирующую деятельность внутренних органов (сердца, желудка, желез и т.д.), называют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автономной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автономной нервной системе различают 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два отдела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: </a:t>
            </a:r>
            <a:r>
              <a:rPr b="1" i="1" lang="ru-RU" sz="1800" spc="-1" strike="noStrike">
                <a:solidFill>
                  <a:srgbClr val="17375e"/>
                </a:solidFill>
                <a:latin typeface="Calibri"/>
              </a:rPr>
              <a:t>симпатический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i="1" lang="ru-RU" sz="1800" spc="-1" strike="noStrike">
                <a:solidFill>
                  <a:srgbClr val="17375e"/>
                </a:solidFill>
                <a:latin typeface="Calibri"/>
              </a:rPr>
              <a:t>парасимпатический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 Например, симпатический нерв усиливает и ускоряет работу сердца, а парасимпатический - замедляет и ослабляет 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Рефлекторная работа </a:t>
            </a:r>
            <a:br>
              <a:rPr sz="4000"/>
            </a:b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нерв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i?id=314526514-56-72"/>
          <p:cNvPicPr/>
          <p:nvPr/>
        </p:nvPicPr>
        <p:blipFill>
          <a:blip r:embed="rId1"/>
          <a:stretch/>
        </p:blipFill>
        <p:spPr>
          <a:xfrm>
            <a:off x="2565360" y="3071880"/>
            <a:ext cx="193536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i?id=338388760-51-72"/>
          <p:cNvPicPr/>
          <p:nvPr/>
        </p:nvPicPr>
        <p:blipFill>
          <a:blip r:embed="rId2"/>
          <a:stretch/>
        </p:blipFill>
        <p:spPr>
          <a:xfrm>
            <a:off x="1143000" y="1428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i?id=267930222-06-72"/>
          <p:cNvPicPr/>
          <p:nvPr/>
        </p:nvPicPr>
        <p:blipFill>
          <a:blip r:embed="rId3"/>
          <a:stretch/>
        </p:blipFill>
        <p:spPr>
          <a:xfrm>
            <a:off x="357120" y="3000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i?id=316574474-36-72"/>
          <p:cNvPicPr/>
          <p:nvPr/>
        </p:nvPicPr>
        <p:blipFill>
          <a:blip r:embed="rId4"/>
          <a:stretch/>
        </p:blipFill>
        <p:spPr>
          <a:xfrm>
            <a:off x="1214280" y="4929120"/>
            <a:ext cx="1643400" cy="115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?id=153958592-56-72"/>
          <p:cNvPicPr/>
          <p:nvPr/>
        </p:nvPicPr>
        <p:blipFill>
          <a:blip r:embed="rId5"/>
          <a:stretch/>
        </p:blipFill>
        <p:spPr>
          <a:xfrm>
            <a:off x="4429080" y="1500120"/>
            <a:ext cx="1643040" cy="1238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i?id=345654621-44-72"/>
          <p:cNvPicPr/>
          <p:nvPr/>
        </p:nvPicPr>
        <p:blipFill>
          <a:blip r:embed="rId6"/>
          <a:stretch/>
        </p:blipFill>
        <p:spPr>
          <a:xfrm>
            <a:off x="4786200" y="4643280"/>
            <a:ext cx="1214640" cy="1428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4"/>
          <p:cNvSpPr/>
          <p:nvPr/>
        </p:nvSpPr>
        <p:spPr>
          <a:xfrm>
            <a:off x="6429240" y="1357200"/>
            <a:ext cx="221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ремя рефлекторной реакции рецепторы рабочих органов передают сигналы в центральную нервную систему, которая контролирует, реакция орг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8:17:07Z</dcterms:created>
  <dc:creator>c400</dc:creator>
  <dc:description/>
  <dc:language>en-US</dc:language>
  <cp:lastModifiedBy>UserXP</cp:lastModifiedBy>
  <dcterms:modified xsi:type="dcterms:W3CDTF">2012-02-28T06:58:57Z</dcterms:modified>
  <cp:revision>28</cp:revision>
  <dc:subject/>
  <dc:title>НЕРВНАЯ СИСТЕМА</dc:title>
</cp:coreProperties>
</file>