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12AD-17E0-4751-9852-A917F6F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2B72-C2AD-4131-9DEE-E11B27E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216D-D36A-4831-9F16-6C4F3DB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6E40-6EF9-4F36-A563-3A9549B6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79F-7748-4FA4-9438-0AA06DD4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F8B0-74CB-46BF-947D-04B9CE5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BD57-F914-4827-8491-49B4C09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DD57-9975-4C78-AF42-4B48120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59B-2788-4F59-BC60-B0F4FD9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E231-ED39-438C-B9EA-6F2B471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3D2-569A-4D48-A424-5C3AF731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EC62-CE9B-416B-AF72-8A837C96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F781-EAF2-46C0-9970-25ECD20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487C-AA6C-4496-943F-0AFC3F2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D8C1-AA8E-42CF-A18B-565315A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9C5-0ECA-4C34-9C72-88981BB9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9120-FBA7-4DD9-A1A3-3A3CC379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9DB6-5C7E-49C7-9239-2FD085AA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69A4-D670-453A-8741-0EDF398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0494-783B-4D5E-B974-2D02ECBD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C476-B454-4CBC-8953-2EC1C98A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E64A-5021-4E72-8488-27B39CE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00A6-5218-4FAD-8BC9-3F649A1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E695-2761-4E97-B737-5C623581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0FA5-69E0-4987-9A48-064C9DAAD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83A-0103-4910-9828-A119FDA93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e5ff"/>
                </a:solidFill>
                <a:latin typeface="Garamond"/>
              </a:rPr>
              <a:t>Муниципальное бюджетное </a:t>
            </a:r>
            <a:br>
              <a:rPr sz="2500"/>
            </a:br>
            <a:r>
              <a:rPr b="1" lang="en-US" sz="2500" spc="-1" strike="noStrike">
                <a:solidFill>
                  <a:srgbClr val="e5e5ff"/>
                </a:solidFill>
                <a:latin typeface="Garamond"/>
              </a:rPr>
              <a:t>общеобразовательное учреждение </a:t>
            </a:r>
            <a:br>
              <a:rPr sz="2500"/>
            </a:br>
            <a:r>
              <a:rPr b="1" lang="en-US" sz="2500" spc="-1" strike="noStrike">
                <a:solidFill>
                  <a:srgbClr val="e5e5ff"/>
                </a:solidFill>
                <a:latin typeface="Garamond"/>
              </a:rPr>
              <a:t>средняя общеобразовательная  школа № 75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Фестиваль Отцов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aramond"/>
              </a:rPr>
              <a:t>21 февраля 2012 года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беседах со своими четырьмя дочерьми и двумя сыновьями И.Охлобыстин старается быть максимально откровенны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икаких полунамеков и попыток подсластить горькую пилюл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рогий отец воспитал в детях бережное отношение к деньга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ван признался, что переживает за будущее дочек: «У них же пример отца перед глазами. И они подспудно будут искать что-то подобное. Но если они найдут подобное, я запрещу им с этим встречаться. Я исключение из общих правил среди таких же гоблинов, как я. Помните фильм про гремлинов? Среди них был один хороший. Так вот, это я…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1440" y="380520"/>
            <a:ext cx="57150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Знаете, ночью я делаю обход своих владений: слушаю, как дышат во сне мои дети, и мне хочется, как дракону, накрыть их своими крылами, морду выставить в дверной проход и уберечь, защитить их от всех бед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1766880"/>
            <a:ext cx="243864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662040"/>
            <a:ext cx="85341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ригорий ЛЕП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Григорий Лепс — многодетный отец. У него три дочки. Старшая, Инга, (от первого брака) уже взрослая, специалист по аукционному делу, живет в Лондоне. Девятилетняя Ева — третьеклассница, трехлетняя Николь ходит в детский сад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5e5ff"/>
                </a:solidFill>
                <a:latin typeface="Garamond"/>
              </a:rPr>
              <a:t>«На мое 47-летие Вячеслав Фетисов сказал такой тост: «Если бы мне было нужно подбирать в свое звено надежного правого защитника, я бы взял Лепса», — улыбается Григорий. — А потом Слава добавил:</a:t>
            </a:r>
            <a:br>
              <a:rPr sz="2900"/>
            </a:br>
            <a:r>
              <a:rPr b="1" lang="ru-RU" sz="2900" spc="-1" strike="noStrike">
                <a:solidFill>
                  <a:srgbClr val="e5e5ff"/>
                </a:solidFill>
                <a:latin typeface="Garamond"/>
              </a:rPr>
              <a:t> «У тебя трое детей, это уже нормально, но еще не предел! К тому же сына пока нет…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862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 в мае прошлого года у Григория и его супруги Анны родился долгожданный наследник!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962000"/>
            <a:ext cx="5791320" cy="41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дим слово жене: «У Гриши с детьми не совпадает «рабочий день». Гриша — сова, или, как он сам себя называет, — «филин». Он ложится спать на рассвете, поэтому никогда не отвозит Еву в школу. Правда, иногда забирает ее после уроков. Когда же Гриша поздно вечером приходит с работы, дети уже спят…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«… у них удивительный контакт. В выходные Гриша читает дочкам сказки, они обсуждают рисунки — наши девочки любят рисовать. И, самое главное, он всегда беседует с ними, объясняет, что плохо обижать бабулю или мамулю, что нельзя мучить собаку — у нас такса. Кстати, в отличие от многих мужчин, Гриша не боится общаться с грудными детьми!»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1143000" y="685800"/>
            <a:ext cx="7286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6d9f1"/>
                </a:solidFill>
                <a:latin typeface="Arial"/>
              </a:rPr>
              <a:t>Поколе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6d9f1"/>
                </a:solidFill>
                <a:latin typeface="Arial"/>
              </a:rPr>
              <a:t>Великие отцы великих люд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3808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вот когда Вано подрастет, нам будет чем вместе заняться. Обязательно отдам сына в спорт — на плавание, борьбу — я сам в детстве многими видами спорта занимался. А самое главное, передам ему свое понимание жизни, научу уважать людей и правильно с ними разговар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2352600"/>
            <a:ext cx="7010280" cy="42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19720" y="380880"/>
            <a:ext cx="4419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йчас родители мало общаются с детьми, не объясняют им, что хорошо, а что плохо. За детьми надо смотреть, иначе за ними начинает смотреть город. В уличном воспитании нет ничего плохого — я сам так вырос, но в наше время улицы были не такими опасными. Сейчас же там полно наркотиков. А я знаю, какое это зло, сам через него, к сожалению, прошел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хаил Поречен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67080" cy="5105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ногодетный отец воспитывает пятерых детей: от первого брака дочь Варвару, от нынешнего брака с женой по имени Ольга троих сыновей, а не так давно он нашел своего внебрачного сына Владимира, с которым не виделся около 19 лет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На данный момент самому старшему отпрыску 21 год и он, как и его отец, решил отправиться служить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9880" cy="4921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38520" y="1828800"/>
            <a:ext cx="40719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«Потом, думаю, и младшие последуют его примеру. Почему нет? Володя крепкий, спортивный парень, со своими правильными понятиями, нормальной головой. Он решил, что хочет служить, чтобы расставить для себя все точки над </a:t>
            </a: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i</a:t>
            </a: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. А если человеку это надо, значит, надо. Конечно, армия – это тяжело, но если ты мужик, то тебя ничего не сломает», – убежден Пореченков.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Своих же детей Михаил воспитывает не в такой армейской строгости и считает это неправильным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«Человека воспитать нельзя, но можно привить ему такие важные понятия, как «честь», «сострадание», «порядочность», «дружба». Хотя в наше время все так быстро рушится, обесценивается… Не должно так быть!»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33440" y="312408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1120" y="45684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т мой средний сын, заступаясь за друга, ввязался в драку, его ударили больно. Я спрашиваю: «Ну что, в следующий раз будешь заступаться?» – «Буду!». За его ответ я испытываю гордость, – признался Михаил. – Ну, ведь молодец же! И мне хочется, чтобы мои дети стали настоящими людьми. Чтобы они жили, как в песне поется: «Любить – так любить, стрелять – так стрелят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733920" cy="623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103-7-1.jpg"/>
          <p:cNvPicPr/>
          <p:nvPr/>
        </p:nvPicPr>
        <p:blipFill>
          <a:blip r:embed="rId1"/>
          <a:stretch/>
        </p:blipFill>
        <p:spPr>
          <a:xfrm>
            <a:off x="642960" y="2286000"/>
            <a:ext cx="1405080" cy="2000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90564 (1).jpg"/>
          <p:cNvPicPr/>
          <p:nvPr/>
        </p:nvPicPr>
        <p:blipFill>
          <a:blip r:embed="rId2"/>
          <a:stretch/>
        </p:blipFill>
        <p:spPr>
          <a:xfrm>
            <a:off x="642960" y="142920"/>
            <a:ext cx="13572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mihalkov_899.jpg"/>
          <p:cNvPicPr/>
          <p:nvPr/>
        </p:nvPicPr>
        <p:blipFill>
          <a:blip r:embed="rId3"/>
          <a:stretch/>
        </p:blipFill>
        <p:spPr>
          <a:xfrm>
            <a:off x="642960" y="4429080"/>
            <a:ext cx="1428840" cy="2000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2147040" y="428760"/>
            <a:ext cx="612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ргей Михалков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913 – 2009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ский и русский писатель, поэт, баснописец, драматург, вое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рреспондент во время Великой Отечественной войны, автор текста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вух гимнов Советского Союза и гимна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2143080" y="2000160"/>
            <a:ext cx="6786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Андрей Михалков-Кончаловский (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1937 – н.в.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Американский, советский и российский режиссёр ,сценарист. Сын Натальи Кончаловской и Сергея Михалкова.. Большой зрительский успех (40 млн. зрителей) и Гран-при в Карловых Варах   сопутствовал фильму  «Романс о влюбленных», который вышел на экраны в 1974 год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инопоэма «Сибириада», охватывавшая почти целое столетие жизни России, в 1979 году была удостоена специального приза жюри Каннского кинофестиваля. Поставленный им в 1997 году зрелищный сериал «Одиссея» с Армандом Ассанте в главной роли с успехом прошел по телевизионным экранам мира. Этот проект стал самой дорогой в мире на то время телепродукцией и получил в США высшую телевизионную награду - «Эмми». Последняя широкоформатная картина «Глянец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2143080" y="4357800"/>
            <a:ext cx="6715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икита Михалков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45 – н.в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ский и российский актёр и кинорежиссёр, народный артист  РСФСР (1984). Председатель Союза кинематографистов России. Десятилетие 1974—1984 гг. прошло для Н. Михалкова очень плодотворно. Практически ежегодно на экраны страны выходили его фильмы: «Раба любви» (1976), «Неоконченная пьеса для механического пианино» (1977), «Пять вечеров» (1979), «Несколько дней из жизни И.И. Обломова» (1980). В 1994 году снял фильм «Утомленные солнцем». Фильм получил множество международных наград, главными из которых являются Гран-при Каннского кинофестиваля и «Оскар» за лучший иностранный филь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200px-Pyotr_L_Kapitsa_Russian_physicist_1964.jpg"/>
          <p:cNvPicPr/>
          <p:nvPr/>
        </p:nvPicPr>
        <p:blipFill>
          <a:blip r:embed="rId1"/>
          <a:stretch/>
        </p:blipFill>
        <p:spPr>
          <a:xfrm>
            <a:off x="928800" y="428760"/>
            <a:ext cx="142848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Box 5"/>
          <p:cNvSpPr/>
          <p:nvPr/>
        </p:nvSpPr>
        <p:spPr>
          <a:xfrm>
            <a:off x="2786040" y="2000160"/>
            <a:ext cx="6000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ргей Капиц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1928 – н.в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ссийский и советский учёный, телеведущий, главный редактор  журнала «В мире науки» (перевод Scientif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American). Свою научную деятельность начал в 1949 году. Работа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аких областях физики, как сверхзвуковая аэродинамика, земной магнетизм, прикладная электродинамика, физика элементарных части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73 году Капица опубликовал книгу «Жизнь науки». Книга послужила предпосылкой к появлению телепередачи «Очевидное — невероятное». В том же году начал вести эту телепередачу[6], которая до сих показывается по телевид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857680" y="285840"/>
            <a:ext cx="6072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ётр Леонидович Капиц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894 – 1984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ский инженер, физик, академик АН СССР (1939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ауреат Нобелевской премии по физике (1978) 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крытие явления сверхтекучести жидкого гелия, ввёл 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учный обиход термин «сверхтекучесть». Известен также работами в области физики низких температур, изучении сверхсильных магнитных полей и удержания высокотемпературной плаз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8" descr="Kapica_Andrej_Petrovich.jpg"/>
          <p:cNvPicPr/>
          <p:nvPr/>
        </p:nvPicPr>
        <p:blipFill>
          <a:blip r:embed="rId2"/>
          <a:stretch/>
        </p:blipFill>
        <p:spPr>
          <a:xfrm>
            <a:off x="857160" y="4357800"/>
            <a:ext cx="1411200" cy="1785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2643120" y="4572000"/>
            <a:ext cx="6357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ндрей Петрович Капиц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931 – 2011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ский и российский географ и геоморфолог, заслуже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ессор Московского университета, заведующий кафедр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ционального природопользования географиче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акультета, член-корреспондент АН ССС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позднее — РАН) с 1970 года. Андрей Капица - автор около 200 научных и научно-популярных работ. Совершил одно из последних географических открытий XX века. После обработки результатов Первой советской антарктической экспедиции 1955—1957 годов выдвинул гипотезу о существовании огромного подлёдного озера под станцией «Восток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928800" y="221472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220px-Leopold_Mozart.jpg"/>
          <p:cNvPicPr/>
          <p:nvPr/>
        </p:nvPicPr>
        <p:blipFill>
          <a:blip r:embed="rId1"/>
          <a:stretch/>
        </p:blipFill>
        <p:spPr>
          <a:xfrm>
            <a:off x="714240" y="714240"/>
            <a:ext cx="1571760" cy="2143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250px-Wolfgang-amadeus-mozart_1.jpg"/>
          <p:cNvPicPr/>
          <p:nvPr/>
        </p:nvPicPr>
        <p:blipFill>
          <a:blip r:embed="rId2"/>
          <a:stretch/>
        </p:blipFill>
        <p:spPr>
          <a:xfrm>
            <a:off x="714240" y="3286080"/>
            <a:ext cx="1571760" cy="2306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2574360" y="3357720"/>
            <a:ext cx="5865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льфганг Амадей Моцар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1756 – 1756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стрийский композитор, капельмейстер, скрипач-виртуоз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лавесинист, органист. По свидетельству современник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ладал феноменальным музыкальным слухом, памятью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особностью к импровизации. Моцарт-младший широко призн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ним из величайш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мпозиторов: его уникальность состоит в том, что он работал 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х музыкальных формах своего времени и во всех дости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ивысшего успеха.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Наряду с Гайдном и Бетховеном, принадлеж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наиболее значительным представителям Венской классическ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500200" y="428760"/>
            <a:ext cx="82249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опольд Моцар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1719 – 1787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стрийский скрипач, композитор. Старший Моцарт родился в семь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плётчика книг, изучал теологию в Зальцбургском университе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нако он постоян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ресовался музыкой и в 1740 году стал скрипачом и слуг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ного из каноников университета, а с 1743 скрипачом придвор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пеллы. Автор методического труда о скрипичной игр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Versuch einer gründlichen Violinschule» (Аугсбург,1756), которая дол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читалась лучшим руководством для изучения игры на скрипк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ец и учитель В.А.  Моцарта, оказал значительное влияние на е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ое  формиров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Garamond"/>
              </a:rPr>
              <a:t>Так или иначе, наше будущее 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 marL="419040" indent="-3826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ru-RU" sz="7000" spc="-1" strike="noStrike">
                <a:solidFill>
                  <a:srgbClr val="ffffff"/>
                </a:solidFill>
                <a:latin typeface="Garamond"/>
              </a:rPr>
              <a:t>же</a:t>
            </a:r>
            <a:r>
              <a:rPr b="1" lang="en-US" sz="7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7000" spc="-1" strike="noStrike">
                <a:solidFill>
                  <a:srgbClr val="ffffff"/>
                </a:solidFill>
                <a:latin typeface="Garamond"/>
              </a:rPr>
              <a:t>перед</a:t>
            </a:r>
            <a:r>
              <a:rPr b="1" lang="en-US" sz="7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7000" spc="-1" strike="noStrike">
                <a:solidFill>
                  <a:srgbClr val="ffffff"/>
                </a:solidFill>
                <a:latin typeface="Garamond"/>
              </a:rPr>
              <a:t>нами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Garamond"/>
              </a:rPr>
              <a:t>Отцы-звёзды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ван ОХЛОБЫСТ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525780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месте с супругой Оксаной Арбузовой воспитывают шестерых детей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38400" y="2057400"/>
            <a:ext cx="638172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2-02-21T12:35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