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D77-D755-4756-B2A9-63A070A0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312-8C31-454B-BE1A-97CB0D7B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FE9-2CBA-4CEB-A239-0A10D057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41C-61F2-426E-9BD7-53C7BCF0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7ED0-367C-4F02-8424-8C8D913E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D51B-86B0-4561-B8AC-11696568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5E4F-CD7D-4049-9D80-8861CB9F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1E0-05E9-467A-A827-2B31E453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AEA1-5935-4182-B147-7B7DF4FE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754-EB0D-4CCF-8751-FE8169E5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52AD-F5AF-46ED-B869-E32EB5B0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DE9-5521-433A-9CEA-9D591CC4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DE51-72A6-4C77-A35F-787DD11E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9ACD-C33F-4D6E-8829-D1D9A488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5AAF-78ED-4748-B4DF-62539488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AEDA-83BD-47E3-897B-EE22CC8E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D634-093B-4CE4-8B66-62DF8AD0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AF1-2B13-487D-B629-DF0BB7FF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CF9-2542-4FC8-845C-47BB73FD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61B-10F9-4D31-B6B2-54483248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8AE-3F1E-48EC-AB33-6F9D0F1C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AEB-F0E8-48F8-99F8-AE8B66FF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945-6426-4E37-8E63-D638B436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8E0-55E6-496E-935C-BEC81043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AF15-A251-43C6-A8E1-DEB9505358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E411-C0D5-456C-A283-83769A9ED3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010"/>
                </a:solidFill>
                <a:latin typeface="Tahoma"/>
              </a:rPr>
              <a:t>В. Ф. Виноградова</a:t>
            </a:r>
            <a:br>
              <a:rPr sz="3200"/>
            </a:br>
            <a:r>
              <a:rPr b="0" lang="ru-RU" sz="3200" spc="-1" strike="noStrike">
                <a:solidFill>
                  <a:srgbClr val="001010"/>
                </a:solidFill>
                <a:latin typeface="Tahoma"/>
              </a:rPr>
              <a:t> «Начальная школа </a:t>
            </a:r>
            <a:r>
              <a:rPr b="0" lang="en-US" sz="3200" spc="-1" strike="noStrike">
                <a:solidFill>
                  <a:srgbClr val="001010"/>
                </a:solidFill>
                <a:latin typeface="Tahoma"/>
              </a:rPr>
              <a:t>XXI </a:t>
            </a:r>
            <a:r>
              <a:rPr b="0" lang="ru-RU" sz="3200" spc="-1" strike="noStrike">
                <a:solidFill>
                  <a:srgbClr val="001010"/>
                </a:solidFill>
                <a:latin typeface="Tahoma"/>
              </a:rPr>
              <a:t>века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8800" spc="-1" strike="noStrike">
                <a:solidFill>
                  <a:srgbClr val="ff3300"/>
                </a:solidFill>
                <a:latin typeface="Tahoma"/>
              </a:rPr>
              <a:t>Русский язык</a:t>
            </a:r>
            <a:br>
              <a:rPr sz="8800"/>
            </a:b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1010"/>
                </a:solidFill>
                <a:latin typeface="Tahoma"/>
              </a:rPr>
              <a:t>Учитель МОУ СОШ № 73</a:t>
            </a:r>
            <a:br>
              <a:rPr sz="2800"/>
            </a:br>
            <a:r>
              <a:rPr b="0" lang="ru-RU" sz="2800" spc="-1" strike="noStrike">
                <a:solidFill>
                  <a:srgbClr val="001010"/>
                </a:solidFill>
                <a:latin typeface="Tahoma"/>
              </a:rPr>
              <a:t>Петюшик Т.Н.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1010"/>
                </a:solidFill>
                <a:latin typeface="Tahoma"/>
              </a:rPr>
              <a:t>Волгоград 2010 г.</a:t>
            </a:r>
            <a:br>
              <a:rPr sz="3600"/>
            </a:br>
            <a:br>
              <a:rPr sz="3600"/>
            </a:br>
            <a:br>
              <a:rPr sz="32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Тест</a:t>
            </a:r>
            <a:br>
              <a:rPr sz="4800"/>
            </a:br>
            <a:r>
              <a:rPr b="0" lang="en-US" sz="4400" spc="-1" strike="noStrike">
                <a:solidFill>
                  <a:srgbClr val="001010"/>
                </a:solidFill>
                <a:latin typeface="Tahoma"/>
              </a:rPr>
              <a:t>1.Какая часть слова самая главная?</a:t>
            </a:r>
            <a:br>
              <a:rPr sz="4400"/>
            </a:br>
            <a:r>
              <a:rPr b="0" lang="en-US" sz="4400" spc="-1" strike="noStrike">
                <a:solidFill>
                  <a:srgbClr val="001010"/>
                </a:solidFill>
                <a:latin typeface="Tahoma"/>
              </a:rPr>
              <a:t>2.Какие части слова  служат для образования новых слов?</a:t>
            </a:r>
            <a:br>
              <a:rPr sz="4400"/>
            </a:br>
            <a:r>
              <a:rPr b="0" lang="en-US" sz="4400" spc="-1" strike="noStrike">
                <a:solidFill>
                  <a:srgbClr val="001010"/>
                </a:solidFill>
                <a:latin typeface="Tahoma"/>
              </a:rPr>
              <a:t>3.Для чего служит окончание?</a:t>
            </a:r>
            <a:br>
              <a:rPr sz="4400"/>
            </a:br>
            <a:r>
              <a:rPr b="0" lang="en-US" sz="4400" spc="-1" strike="noStrike">
                <a:solidFill>
                  <a:srgbClr val="001010"/>
                </a:solidFill>
                <a:latin typeface="Tahoma"/>
              </a:rPr>
              <a:t>4.Какие части слова входят в основу?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360" y="404280"/>
            <a:ext cx="69840" cy="7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24840" bIns="2484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4963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1.Корень сло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2.Суффикс и пристав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3.Для связи слов в предложен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4.Приставка, суффикс, корень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Спасибо за работу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62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01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.Минута чистописания: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З з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заяц    залез</a:t>
            </a:r>
            <a:br>
              <a:rPr sz="3600"/>
            </a:br>
            <a:r>
              <a:rPr b="1" lang="en-US" sz="3600" spc="-1" strike="noStrike">
                <a:solidFill>
                  <a:srgbClr val="00101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 Отгадать загадку, отгадку разобрать по составу: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а)Кто, угадай-ка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Седая хозяйка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Тряхнёт перинки-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Над миром пушинки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б)В новой стене,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В круглом окне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Днём стекло разбито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Ночью вставлено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915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в)Из-под снега расцветает,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Раньше всех весну встречает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г)Ночью, в полдень, на рассвете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Службу он несёт в секрете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На тропе, на берегу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Преграждает путь врагу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010"/>
                </a:solidFill>
                <a:latin typeface="Tahoma"/>
              </a:rPr>
              <a:t>Тема урока:</a:t>
            </a:r>
            <a:br>
              <a:rPr sz="3600"/>
            </a:br>
            <a:br>
              <a:rPr sz="3600"/>
            </a:b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Фонетика и состав слова</a:t>
            </a:r>
            <a:br>
              <a:rPr sz="4800"/>
            </a:br>
            <a:br>
              <a:rPr sz="4800"/>
            </a:b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Тип урока:</a:t>
            </a:r>
            <a:br>
              <a:rPr sz="4000"/>
            </a:b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Повторение пройденног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Цели урока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1.Повторить разбор слов по составу; фонетический разбор слов;</a:t>
            </a:r>
            <a:br>
              <a:rPr sz="4000"/>
            </a:b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обобщить виды словообразования;</a:t>
            </a:r>
            <a:br>
              <a:rPr sz="4000"/>
            </a:b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 2.Продолжить развитие мыслительных операций сравнения, анализа, синтеза, обобщения, рефлексии.</a:t>
            </a:r>
            <a:br>
              <a:rPr sz="4000"/>
            </a:br>
            <a:r>
              <a:rPr b="0" lang="en-US" sz="4000" spc="-1" strike="noStrike">
                <a:solidFill>
                  <a:srgbClr val="001010"/>
                </a:solidFill>
                <a:latin typeface="Tahoma"/>
              </a:rPr>
              <a:t>3.Способствовать созданию условий отношений сотрудничества на уроке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3.Собери слова в           </a:t>
            </a: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стихотворе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ahoma"/>
              </a:rPr>
              <a:t>Белка сушит сыроежки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ahoma"/>
              </a:rPr>
              <a:t>Лапкой с ветки рвёт орешк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Выполни фонетический разбор слов «орешки»                 «сушит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3168720" cy="287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74640"/>
            <a:ext cx="9144000" cy="75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Tahoma"/>
              </a:rPr>
              <a:t>4. Прочитай предложение. Найди в нём </a:t>
            </a:r>
            <a:r>
              <a:rPr b="1" lang="en-US" sz="3600" spc="-1" strike="noStrike">
                <a:solidFill>
                  <a:srgbClr val="cccc00"/>
                </a:solidFill>
                <a:latin typeface="Tahoma"/>
              </a:rPr>
              <a:t>слово</a:t>
            </a:r>
            <a:r>
              <a:rPr b="0" lang="en-US" sz="3600" spc="-1" strike="noStrike">
                <a:solidFill>
                  <a:srgbClr val="cccc00"/>
                </a:solidFill>
                <a:latin typeface="Tahoma"/>
              </a:rPr>
              <a:t>, соответствующее его фонетической характеристике:</a:t>
            </a:r>
            <a:br>
              <a:rPr sz="3600"/>
            </a:b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Состоит из </a:t>
            </a:r>
            <a:r>
              <a:rPr b="1" lang="en-US" sz="3600" spc="-1" strike="noStrike">
                <a:solidFill>
                  <a:srgbClr val="001010"/>
                </a:solidFill>
                <a:latin typeface="Tahoma"/>
              </a:rPr>
              <a:t>1-го слога</a:t>
            </a: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1010"/>
                </a:solidFill>
                <a:latin typeface="Tahoma"/>
              </a:rPr>
              <a:t>1 звук-</a:t>
            </a: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 согласный, звонкий, мягкий</a:t>
            </a:r>
            <a:br>
              <a:rPr sz="3600"/>
            </a:br>
            <a:r>
              <a:rPr b="1" lang="en-US" sz="3600" spc="-1" strike="noStrike">
                <a:solidFill>
                  <a:srgbClr val="001010"/>
                </a:solidFill>
                <a:latin typeface="Tahoma"/>
              </a:rPr>
              <a:t>2 звук-</a:t>
            </a: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 гласный, ударный</a:t>
            </a:r>
            <a:br>
              <a:rPr sz="3600"/>
            </a:br>
            <a:r>
              <a:rPr b="1" lang="en-US" sz="3600" spc="-1" strike="noStrike">
                <a:solidFill>
                  <a:srgbClr val="001010"/>
                </a:solidFill>
                <a:latin typeface="Tahoma"/>
              </a:rPr>
              <a:t>3 звук-</a:t>
            </a: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 согласный, глухой, твёрдый</a:t>
            </a: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Особенно красив и печален русский лес в ранние осенние дн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Tahoma"/>
              </a:rPr>
              <a:t>5.Подбор родственных  слов</a:t>
            </a:r>
            <a:br>
              <a:rPr sz="3600"/>
            </a:br>
            <a:r>
              <a:rPr b="0" lang="en-US" sz="3600" spc="-1" strike="noStrike">
                <a:solidFill>
                  <a:srgbClr val="cccc00"/>
                </a:solidFill>
                <a:latin typeface="Tahoma"/>
              </a:rPr>
              <a:t>6.Способы образования слов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7.Игра «Сложи слово»</a:t>
            </a:r>
            <a:br>
              <a:rPr sz="3600"/>
            </a:b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Соедини части сложных слов, отметь части слов:</a:t>
            </a:r>
            <a:br>
              <a:rPr sz="3600"/>
            </a:b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масло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косилка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тепло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    вод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сено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    ход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   поле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завод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лед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кол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4076640"/>
            <a:ext cx="2808360" cy="1584360"/>
          </a:xfrm>
          <a:prstGeom prst="line">
            <a:avLst/>
          </a:prstGeom>
          <a:ln w="76320">
            <a:solidFill>
              <a:srgbClr val="001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4581360"/>
            <a:ext cx="2951280" cy="576360"/>
          </a:xfrm>
          <a:prstGeom prst="line">
            <a:avLst/>
          </a:prstGeom>
          <a:ln w="76320">
            <a:solidFill>
              <a:srgbClr val="001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76720" y="4005360"/>
            <a:ext cx="3095640" cy="1079280"/>
          </a:xfrm>
          <a:prstGeom prst="line">
            <a:avLst/>
          </a:prstGeom>
          <a:ln w="76320">
            <a:solidFill>
              <a:srgbClr val="001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4581360"/>
            <a:ext cx="3097080" cy="1224000"/>
          </a:xfrm>
          <a:prstGeom prst="line">
            <a:avLst/>
          </a:prstGeom>
          <a:ln w="76320">
            <a:solidFill>
              <a:srgbClr val="001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59280" y="6237360"/>
            <a:ext cx="3313080" cy="71280"/>
          </a:xfrm>
          <a:prstGeom prst="line">
            <a:avLst/>
          </a:prstGeom>
          <a:ln w="76320">
            <a:solidFill>
              <a:srgbClr val="001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010"/>
                </a:solidFill>
                <a:latin typeface="Tahoma"/>
              </a:rPr>
              <a:t>Найди лишнее слово в каждой группе, подчеркни: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1)клубника          2)забежать               3)листок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 клубок                 залететь                   цветок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клубничка            замочный                  носок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клубничный          залепить                 катерок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2793960" cy="223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1:57:51Z</dcterms:created>
  <dc:creator>Admin</dc:creator>
  <dc:description/>
  <dc:language>en-US</dc:language>
  <cp:lastModifiedBy>Admin</cp:lastModifiedBy>
  <dcterms:modified xsi:type="dcterms:W3CDTF">2010-03-10T15:49:29Z</dcterms:modified>
  <cp:revision>21</cp:revision>
  <dc:subject/>
  <dc:title>Слайд 1</dc:title>
</cp:coreProperties>
</file>