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61E-DAE4-4D26-A28C-94303737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E99-486D-454D-B217-1621C6A4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DF6-AD5D-4A7C-AD42-825173AA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719-B496-47D1-A1A3-37BA3238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D9C2-A58B-4B46-983D-9AC1AD44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B4F6-DC7B-4FF7-B2D7-8887BC33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FFB4-D025-4195-8106-C166F976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9FAF-B171-4114-8E3D-DB42EAE3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2197-0896-45F4-B4A3-B08B3A90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3A4D-DB3F-4346-930D-C706890F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DDA3-6C4D-4E28-B19C-13E8472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525-DE57-44E3-ABBC-6309D2AE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E3EF-BDB6-4944-9581-715C5914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F1FA-A734-4FC6-8A20-7C9A4041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50B3-56E6-4FF0-BF99-16CA9F9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C4B1-9454-444D-9B53-7D8A0755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F9B7-D1B5-48E6-BE66-6BEE6F6C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897-3FA0-4F7D-9637-8D028498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46D-AF5A-4D39-8B4E-F155E4F4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5DD-EAB2-4815-AB3A-3B71C2CC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CE5-76D2-4D6C-9062-94DA92F9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BE1-E511-46D2-808E-C0B2EB5A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49A-C334-416B-8A64-B82ADC2F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AA2-F0D9-4A36-A5C5-865FC29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68CD-3647-4EA4-A20E-668B3FC02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369E-4AF5-42E5-80A9-E29F37C60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Поделки из шишек и </a:t>
            </a: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желудей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Материа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14680" y="171612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штаны и желуд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6408720" cy="2670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419640" y="4076640"/>
            <a:ext cx="4716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Шишк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324000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205240" y="3938760"/>
            <a:ext cx="2922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1640" y="1631880"/>
            <a:ext cx="2984400" cy="4173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41050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Желуди и каштан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27120" y="1600200"/>
            <a:ext cx="369864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159520" y="1600200"/>
            <a:ext cx="3014640" cy="218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193760" y="3938760"/>
            <a:ext cx="2565360" cy="2187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762440" y="4508640"/>
            <a:ext cx="3810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1944720" cy="2881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4038480" cy="1882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4105080" cy="2468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067280" y="692280"/>
            <a:ext cx="4572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722760" cy="2587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672000" cy="2541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4464000" cy="2759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4572000" y="692280"/>
            <a:ext cx="4249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21080" cy="360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62440" y="2071800"/>
            <a:ext cx="3810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21:38:15Z</dcterms:created>
  <dc:creator>Admin</dc:creator>
  <dc:description/>
  <dc:language>en-US</dc:language>
  <cp:lastModifiedBy>Admin</cp:lastModifiedBy>
  <dcterms:modified xsi:type="dcterms:W3CDTF">2009-12-12T21:51:05Z</dcterms:modified>
  <cp:revision>3</cp:revision>
  <dc:subject/>
  <dc:title>Поделки из шишек и желудей</dc:title>
</cp:coreProperties>
</file>