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3.gif" ContentType="image/gif"/>
  <Override PartName="/ppt/media/image6.png" ContentType="image/png"/>
  <Override PartName="/ppt/media/image10.wmf" ContentType="image/x-wmf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8A66-FEFE-4C94-9470-B333F0F4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8C48-853F-44E2-B703-F8CECB7C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BBE4-9A56-459E-80A7-36E68699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8D9E-E680-4E2C-8592-8A26E692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15C0-3F6D-4FAA-B6EE-06B38071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B08A-0B0B-4580-BE4B-E72531CB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E159-99FD-48EA-BCD7-B2CD86EC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C2D6-47A5-4818-9407-3680C023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BD2D-15D8-462A-B879-3CB196A9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93D0-C2EE-410F-9FB8-56272C14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A9F9-B9EF-4391-8358-8FD2591D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FD69-6BB2-4791-93B7-BFDF2B2C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C4D0-EF45-4FB8-AE8A-7FBEBC82D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package" Target="../embeddings/oleObject1.xlsx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Электронные таблицы (ЭТ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80000" y="3573360"/>
            <a:ext cx="2965680" cy="2881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0920" y="4292640"/>
            <a:ext cx="352908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58920" y="692280"/>
            <a:ext cx="244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3-поп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и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2561" t="13912" r="58697" b="35491"/>
          <a:stretch/>
        </p:blipFill>
        <p:spPr>
          <a:xfrm>
            <a:off x="468360" y="1844640"/>
            <a:ext cx="3816360" cy="3743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0" t="49074" r="44577" b="0"/>
          <a:stretch/>
        </p:blipFill>
        <p:spPr>
          <a:xfrm>
            <a:off x="4643280" y="1773360"/>
            <a:ext cx="4104000" cy="3770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92720" y="620640"/>
            <a:ext cx="34671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шка: с2-с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ь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1-a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личие ЭТ от таблиц на бумаг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47640" y="6237000"/>
            <a:ext cx="58089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ВЫВОД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:  ЭТ может постоянно меня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0" t="0" r="59409" b="55544"/>
          <a:stretch/>
        </p:blipFill>
        <p:spPr>
          <a:xfrm>
            <a:off x="179280" y="1197000"/>
            <a:ext cx="4319640" cy="3784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rcRect l="0" t="0" r="59395" b="56481"/>
          <a:stretch/>
        </p:blipFill>
        <p:spPr>
          <a:xfrm>
            <a:off x="4643280" y="1268280"/>
            <a:ext cx="4321440" cy="3705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47640" y="4005360"/>
            <a:ext cx="86544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2000" y="4076640"/>
            <a:ext cx="86508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4005360"/>
            <a:ext cx="865080" cy="2872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87640" y="4365720"/>
            <a:ext cx="1224000" cy="35856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51640" y="4437000"/>
            <a:ext cx="1224000" cy="3589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40720" y="4076640"/>
            <a:ext cx="865080" cy="2872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403280" y="4292640"/>
            <a:ext cx="43200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403280" y="4365360"/>
            <a:ext cx="5040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5300640"/>
            <a:ext cx="864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менилась це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этому изменились Стоимость и ИТОГО (</a:t>
            </a:r>
            <a:r>
              <a:rPr b="1" lang="en-US" sz="2400" spc="-1" strike="noStrike" u="sng">
                <a:solidFill>
                  <a:srgbClr val="cc0066"/>
                </a:solidFill>
                <a:uFillTx/>
                <a:latin typeface="Arial"/>
              </a:rPr>
              <a:t>АВТОМАТИЧЕСК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765000"/>
            <a:ext cx="3456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Математ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ля построения графика функции сначала строится таблица зна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348000" y="981000"/>
          <a:ext cx="4038480" cy="895320"/>
        </p:xfrm>
        <a:graphic>
          <a:graphicData uri="http://schemas.openxmlformats.org/drawingml/2006/table">
            <a:tbl>
              <a:tblPr/>
              <a:tblGrid>
                <a:gridCol w="571320"/>
                <a:gridCol w="432000"/>
                <a:gridCol w="436320"/>
                <a:gridCol w="432000"/>
                <a:gridCol w="360360"/>
                <a:gridCol w="317520"/>
                <a:gridCol w="352440"/>
                <a:gridCol w="338040"/>
                <a:gridCol w="399960"/>
                <a:gridCol w="39852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y=x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y=2*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5435640" y="3284640"/>
            <a:ext cx="370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Географ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статистическим данным строится диаграм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5300640"/>
            <a:ext cx="381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Физик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зультаты лаборатор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0" t="10152" r="44632" b="53860"/>
          <a:stretch/>
        </p:blipFill>
        <p:spPr>
          <a:xfrm>
            <a:off x="179280" y="2852640"/>
            <a:ext cx="4537080" cy="1919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rcRect l="0" t="22136" r="35043" b="47409"/>
          <a:stretch/>
        </p:blipFill>
        <p:spPr>
          <a:xfrm>
            <a:off x="3995640" y="4941720"/>
            <a:ext cx="4680000" cy="1756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rcRect l="9075" t="11395" r="21352" b="8631"/>
          <a:stretch/>
        </p:blipFill>
        <p:spPr>
          <a:xfrm>
            <a:off x="6804000" y="260280"/>
            <a:ext cx="2306520" cy="280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2916360" y="3284640"/>
          <a:ext cx="2519280" cy="15444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3284640"/>
                    <a:ext cx="2519280" cy="15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граммы создания Э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00000" y="1413000"/>
            <a:ext cx="47530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crosoft Exc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20945" t="18079" r="68001" b="78857"/>
          <a:stretch/>
        </p:blipFill>
        <p:spPr>
          <a:xfrm>
            <a:off x="1476360" y="2060640"/>
            <a:ext cx="6624720" cy="1471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195640" y="4076640"/>
            <a:ext cx="47527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nOffice.orgCal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rcRect l="21129" t="53560" r="67533" b="43431"/>
          <a:stretch/>
        </p:blipFill>
        <p:spPr>
          <a:xfrm>
            <a:off x="1258920" y="4653000"/>
            <a:ext cx="633564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147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лемент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rcRect l="0" t="0" r="54608" b="65133"/>
          <a:stretch/>
        </p:blipFill>
        <p:spPr>
          <a:xfrm>
            <a:off x="1979640" y="1052640"/>
            <a:ext cx="5040360" cy="3097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419640" y="2565360"/>
            <a:ext cx="1150920" cy="358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2637000"/>
            <a:ext cx="936720" cy="215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3284640"/>
            <a:ext cx="115092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5300640"/>
            <a:ext cx="2170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16720" y="3716280"/>
            <a:ext cx="2170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03640" y="4292640"/>
            <a:ext cx="18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Ячей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Е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87640" y="4437000"/>
            <a:ext cx="1871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ктивна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ячейка С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4292640"/>
            <a:ext cx="180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93080" y="3068640"/>
            <a:ext cx="165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толб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64000" y="2205000"/>
            <a:ext cx="936720" cy="287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826920" y="2852280"/>
            <a:ext cx="1152720" cy="151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500720" y="2421000"/>
            <a:ext cx="33112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5724000" y="3716280"/>
            <a:ext cx="180036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708360" y="2923920"/>
            <a:ext cx="28728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16000" y="5805360"/>
            <a:ext cx="6626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2 и Е6 –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адрес яче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лементы Э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8920" y="5589360"/>
            <a:ext cx="15843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оч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0" t="0" r="38723" b="60897"/>
          <a:stretch/>
        </p:blipFill>
        <p:spPr>
          <a:xfrm>
            <a:off x="2556000" y="1197000"/>
            <a:ext cx="5976720" cy="3051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rcRect l="0" t="74754" r="38723" b="9561"/>
          <a:stretch/>
        </p:blipFill>
        <p:spPr>
          <a:xfrm>
            <a:off x="2556000" y="3573360"/>
            <a:ext cx="5976720" cy="1224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9640" y="1916280"/>
            <a:ext cx="129564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116000" y="1341000"/>
            <a:ext cx="244800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340000" y="4724280"/>
            <a:ext cx="1079640" cy="93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5734080"/>
            <a:ext cx="48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ниги и Рабочие листы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можно переименовы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иапазон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яче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rcRect l="0" t="0" r="77118" b="61082"/>
          <a:stretch/>
        </p:blipFill>
        <p:spPr>
          <a:xfrm>
            <a:off x="539640" y="1125360"/>
            <a:ext cx="2232000" cy="3036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rcRect l="0" t="0" r="54966" b="75082"/>
          <a:stretch/>
        </p:blipFill>
        <p:spPr>
          <a:xfrm>
            <a:off x="3995640" y="765000"/>
            <a:ext cx="4392720" cy="194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rcRect l="0" t="0" r="60875" b="69402"/>
          <a:stretch/>
        </p:blipFill>
        <p:spPr>
          <a:xfrm>
            <a:off x="3995640" y="3645000"/>
            <a:ext cx="3816360" cy="23875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4076640"/>
            <a:ext cx="2592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1.В столб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В3:В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35640" y="2492280"/>
            <a:ext cx="1944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.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В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88000" y="5805360"/>
            <a:ext cx="295272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.Прямоуго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2:Е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24000" y="2708280"/>
            <a:ext cx="0" cy="115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32360" y="2421000"/>
            <a:ext cx="2881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5084640"/>
            <a:ext cx="165600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4:31:27Z</dcterms:created>
  <dc:creator>Shool</dc:creator>
  <dc:description/>
  <dc:language>en-US</dc:language>
  <cp:lastModifiedBy>Shool</cp:lastModifiedBy>
  <dcterms:modified xsi:type="dcterms:W3CDTF">2012-02-25T17:34:52Z</dcterms:modified>
  <cp:revision>18</cp:revision>
  <dc:subject/>
  <dc:title>Слайд 1</dc:title>
</cp:coreProperties>
</file>