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ream Admin" initials="D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4-28T14:02:53.062000000" idx="1">
    <p:pos x="5490" y="855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dt" idx="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2C2E4-DABB-40E4-87F9-A69A3226421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D1F13-65DB-4BA2-95F2-DCE06DE2FEF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7580D-0CB9-416B-B664-A06E8E5AA84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488FE-0F4D-4E40-9F40-5540F943087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03731-6EAF-442C-9BD6-763D9F0AED4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2B4F7-1A40-4DDB-AE9D-F5D5F7D4091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54494-0841-4AD2-876B-311AC43F24D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6568C6-B4AD-458D-A29B-312FFC1FC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3D878-8B78-48F4-8AC1-B9B8205D001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A3A9B-BFA0-45CF-B0CD-2BAC1BF0E3D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F0BB2-69FE-455C-B4DD-94DEE1CE47D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EC0D4-EEE6-4B84-A752-C30DC717BA5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4B64D-F80C-4DEA-8523-8418096373C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E8EE1-76EB-44C2-A920-1AE5EEACF7F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B53BB-0B7D-447C-B4C3-9A53F116419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7784-905D-4E4D-8A6A-397BDD53068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FA83E-2811-464E-A2D3-BA541890026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FAE23-41D2-4A66-A540-A9A10D9D4F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A25F8-717E-47F0-90BD-C838776F41E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96898-D48E-4E60-9203-1FCF67FD50C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E6554-3A9B-41DE-B4DF-FE94EBEF8FA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70EE7-43EE-437E-88F3-9FEB8A3B84B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5B0F-67EF-4758-8EAB-1845C46600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7481-00DF-420F-BEF3-6EFAB2E4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8CEA-F0BC-412C-8BB4-AC683FDB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83E2-0F07-48E1-83CE-E84ECE19A9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E9CF0-DA62-4071-A5E9-DBE4E257DC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774CD-BCD5-417F-A18E-CB6565B4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387D7-13D1-4D61-B12B-B8D48D04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9A6D3-4D6F-40DF-BE80-565BF140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57518-11EA-4539-8E3D-AA566CE7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21EF2-A2D1-43C0-AA12-EA934AC5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5D523-7324-45CB-817E-DC5FDB2A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B8E0-3BC7-4928-9C8C-3A690ED5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9E1D1-CBD6-49DF-9F86-2E24F3C7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01F14-1994-410E-A9B4-5848490C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5785B-6113-4D50-864A-70601BEB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35B74-2C6A-429A-8C4F-EA62394A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62DED-64AA-4930-BEDD-B868AE9EF2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1489-D440-4CB2-9758-A3615EAE47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12E5-1686-4109-892E-470C5B12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86FD-B959-488D-ADF5-3DEF7107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1EF0-0C04-4EA8-BCAD-0CF0B731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B284-681B-4752-A579-A03EADB1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C0F3-7691-4836-9DB4-1EB7750F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E941-3DB5-4D39-90EA-7CEDAA40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F9D3-6934-426C-A932-A5089BA5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759E-2100-4B68-80A1-65ED368D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2756-A3D3-49A1-9E23-CE0F4E9A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D5C4-237E-4260-862B-783A527E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7D9A-301F-43A4-9893-0FAEDD28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4F5A-EFC5-4FC9-A3B7-4D161DAC6E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3A6FB-02CF-4176-A879-59FD3770E4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19208-354F-40C3-8176-8A1B1637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61B2C-94F4-48CA-8D53-EB95D729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6D19-8ED4-44D7-B1E1-D6245AAB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1F0A3-4B5A-466C-AEA2-2C2759F6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7575E-4818-4FCB-BFAD-AE503EA8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3FE50-B580-4617-9914-7173E6CF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CB0F0-D14E-444F-9552-7D1956FB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4E8C2-125A-4A72-89D6-9C641C64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DAFAF-08CC-465A-9B19-7B1AA664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8183C-CFA6-4543-90CC-FC8AC92D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15342-6468-4B1A-8C94-45650E5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AFCEB-1257-45C5-B116-2369F20E43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0119-A55F-4A49-AD6E-95CE7C90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B0B6-B9C5-4224-9700-62C8D145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B0DA-330F-4CA2-8F57-48162791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D11B-C2B5-4C1B-9ED7-0E82EBDE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2C64-55C3-4087-82EE-B020A5EC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4910D2-3347-4EE8-842F-61349D124D5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70DF96-41F4-490D-8041-C42D67410A62}" type="slidenum">
              <a: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0EA00D-26FF-4D33-A4BD-DFE95EE17D3E}" type="slidenum">
              <a: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A45D82-A071-46A0-BD50-2A3A724D4D01}" type="slidenum"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2357280" y="714240"/>
            <a:ext cx="50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ОУ Дмитриевская СО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7228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571680" y="857160"/>
            <a:ext cx="44290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Братц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Bratz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создана Канадскими и Французскими дизайнерами, большеголовая красавица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ratz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радует поклонников обильным макияжем и дизайнерскими нарядами. По словам создателей она является «олицетворением молодёжной моды нового тысячилет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143680" y="1214280"/>
            <a:ext cx="1247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571680" y="857160"/>
            <a:ext cx="47862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Кукла Момоко.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«Молодёжно ориентированной» можно смело назвать японскую куклу Момоко. Изначально она задумывалась как «красавица и модница», но сейчас куклы этой серии олицетворяют многие модные молодёжные субкульту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214960" y="1357200"/>
            <a:ext cx="140796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714240" y="785880"/>
            <a:ext cx="46134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Аллисен.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Эта кукла  настоящая собеседница, подруга. Удивительна она тем, что встроенный в неё механизм точно распознает  ключевые слова, которые произносит человек. Она не просто отвечает по теме, а даже сопровождает  ответы мимическими изменениями.  Кукла постепенно учится. И как настоящая маленькая модница, Аллисен распознает свою одежду , а ещё умеет подносить к уху сотовы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643720" y="1214280"/>
            <a:ext cx="41112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3143160" y="642960"/>
            <a:ext cx="29289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Барби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 - самая популярная кукла в мире.  Продается более, чем в 150 странах мира, предстаёт в разных образах, имеет самый обширный гардероб среди кукол. Роскошные свадебные платья – одни из самых популярных и продаваемых нарядов для Барб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43760" y="1214280"/>
            <a:ext cx="857160" cy="11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13176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530280" y="1285920"/>
            <a:ext cx="7772400" cy="80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Итоги анкет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В анкетировании участвовали  девочки начальных  класс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1. Какая кукла самая современна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Кукла Блайз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(Blythe)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- 1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Кукла  Братц (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ratz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) -30 %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      Кукла Момоко -5 %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Кукла Аллисен - 1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Кукла Барби - 40%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2. Чем  она вас  привлекает 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- красивая      -  стильная                    -  доступная це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-  милая            - можно шить и вязать одеж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     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-109440" y="42840"/>
            <a:ext cx="9539280" cy="11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1234800" cy="1235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3643200" y="928800"/>
            <a:ext cx="1060560" cy="1371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3"/>
          <a:stretch/>
        </p:blipFill>
        <p:spPr>
          <a:xfrm>
            <a:off x="6143760" y="1000080"/>
            <a:ext cx="1047600" cy="1403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4"/>
          <a:stretch/>
        </p:blipFill>
        <p:spPr>
          <a:xfrm>
            <a:off x="357120" y="3892680"/>
            <a:ext cx="951120" cy="1079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5"/>
          <a:stretch/>
        </p:blipFill>
        <p:spPr>
          <a:xfrm>
            <a:off x="6715080" y="3929040"/>
            <a:ext cx="733320" cy="1079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6"/>
          <a:stretch/>
        </p:blipFill>
        <p:spPr>
          <a:xfrm>
            <a:off x="3000240" y="4071960"/>
            <a:ext cx="1130400" cy="828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/>
          <p:cNvPicPr/>
          <p:nvPr/>
        </p:nvPicPr>
        <p:blipFill>
          <a:blip r:embed="rId7"/>
          <a:stretch/>
        </p:blipFill>
        <p:spPr>
          <a:xfrm>
            <a:off x="1274760" y="-96840"/>
            <a:ext cx="632628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544840" cy="190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2882880" y="139680"/>
            <a:ext cx="519444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216240" cy="2411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554040" y="12600"/>
            <a:ext cx="749952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"/>
          <p:cNvGrpSpPr/>
          <p:nvPr/>
        </p:nvGrpSpPr>
        <p:grpSpPr>
          <a:xfrm>
            <a:off x="-49320" y="-73080"/>
            <a:ext cx="8406000" cy="4557600"/>
            <a:chOff x="-49320" y="-73080"/>
            <a:chExt cx="8406000" cy="4557600"/>
          </a:xfrm>
        </p:grpSpPr>
        <p:pic>
          <p:nvPicPr>
            <p:cNvPr id="258" name="Picture 2" descr=""/>
            <p:cNvPicPr/>
            <p:nvPr/>
          </p:nvPicPr>
          <p:blipFill>
            <a:blip r:embed="rId1"/>
            <a:stretch/>
          </p:blipFill>
          <p:spPr>
            <a:xfrm>
              <a:off x="-49320" y="-73080"/>
              <a:ext cx="8406000" cy="45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3"/>
            <p:cNvSpPr/>
            <p:nvPr/>
          </p:nvSpPr>
          <p:spPr>
            <a:xfrm>
              <a:off x="-49320" y="-73080"/>
              <a:ext cx="8406000" cy="45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487440" y="865080"/>
            <a:ext cx="8248680" cy="2011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1274760" y="3468600"/>
            <a:ext cx="6967440" cy="19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2786040" y="2786040"/>
            <a:ext cx="690480" cy="612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68440" y="755640"/>
            <a:ext cx="677376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431964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530280" y="714240"/>
            <a:ext cx="80424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Цель: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Исследовать , какая кукла самая популярная  для современных школьниц и чем она  их привлек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nstantia"/>
                <a:ea typeface="Arial Unicode MS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Узнать историю появления первых кук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nstantia"/>
                <a:ea typeface="Arial Unicode MS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Выяснить, из чего были сделаны первые кук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nstantia"/>
                <a:ea typeface="Arial Unicode MS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Познакомиться с современными куклами, которые сейчас существую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nstantia"/>
                <a:ea typeface="Arial Unicode MS"/>
              </a:rPr>
              <a:t>4.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Провести анкетирование среди девочек 1-4 классов  Дмитриевской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nstantia"/>
                <a:ea typeface="Arial Unicode MS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Выявить способности  моделирования наших девоч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571680" y="1714680"/>
            <a:ext cx="44701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nstantia"/>
                <a:ea typeface="Arial Unicode MS"/>
              </a:rPr>
              <a:t>Кукла «Баба»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-первая кукла наших предков. Зола смешивалась  с водой в шарик , на который надевали юбку. Кукла передавалась по наследству от бабушки к внучке в день её свадьбы. Считалось, что она является оберегом домашнего очаг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поэтому при переездах её всегда брали с соб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42960" y="244440"/>
            <a:ext cx="5778720" cy="111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286240" y="1571760"/>
            <a:ext cx="131292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530280" y="1714680"/>
            <a:ext cx="504180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Эти куклы были сделаны  из волос женщины. Такая кукла помогала от болезней, а также сопровождала мужчину в дороге или на войне, напоминая ему о до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5857920" y="1571760"/>
            <a:ext cx="1293840" cy="19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1401840" y="328680"/>
            <a:ext cx="632772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3214800" y="1857240"/>
            <a:ext cx="314316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Куклы «стригушки» - это куклы из нарезанной трав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При необходимости в куклы вплетались целебные травы, делающие игрушку полезной для здоровь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07920" y="328680"/>
            <a:ext cx="7589880" cy="1098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6500880" y="19288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785880" y="1928880"/>
            <a:ext cx="9684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530280" y="1571760"/>
            <a:ext cx="511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В районе Прибалтики распространена была  «Вепсская кукла», сделанная из старых вещей матери и с самого рождения служившая ребёнку оберегом «от дурного глаза». На старинных куклах не было прорисовано лицо, так как считалось, что кукла с глазами «оживёт», обретёт душу, став тем самым привлекательным объектом для всяких злых сил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195560" y="255600"/>
            <a:ext cx="671652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5857920" y="1785960"/>
            <a:ext cx="115092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3000240" y="1643040"/>
            <a:ext cx="27860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Блайз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изобретена в США 1972 г. Эта игрушка пользуется популярностью не только среди детей, но и среди взросл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06320" y="328680"/>
            <a:ext cx="7815240" cy="1098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357120" y="1857240"/>
            <a:ext cx="978120" cy="1271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5857920" y="1928880"/>
            <a:ext cx="977760" cy="129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8:15:27Z</dcterms:created>
  <dc:creator>Санёк</dc:creator>
  <dc:description/>
  <dc:language>en-US</dc:language>
  <cp:lastModifiedBy>Admin</cp:lastModifiedBy>
  <dcterms:modified xsi:type="dcterms:W3CDTF">2012-02-27T11:08:03Z</dcterms:modified>
  <cp:revision>45</cp:revision>
  <dc:subject/>
  <dc:title>Исследовательский  проект:</dc:title>
</cp:coreProperties>
</file>