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6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C6BC-6FFE-4519-99C0-26A03D58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7C1D-A623-4843-94CA-194EF157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0CEF-FD14-4B24-BF7C-41DFF855B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A9E3-4900-4AC0-8ABD-36D08B9E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E535-A4B2-4FFA-8DE0-BEF19DD2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62C6-B6F8-4267-9AEE-C20FC3B3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A0A6-6703-42EB-B7F8-C6D86BCE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A6A6-F862-42D1-AC77-3E2E659B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4C23-42E4-4061-BEB2-0EF530FF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4619-50A9-451C-9569-DE35BB9B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871A-7313-43A7-AC3F-5965D1EA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2963-D600-4295-938C-D3AFA555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93DF-2C6E-4C1B-A77E-AE98305D1B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Электронные таблицы (ЭТ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580000" y="3573360"/>
            <a:ext cx="2965680" cy="2881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0920" y="4292640"/>
            <a:ext cx="352908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орматировани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3673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Границ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тип, цвет, толщина лин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Ячей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залить цветом, форматировать текс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12861" r="59409" b="55544"/>
          <a:stretch/>
        </p:blipFill>
        <p:spPr>
          <a:xfrm>
            <a:off x="3419640" y="2060640"/>
            <a:ext cx="5724360" cy="3565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66555" t="26838" r="29961" b="70135"/>
          <a:stretch/>
        </p:blipFill>
        <p:spPr>
          <a:xfrm>
            <a:off x="3924360" y="765000"/>
            <a:ext cx="1368360" cy="951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rcRect l="69419" t="30737" r="25617" b="66780"/>
          <a:stretch/>
        </p:blipFill>
        <p:spPr>
          <a:xfrm>
            <a:off x="5292720" y="981000"/>
            <a:ext cx="223344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9640" y="1125000"/>
            <a:ext cx="2303640" cy="721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да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12000" y="1052640"/>
            <a:ext cx="2303280" cy="72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та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3789360"/>
            <a:ext cx="5761080" cy="187308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олбцы, строки, диапазоны, ячейки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исты, 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77080" y="1773360"/>
            <a:ext cx="0" cy="201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7280" y="1773360"/>
            <a:ext cx="0" cy="201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дание 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62064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казать: 1).адрес активной ячейки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2).имена выделенных диапазонов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0" t="12934" r="46112" b="50930"/>
          <a:stretch/>
        </p:blipFill>
        <p:spPr>
          <a:xfrm>
            <a:off x="0" y="1844640"/>
            <a:ext cx="914400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новные типы данных в Э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23560"/>
            <a:ext cx="2232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1.Числ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0" t="13197" r="57911" b="74002"/>
          <a:stretch/>
        </p:blipFill>
        <p:spPr>
          <a:xfrm>
            <a:off x="2878200" y="765000"/>
            <a:ext cx="6265800" cy="1525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564000" y="1268280"/>
            <a:ext cx="79200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43280" y="1268280"/>
            <a:ext cx="72072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35640" y="1268280"/>
            <a:ext cx="79200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72360" y="1268280"/>
            <a:ext cx="1152360" cy="50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96360" y="1268280"/>
            <a:ext cx="1152360" cy="50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9889400">
            <a:off x="1187280" y="2707920"/>
            <a:ext cx="151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9974000">
            <a:off x="2627280" y="2708280"/>
            <a:ext cx="172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роб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9924200">
            <a:off x="3924000" y="2852280"/>
            <a:ext cx="21589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цен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9736400">
            <a:off x="5905080" y="2565000"/>
            <a:ext cx="32385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кспоненци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484360" y="1700280"/>
            <a:ext cx="1440000" cy="936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140360" y="1699920"/>
            <a:ext cx="863280" cy="865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867280" y="1700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7093080" y="1773000"/>
            <a:ext cx="1079280" cy="1081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6877080" y="1773360"/>
            <a:ext cx="216000" cy="107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rcRect l="0" t="13368" r="61605" b="76309"/>
          <a:stretch/>
        </p:blipFill>
        <p:spPr>
          <a:xfrm>
            <a:off x="2195640" y="3860640"/>
            <a:ext cx="5688000" cy="1224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356000" y="4292640"/>
            <a:ext cx="115272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43280" y="4292640"/>
            <a:ext cx="115236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96000" y="4292640"/>
            <a:ext cx="115236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932360" y="479736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203640" y="479736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372360" y="479736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68360" y="5589720"/>
            <a:ext cx="165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51280" y="5589720"/>
            <a:ext cx="2016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08720" y="5661000"/>
            <a:ext cx="2016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не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6093000"/>
            <a:ext cx="720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Выравниваются по правому кра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4:31:27Z</dcterms:created>
  <dc:creator>Shool</dc:creator>
  <dc:description/>
  <dc:language>en-US</dc:language>
  <cp:lastModifiedBy>Shool</cp:lastModifiedBy>
  <dcterms:modified xsi:type="dcterms:W3CDTF">2012-02-25T17:34:56Z</dcterms:modified>
  <cp:revision>21</cp:revision>
  <dc:subject/>
  <dc:title>Слайд 1</dc:title>
</cp:coreProperties>
</file>