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1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806-8F76-4E33-987F-323A3DDC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6BA-025A-4387-A183-B6373CF1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AEA-CBDA-4298-9C6E-BF21F816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1FB-97DE-450A-900F-FB2AB3C5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CAD-BDC6-4CDF-9D72-98B07876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63F7-3437-4AE4-8E06-EAEE2056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448-760F-43E3-AC0A-A4947FF2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594-AD4D-45D8-9CEA-5EF553BD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EEB-FAFC-4A5E-B15A-896A387B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BEE6-EB0A-4215-B8E3-9E4C6C00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3BC-D0BA-4AD9-8279-8238B5D0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C39-1A7E-42DD-BD40-4E5DCDB5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B124-1332-46B4-8C4D-FD2592EBA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Электронные таблицы (ЭТ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80000" y="3573360"/>
            <a:ext cx="2965680" cy="2881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0920" y="4292640"/>
            <a:ext cx="35290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умм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5640" y="4869000"/>
            <a:ext cx="74883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улу можно корректиро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шью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едением адресов ячеек с клави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41513" t="5025" r="54748" b="91929"/>
          <a:stretch/>
        </p:blipFill>
        <p:spPr>
          <a:xfrm>
            <a:off x="5940360" y="189000"/>
            <a:ext cx="1224000" cy="798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rcRect l="41343" t="9700" r="52434" b="87781"/>
          <a:stretch/>
        </p:blipFill>
        <p:spPr>
          <a:xfrm>
            <a:off x="6659640" y="260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rcRect l="0" t="4619" r="53501" b="57542"/>
          <a:stretch/>
        </p:blipFill>
        <p:spPr>
          <a:xfrm>
            <a:off x="0" y="990720"/>
            <a:ext cx="5651640" cy="3679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003640" y="981000"/>
            <a:ext cx="50328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211640" y="1341000"/>
            <a:ext cx="1008000" cy="2879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64000" y="2349360"/>
            <a:ext cx="3203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СУММ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3:D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ктическая работа на ПК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по карточка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0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Скопировать формулу в новую ячейку (т.е. записать новое значение формул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Заполнить пустые ячейки, используя формулы, используя функцию сумм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Отформатировать ЭТ, используя памят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означения столбц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0" t="12385" r="30600" b="77846"/>
          <a:stretch/>
        </p:blipFill>
        <p:spPr>
          <a:xfrm>
            <a:off x="0" y="1268280"/>
            <a:ext cx="9325080" cy="1258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0" t="12920" r="79332" b="72332"/>
          <a:stretch/>
        </p:blipFill>
        <p:spPr>
          <a:xfrm>
            <a:off x="395280" y="2852640"/>
            <a:ext cx="6337440" cy="361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284720" y="4869000"/>
            <a:ext cx="64764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859280" y="5300640"/>
            <a:ext cx="172872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51280" y="5373360"/>
            <a:ext cx="27716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Для коп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типы данных в Э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2160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.Текс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60140" b="72170"/>
          <a:stretch/>
        </p:blipFill>
        <p:spPr>
          <a:xfrm>
            <a:off x="2195640" y="1197000"/>
            <a:ext cx="6551640" cy="3660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71640" y="5300640"/>
            <a:ext cx="727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уквы, цифры, пробелы, различные симв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87640" y="3500280"/>
            <a:ext cx="115272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3500280"/>
            <a:ext cx="115236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2000" y="3500280"/>
            <a:ext cx="122400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3500280"/>
            <a:ext cx="71892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3132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3.Формул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типы данных в Э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56360" y="2349360"/>
            <a:ext cx="151128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0" t="13507" r="73423" b="76203"/>
          <a:stretch/>
        </p:blipFill>
        <p:spPr>
          <a:xfrm>
            <a:off x="3132000" y="1197000"/>
            <a:ext cx="5580360" cy="1728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372360" y="1844640"/>
            <a:ext cx="1152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2997360"/>
            <a:ext cx="8712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ложить содержимое ячеек А2 и В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езультат поместить в ячейку С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788000" y="2276640"/>
            <a:ext cx="79200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6156360" y="2276640"/>
            <a:ext cx="28728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7020000" y="2349360"/>
            <a:ext cx="792000" cy="1224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0" t="10673" r="71962" b="75996"/>
          <a:stretch/>
        </p:blipFill>
        <p:spPr>
          <a:xfrm>
            <a:off x="826920" y="4149720"/>
            <a:ext cx="4824720" cy="1835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67280" y="5877000"/>
            <a:ext cx="244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46920" y="4581360"/>
            <a:ext cx="3097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трока форм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4500360" y="5373360"/>
            <a:ext cx="237636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435640" y="4365720"/>
            <a:ext cx="223200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2746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Формул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типы данных в Э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12920" r="73423" b="73084"/>
          <a:stretch/>
        </p:blipFill>
        <p:spPr>
          <a:xfrm>
            <a:off x="4427640" y="3284640"/>
            <a:ext cx="4392360" cy="1849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56360" y="2349360"/>
            <a:ext cx="151128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rcRect l="0" t="13507" r="73423" b="76203"/>
          <a:stretch/>
        </p:blipFill>
        <p:spPr>
          <a:xfrm>
            <a:off x="3132000" y="1197000"/>
            <a:ext cx="5580360" cy="1728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227640" y="1844640"/>
            <a:ext cx="15112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59640" y="4149720"/>
            <a:ext cx="15112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rcRect l="0" t="12920" r="74888" b="74002"/>
          <a:stretch/>
        </p:blipFill>
        <p:spPr>
          <a:xfrm>
            <a:off x="250920" y="3141720"/>
            <a:ext cx="4392360" cy="1830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56000" y="4005360"/>
            <a:ext cx="15112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5157720"/>
            <a:ext cx="8353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1.Формула начинается со знака 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2.Формула вводится на английском языке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3.Конец формулы обозначается клавишей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En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Ссылки на адреса яче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2565000"/>
            <a:ext cx="31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тнос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27640" y="2492280"/>
            <a:ext cx="266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бсолю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997360"/>
            <a:ext cx="26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меш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619280" y="620640"/>
            <a:ext cx="2448000" cy="20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620640"/>
            <a:ext cx="2735280" cy="19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6000" y="620640"/>
            <a:ext cx="0" cy="244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141720"/>
            <a:ext cx="280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2, С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25, 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3573360"/>
            <a:ext cx="230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A2, A$2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$18, $C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56360" y="3068640"/>
            <a:ext cx="259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A$2, $D$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C$8, $F$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4869000"/>
            <a:ext cx="9036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и копировании знак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замораживает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омер строки (А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$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 номер столбца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$F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5)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ли то и другое (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$A$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1471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Копирование формул</a:t>
            </a:r>
            <a:br>
              <a:rPr sz="3400"/>
            </a:b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с относительной ссылко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4920" y="4005000"/>
            <a:ext cx="25304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няется №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12920" r="80483" b="71395"/>
          <a:stretch/>
        </p:blipFill>
        <p:spPr>
          <a:xfrm>
            <a:off x="179280" y="1844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0" t="12920" r="58339" b="76083"/>
          <a:stretch/>
        </p:blipFill>
        <p:spPr>
          <a:xfrm>
            <a:off x="3419640" y="1197000"/>
            <a:ext cx="5543280" cy="117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rcRect l="0" t="12920" r="63495" b="70251"/>
          <a:stretch/>
        </p:blipFill>
        <p:spPr>
          <a:xfrm>
            <a:off x="3492360" y="3716280"/>
            <a:ext cx="5330880" cy="1967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71640" y="2492280"/>
            <a:ext cx="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2060640"/>
            <a:ext cx="4176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32360" y="4581360"/>
            <a:ext cx="3240000" cy="863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08360" y="234936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няется название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толб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57340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няется №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тро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название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толб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Копирование формул</a:t>
            </a:r>
            <a:br>
              <a:rPr sz="3400"/>
            </a:b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с абсолютной ссылко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5229360"/>
            <a:ext cx="4824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мороженная ссылка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не изменяе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0" t="12920" r="79528" b="71395"/>
          <a:stretch/>
        </p:blipFill>
        <p:spPr>
          <a:xfrm>
            <a:off x="179280" y="3068640"/>
            <a:ext cx="2880000" cy="1763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0" t="12920" r="55246" b="70481"/>
          <a:stretch/>
        </p:blipFill>
        <p:spPr>
          <a:xfrm>
            <a:off x="3635280" y="3068640"/>
            <a:ext cx="5508720" cy="163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rcRect l="0" t="13834" r="54217" b="75322"/>
          <a:stretch/>
        </p:blipFill>
        <p:spPr>
          <a:xfrm>
            <a:off x="1042920" y="1268280"/>
            <a:ext cx="6985080" cy="1324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56000" y="2205000"/>
            <a:ext cx="504036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88000" y="3789360"/>
            <a:ext cx="3887640" cy="7920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43280" y="3716280"/>
            <a:ext cx="0" cy="936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915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Копирование формул</a:t>
            </a:r>
            <a:br>
              <a:rPr sz="3400"/>
            </a:b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со смешанной ссылко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79280" y="5229360"/>
            <a:ext cx="482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мороженная ссылка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не изменяе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12920" r="60000" b="77218"/>
          <a:stretch/>
        </p:blipFill>
        <p:spPr>
          <a:xfrm>
            <a:off x="250920" y="1197000"/>
            <a:ext cx="5113080" cy="1440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0" t="12920" r="80638" b="69521"/>
          <a:stretch/>
        </p:blipFill>
        <p:spPr>
          <a:xfrm>
            <a:off x="5867280" y="1700280"/>
            <a:ext cx="2881440" cy="2592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rcRect l="0" t="13400" r="60528" b="72004"/>
          <a:stretch/>
        </p:blipFill>
        <p:spPr>
          <a:xfrm>
            <a:off x="179280" y="3213000"/>
            <a:ext cx="5113440" cy="180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124000" y="2276640"/>
            <a:ext cx="2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56000" y="2276640"/>
            <a:ext cx="43164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2276640"/>
            <a:ext cx="43164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4720" y="2276640"/>
            <a:ext cx="43164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4076640"/>
            <a:ext cx="4320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84360" y="4292640"/>
            <a:ext cx="4320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4581360"/>
            <a:ext cx="43164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4869000"/>
            <a:ext cx="43164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3068640"/>
            <a:ext cx="43164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24720" y="3357720"/>
            <a:ext cx="4320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24720" y="3716280"/>
            <a:ext cx="4320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24720" y="4005360"/>
            <a:ext cx="4320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2781360"/>
            <a:ext cx="4320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2276640"/>
            <a:ext cx="43164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2276640"/>
            <a:ext cx="21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4360" y="2276640"/>
            <a:ext cx="2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2276640"/>
            <a:ext cx="21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4000" y="4076640"/>
            <a:ext cx="2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4292640"/>
            <a:ext cx="2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4581360"/>
            <a:ext cx="2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4869000"/>
            <a:ext cx="21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01080" y="2781360"/>
            <a:ext cx="2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01080" y="3068640"/>
            <a:ext cx="2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01080" y="3357720"/>
            <a:ext cx="2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01080" y="3716280"/>
            <a:ext cx="2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01080" y="4005360"/>
            <a:ext cx="2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Встроенные фун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352908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темат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14920" y="2133720"/>
            <a:ext cx="35290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ист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3284640"/>
            <a:ext cx="28800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инанс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19640" y="3284640"/>
            <a:ext cx="287964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ата и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692000" y="620640"/>
            <a:ext cx="2663640" cy="165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620640"/>
            <a:ext cx="2952720" cy="165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419640" y="620640"/>
            <a:ext cx="1008000" cy="273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620640"/>
            <a:ext cx="1223640" cy="273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4581360"/>
            <a:ext cx="48974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умм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епенная фу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вадратный 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4:31:27Z</dcterms:created>
  <dc:creator>Shool</dc:creator>
  <dc:description/>
  <dc:language>en-US</dc:language>
  <cp:lastModifiedBy>Shool</cp:lastModifiedBy>
  <dcterms:modified xsi:type="dcterms:W3CDTF">2012-02-25T17:33:31Z</dcterms:modified>
  <cp:revision>20</cp:revision>
  <dc:subject/>
  <dc:title>Слайд 1</dc:title>
</cp:coreProperties>
</file>