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401-9E34-41CA-9BC0-AFDEFF4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B44-9821-4BFD-9E55-FF4A732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53C-3CCB-4AF3-A6AA-1F658651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035-E5BF-458E-BBB5-BB7698A4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2166-A8F1-4D70-BC47-AAFC584A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7DC-F486-441C-9538-949460CC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643-C70F-4BE6-B60F-23CEE12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016-9BEA-45F0-A477-5E3D2A90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B7B0-7DE5-4F44-AEA8-2E7A6096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2DA1-F450-4DC4-A150-6A59ED7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AA9-653A-47DA-B6DD-F450112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C6E-69E3-4272-B00E-452E97B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D8F-1AB9-4E22-9E83-0B9A889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E45-C471-41C4-9099-DB28E83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E18A-5A21-431C-88B7-1BADD63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D8F2-DD4D-49FA-9FC2-9DBBD7E4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814-F2CF-4A8F-9189-B30F0102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359-15E8-430A-8B63-3FF24A9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A2D-61D5-44D0-A5A8-CABCC65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9A5-FD59-43E3-BEDE-61399AC6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1BA-CB59-4904-8754-1EA9CC9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2BF-85C6-4A19-9A0A-1F45421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5B8-E599-4330-BDBA-044FB9E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647-8BFE-4399-B9AF-24FA966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877-5F47-4FFC-9347-AC238CA2B0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5C33-593C-4D1E-98B8-3E515F9530B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7056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РОДНЫЕ ИГРУШКИ КАК СРЕДСТСО ВСЕСТОРОННЕГО РАЗВИТИЯ ДОШКОЛЬНИКОВ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Старший воспитатель ГБДОУ детский сад №54 комбинированного вида Приморского района Санкт-Петербурга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равственное и гражданское воспитание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народном искусстве обобщены  эстетические идеалы и мудрость народа, которые передаются из поколения в поколени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акого уникального множества видов народного искусства, каким располагает Россия, нет ни в одной стране мир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ошкольники с интересом воспринимают и понимают произведения народных мастеров, являющиеся памятниками русской национальной культуры и истор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S6300466"/>
          <p:cNvPicPr/>
          <p:nvPr/>
        </p:nvPicPr>
        <p:blipFill>
          <a:blip r:embed="rId4"/>
          <a:stretch/>
        </p:blipFill>
        <p:spPr>
          <a:xfrm>
            <a:off x="3995640" y="2565360"/>
            <a:ext cx="35528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6300277"/>
          <p:cNvPicPr/>
          <p:nvPr/>
        </p:nvPicPr>
        <p:blipFill>
          <a:blip r:embed="rId1"/>
          <a:stretch/>
        </p:blipFill>
        <p:spPr>
          <a:xfrm>
            <a:off x="411120" y="227160"/>
            <a:ext cx="708840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Для развития различных психических функций ребёнка существуют оптимальные, то есть самые благоприятные срок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 мечтаете, чтобы Ваш малыш лучше всех воспринимал, а затем и понимал окружающий мир?! Тогда вам необходимо знать, что с первых месяцев жизни ребёнок проживает период чувственного познания окружающег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раннем возрасте происходит становление всех видов восприятия – зрительного, слухового тактильно-двигательного. Позже на безе сформированного восприятия происходит развитие первых этапов мышления – наглядно – действенного и наглядно – образного. Именно наглядно – действенное и наглядно – образное мышление являются важнейшими достижениями ребёнка от рождения и до 3 лет. В дальнейшей жизни они не исчезают, но дополняются более поздними этапами развития мышления и выполняют свою роль в течение всей жиз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этому несформированность  процессов мышления может оказаться невосполнимой в более позднем возраст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ся познавательная деятельность ребёнка с первых месяцев жизни связана с его практической деятельностью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бы воспринимать окружающий мир (видеть и понимать свойства предметов и явлений), ребёнок должен его видеть, слышать, ощущать и действовать с ни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давна любящие и заботливые родители создавали такие условия для детей, мастерили для них игрушки. Века проверили и подтвердили воспитательные функции народных игруш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ше время также доказывает особую значимость и незаменимость игрушек, сделанных народными умельцами. Компьютерные и другие современные игрушки не могут заменить мудрую, добрую, близкую и понятную ребёнку игрушку из Каргополя, Дымково, Мезени, Филимоново, Гжели и других российских промыслов, способную не только развивать интеллект, но и формировать нравственность чело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огда ребёнок чувствует, что его понимают, он развивается значительно лучше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родные игруш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 способствуют развитию сотрудничества ребёнка и взросл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уют  потребность ребёнка в общен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развивают способность понимать взросл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пражняют малыша в подражании взрослом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развивают умение действовать по образцу взрослого, что важно на первых этапах развит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S6300278"/>
          <p:cNvPicPr/>
          <p:nvPr/>
        </p:nvPicPr>
        <p:blipFill>
          <a:blip r:embed="rId7"/>
          <a:stretch/>
        </p:blipFill>
        <p:spPr>
          <a:xfrm>
            <a:off x="4211640" y="1557360"/>
            <a:ext cx="3048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S6300281"/>
          <p:cNvPicPr/>
          <p:nvPr/>
        </p:nvPicPr>
        <p:blipFill>
          <a:blip r:embed="rId8"/>
          <a:stretch/>
        </p:blipFill>
        <p:spPr>
          <a:xfrm>
            <a:off x="4284720" y="3933720"/>
            <a:ext cx="3048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азвитие мелкой моторики тесно связано с развитием мышлени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азвитие мелкой моторики – эт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*совершенствование хватательных движе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*развитие разнообразных движений ру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*развитие отдельных движений кисти ру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*развитие движений пальцев рук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собым достижением раннего возраста является развитие зрительно-двигательной координации (соотносящие движения руки и глаза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S6300279"/>
          <p:cNvPicPr/>
          <p:nvPr/>
        </p:nvPicPr>
        <p:blipFill>
          <a:blip r:embed="rId7"/>
          <a:stretch/>
        </p:blipFill>
        <p:spPr>
          <a:xfrm>
            <a:off x="4394160" y="1598760"/>
            <a:ext cx="2897280" cy="217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S6300280"/>
          <p:cNvPicPr/>
          <p:nvPr/>
        </p:nvPicPr>
        <p:blipFill>
          <a:blip r:embed="rId8"/>
          <a:stretch/>
        </p:blipFill>
        <p:spPr>
          <a:xfrm>
            <a:off x="4427640" y="4076640"/>
            <a:ext cx="2896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азвитие процессов восприятия и представлений о предметах и явлениях – сенсорное развитие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форм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цвет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размере, величин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фактуре, тепловых характеристика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вкусовых качества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формирование представлений о звуковых характеристиках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S6300455"/>
          <p:cNvPicPr/>
          <p:nvPr/>
        </p:nvPicPr>
        <p:blipFill>
          <a:blip r:embed="rId7"/>
          <a:stretch/>
        </p:blipFill>
        <p:spPr>
          <a:xfrm>
            <a:off x="539640" y="1557360"/>
            <a:ext cx="322920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S6300452"/>
          <p:cNvPicPr/>
          <p:nvPr/>
        </p:nvPicPr>
        <p:blipFill>
          <a:blip r:embed="rId8"/>
          <a:stretch/>
        </p:blipFill>
        <p:spPr>
          <a:xfrm>
            <a:off x="539640" y="4076640"/>
            <a:ext cx="3229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азвитие реч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мение выделять речь взрослого из потока окружающих звук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мение понимать реч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мение слышать интонации реч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мение подражать правильной, выразительной речи взросл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пражнение в точном произношении звуков реч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условия для речевого творче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S6300453"/>
          <p:cNvPicPr/>
          <p:nvPr/>
        </p:nvPicPr>
        <p:blipFill>
          <a:blip r:embed="rId7"/>
          <a:stretch/>
        </p:blipFill>
        <p:spPr>
          <a:xfrm>
            <a:off x="468360" y="1413000"/>
            <a:ext cx="3479760" cy="2173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6300445"/>
          <p:cNvPicPr/>
          <p:nvPr/>
        </p:nvPicPr>
        <p:blipFill>
          <a:blip r:embed="rId8"/>
          <a:stretch/>
        </p:blipFill>
        <p:spPr>
          <a:xfrm>
            <a:off x="468360" y="4005360"/>
            <a:ext cx="34560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Эмоциональное развитие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Эмоции и чувства развиваются параллельно с другими сторонами личности. Однако, если не уделять внимание их развитию в раннем возрасте, эмоциональная сфера может остаться неразвит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*Трудно приходится взрослому человеку, который не научился в детстве радоваться и грустить, сочувствовать и наслаждаться красотой окружающего мир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S6300456"/>
          <p:cNvPicPr/>
          <p:nvPr/>
        </p:nvPicPr>
        <p:blipFill>
          <a:blip r:embed="rId3"/>
          <a:stretch/>
        </p:blipFill>
        <p:spPr>
          <a:xfrm>
            <a:off x="4067280" y="1052640"/>
            <a:ext cx="3097080" cy="227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S6300295"/>
          <p:cNvPicPr/>
          <p:nvPr/>
        </p:nvPicPr>
        <p:blipFill>
          <a:blip r:embed="rId4"/>
          <a:stretch/>
        </p:blipFill>
        <p:spPr>
          <a:xfrm>
            <a:off x="4067280" y="3716280"/>
            <a:ext cx="3151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4:46:22Z</dcterms:created>
  <dc:creator>COMP</dc:creator>
  <dc:description/>
  <dc:language>en-US</dc:language>
  <cp:lastModifiedBy>Тюфанова</cp:lastModifiedBy>
  <dcterms:modified xsi:type="dcterms:W3CDTF">2012-02-28T01:49:29Z</dcterms:modified>
  <cp:revision>6</cp:revision>
  <dc:subject/>
  <dc:title>ПРЕЗЕНТАЦИЯ ДЛЯ РОДИТЕЛЕЙ ГДОУ детский сад №54 комбинированного вида Приморского района Санкт-Петербурга</dc:title>
</cp:coreProperties>
</file>