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C36-E202-4A2C-91D5-9FB1149E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5F3-7C5A-432C-9901-D3EC59D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E05-9E2E-40C0-9E3B-A1C1AE9F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C44-C7AE-414E-8A80-B104205C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91F-DCAA-4259-BD7F-CF14E908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BFE5-F5CB-4CF6-9C9A-A4FB8A21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01C-071F-40D7-9FCE-76C1819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9F92-FE1B-4474-9B9B-9502E29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D1DC-BFEF-4CE0-A241-F4653BD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921B-204F-44DB-84BE-58C909E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9241-0C54-4851-91F3-83E2A80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A23-4E95-4BA2-AC56-D7D1CE19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986-9343-487D-A9CB-E209EFD5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6E2D-CCF7-48B5-A4DE-8B08853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BFC-3670-44C7-8E79-152CCB3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A8C-C4B4-46A8-B0AD-0CD38F37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FD4C-C224-4DF9-8BA9-DC7BE213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96C-CE12-46EF-A04F-9DD7BC95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73E-29DA-4AD2-B950-7602BCA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C81-E2F8-413D-B8B7-3BDE6C8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F6F-44C9-4A8E-A94C-DD4DB1F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130-59C0-46FA-9CC3-CD11365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315-9DE2-48EF-B832-389AF29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BEC-CDE1-4CA2-80DC-8AF6D2D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9245-1E47-4F32-A4EF-87577E011D6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7BC0-369E-4CD6-AE96-5F4E99B4563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5160" y="1782360"/>
            <a:ext cx="734076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968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одическое пособие по                                  логопедии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«Разноцве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круг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 № 5 Придумай слово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7" descr="Изображение 031"/>
          <p:cNvPicPr/>
          <p:nvPr/>
        </p:nvPicPr>
        <p:blipFill>
          <a:blip r:embed="rId1"/>
          <a:stretch/>
        </p:blipFill>
        <p:spPr>
          <a:xfrm>
            <a:off x="900000" y="2060640"/>
            <a:ext cx="1731960" cy="2308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3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ноцветные круги лежат на полу «дорожкой»  в заданном поряд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гопед предлагает прошагать по дорожке, придумывая слова, начинающийся на звук, ориентируясь на цвет кру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положить две дорожки, то можно провести соревнование между деть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 № 6 «Живые зву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№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гопед даёт установку нескольким детям, что после услышанного слова  один из них назовёт первый звук, следующий – второй звук, следующий ребёнок – третий звук и т.д. При этом дети должны взять подходящий по цвету круг и встать на него. Когда все дети займут свои места, называют ещё раз слитно все звуки, подавая при этом друг другу ру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№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гопед демонстрирует детям предметную картинку и дети сами проговаривают слово. Слова усложняются в зависимости от этапа об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втор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Косыгина Ольга Анатольев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ДОУ д/сад №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.Заполяр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урманской обла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73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Назначение  методического пособия «Разноцветные круг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5013360"/>
            <a:ext cx="80024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ирование и развитие фонематического восприят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ершенствование звукового анализа и синтез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слухового внимания и памя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ирование общей координации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9" descr="Изображение 025"/>
          <p:cNvPicPr/>
          <p:nvPr/>
        </p:nvPicPr>
        <p:blipFill>
          <a:blip r:embed="rId1"/>
          <a:stretch/>
        </p:blipFill>
        <p:spPr>
          <a:xfrm>
            <a:off x="3419640" y="2492280"/>
            <a:ext cx="2195280" cy="173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62064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Актуальность методического пособ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тие фонематического восприятия гарантирует качественное исправление произнош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тие фонематического восприятия и формирование звукового анализа и синтеза  положительно влияет на формирование всей фонетической стороны речи, в том числе слоговой структуры слов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тие фонематического восприятия лежит в основе работы по  формированию лексико-грамматических представлений, обучению чтению и пись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фонематического восприятия приводит к тому, что ребенок не воспринимает на слух (не дифференцирует) близкие по звучанию или сходные по артикуляции звуки речи. Его словарь не наполняется теми словами, в состав которых входят трудноразличимые зву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ое пособие предполагает двигательную активность и мотивацию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530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Описание методического пособия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«Разноцветные круг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8920" y="2276640"/>
            <a:ext cx="347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обие состоит из  кругов зелёного, синего и красного цвета диаметром 30 см, выполненных из пласт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вета этих кругов соответствуют условным обозначениям гласных и согласных звуков русского язы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кругов – по 5 – 6 каждого цв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8" descr="Изображение 022"/>
          <p:cNvPicPr/>
          <p:nvPr/>
        </p:nvPicPr>
        <p:blipFill>
          <a:blip r:embed="rId1"/>
          <a:stretch/>
        </p:blipFill>
        <p:spPr>
          <a:xfrm>
            <a:off x="2195640" y="3357720"/>
            <a:ext cx="161280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№ 1 «Найди место»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но проводить в виде соревнования межд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– 4 деть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цветные круги лежат на по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огопед предлагает детям послушать слова , определить в них первый звук и встать на круг подходящего цвета. Например,  «аист» - красный, «пень» - зелёный, а «мост» - синий кру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же можно попросить определить последний звук в слове и занять круг подходящего цве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9328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 № 2 «Подбери картин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10" descr="Изображение 027"/>
          <p:cNvPicPr/>
          <p:nvPr/>
        </p:nvPicPr>
        <p:blipFill>
          <a:blip r:embed="rId1"/>
          <a:stretch/>
        </p:blipFill>
        <p:spPr>
          <a:xfrm>
            <a:off x="1332000" y="3284640"/>
            <a:ext cx="2025720" cy="1731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4720" y="2060280"/>
            <a:ext cx="44640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ноцветные круги лежат на пол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наборном полотне 12-15 предметных картино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огопед предлагает детя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/ положить на красный круг картинки, начинающиеся       (или заканчивающиеся) на гласный зву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/ на зелёный круг – картинки на мягкий согласный зву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/ на синий круг – картинки на твёрдый согласный зву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место картинок могут быть игрушки или любые небольшие предме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могут выполнять дети а по очереди называя картинки ; б/ за каждым из детей может быть закреплён круг подходящего цве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 № 3 «Прошагай словечко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475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ноцветные круги лежат на пол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огопед предлагает детям послушать слово и прошагать по круга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бёнок называет звуки по порядку и встаёт или прыгает на кружок подходящего цвет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дание может выполнять один ребёнок, а остальные дети наблюд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дание могут выполнять  одновременно не более 3 детей (чтобы не столкнулись и не мешали друг другу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ова для анализа усложняются в зависимости от этапа обуч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ова могут заменяться предметными картинками, которые логопед не проговарив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Изображение 029"/>
          <p:cNvPicPr/>
          <p:nvPr/>
        </p:nvPicPr>
        <p:blipFill>
          <a:blip r:embed="rId1"/>
          <a:stretch/>
        </p:blipFill>
        <p:spPr>
          <a:xfrm>
            <a:off x="1258920" y="2781360"/>
            <a:ext cx="1731960" cy="2308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Игра № 4 «Отгадай слово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3384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ноцветные круги лежат на пол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огопед вызывает одного из детей и показывает ему предметную карти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бёнок проговаривает название картинки по одному звуку, прыга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на круг подходящего цв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ти должны соединить звуки в слово и отгадать, что изображено на картин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" descr="Изображение 028"/>
          <p:cNvPicPr/>
          <p:nvPr/>
        </p:nvPicPr>
        <p:blipFill>
          <a:blip r:embed="rId1"/>
          <a:stretch/>
        </p:blipFill>
        <p:spPr>
          <a:xfrm>
            <a:off x="4859280" y="2997360"/>
            <a:ext cx="2309760" cy="1730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1:15:33Z</dcterms:created>
  <dc:creator>КОЛЯ</dc:creator>
  <dc:description/>
  <dc:language>en-US</dc:language>
  <cp:lastModifiedBy>Косыгина</cp:lastModifiedBy>
  <dcterms:modified xsi:type="dcterms:W3CDTF">2012-02-28T19:33:10Z</dcterms:modified>
  <cp:revision>10</cp:revision>
  <dc:subject/>
  <dc:title>Методическое пособие</dc:title>
</cp:coreProperties>
</file>