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710-3984-4052-8D9E-172C89EA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216-8A5D-4FD7-9DBB-44002C1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B95-EA96-403A-90F3-58912608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C9A-7CA7-4416-8A6B-15BCAD7F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9C9-BD38-441F-869F-67B64E84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8EC-5CFE-4099-9140-05396087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1E2-D5F3-4467-B432-88F427C1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53C-50AF-4D68-806E-051F0855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D1B-BD45-4709-AEA6-A9A1FEDE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9F0-AC83-4FF2-BD64-F3F21A95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E0C-1AD6-407F-926B-944E2B25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6F9-9CC2-4049-A8C6-93E1986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9639-66A9-492D-89B4-FCD052D6F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80384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478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4008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ря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629040" y="160020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нк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34340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46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тиллер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4732560" cy="68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46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о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426708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1992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сан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44197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087" t="4292" r="1526" b="-2217"/>
          <a:stretch/>
        </p:blipFill>
        <p:spPr>
          <a:xfrm>
            <a:off x="762120" y="0"/>
            <a:ext cx="4655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91320" y="1599840"/>
            <a:ext cx="3124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те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46180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8T18:49:0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