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C75-1D55-48E6-825D-0740B4D2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CCD-DC29-41F1-90A1-DDB94D3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0C5-46F7-4BE2-911E-8EC7D48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99C-6A11-4D97-9811-D0D12A1E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65ED-B1E5-4759-87DA-885EF092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C8A-C90D-418C-AFCB-7D233D5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F083-B961-4D2E-8760-01733D4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28E9-2D34-4240-9F0E-EA7F33E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A9D-EA47-41CC-94B1-75504F3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03B5-80E1-40E5-8C36-4AE6E60B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B3B5-BAA9-4743-AFD9-20E7688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025-CADE-4F39-ACA8-7E05403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3EB8-F1A7-4088-9119-D69CE3E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1BE-2BF6-43CB-BA9A-BD9250F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093B-4726-4666-8DEC-CECF4163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3230-F19E-46C9-90FF-9BEF4706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1A65-5307-4BE7-BCEF-248925A1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9B6-960E-4E4A-B982-7758E09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2F2-F03F-4631-BACB-7D3D36F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646-9061-4438-A31E-5619D3C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8AB-5AC8-4B13-B999-0F36F14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E11-2576-4F64-BB08-E8CB566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2F7-F166-427F-85ED-4F15D02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B18-BD3E-460B-9375-C942921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C6C-33FA-40F6-9678-5DEAF9224D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B04-2A01-4868-87A1-5FBBE5BB79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pbfoto.spb.ru/foto/details.php?image_id=671&amp;sessionid=ma1j3b5hscltahtjp42jdtio46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dsbay.ru/egypt/images/egypt0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dsbay.ru/egypt/images/egypt1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dsbay.ru/egypt/images/egypt3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dsbay.ru/egypt/images/egypt2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dsbay.ru/egypt/images/egypt1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Религии Древнего Египт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одготовила группа №3 5 «в» класс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тах – творящий ми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Птах, творящий мир"/>
          <p:cNvPicPr/>
          <p:nvPr/>
        </p:nvPicPr>
        <p:blipFill>
          <a:blip r:embed="rId1"/>
          <a:stretch/>
        </p:blipFill>
        <p:spPr>
          <a:xfrm>
            <a:off x="685800" y="304920"/>
            <a:ext cx="3735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тум - бог солнц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2349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62720" y="277560"/>
            <a:ext cx="312408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нубис, один из богов мертвых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95280" y="685440"/>
            <a:ext cx="73915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ольшой храм в Карнаке по занимаемой им территории превосходил любое из известных культовых зданий. Как и в пирамидах, абсолютная величина храмов воплощала несокрушимость, символически выражая бессмертие фараона, государства и, наконец, самой душ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МПЛЕКС ХРАМОВ КАРНА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ХРАМ ДРЕВНЕЕГИПЕТСКОГО БОГА АМОНА-РА в Карнак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553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2667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ульт Исиды и Осириса – один из вариантов широко распространенного в древности земледельческого культа умирающего и воскресающего бога. Почитание Осириса было широко распространено во всем Египте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Египте с древнейших времен фараон считался богом. Именно по его указаниям строились храмы и возводились пирамиды. О могуществе фараонов также говорили сфинксы, такие, как представленный в этом разделе сфинкс-фараон Аменемхет III (XIX - XVIII вв. до н. э...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2388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248160" y="1599840"/>
            <a:ext cx="2438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Статуя фараона Аменемхета I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8440" y="457200"/>
            <a:ext cx="377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бу-Симбе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44956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бу-Симбел — скала на западном берегу Нила, в которой высечены два знаменитые древнеегипетские храма, основанные Рамзесом II (1388—22 до н. э... Эти храмы очень сильно отличаются от традиционных заупокойных храмов и гробниц фараонов. Храмы (большой и малый) действительно необычны. Рамзес вырубил их в скалах над самой поверхностью Нил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Боги Древнего Егип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тавлено по гелиопольской космогони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ун – изначальный, бесконечный хао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еликая Девятка бог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ва раза в год -22 февраля и 22 октября - в Абу-Симбеле можно наблюдать чудо: в 6 часов утра первый луч солнца проникает через входной портал и освещает коридор длиной 65 м, ведущий к культовой нише святилища, на Амоне-Ра он задерживается 6 минут, затем в течение 12 минут ярко освещает Рамзеса II. Считается, что 22 февраля - день рождения Рамзеса, а 22 октября - день его коронаци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88620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4767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Раскрыты тайны болезни и смерти фараона Тутанхамона"/>
          <p:cNvPicPr/>
          <p:nvPr/>
        </p:nvPicPr>
        <p:blipFill>
          <a:blip r:embed="rId1"/>
          <a:stretch/>
        </p:blipFill>
        <p:spPr>
          <a:xfrm>
            <a:off x="304920" y="609480"/>
            <a:ext cx="4836960" cy="5791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сле смерти Эхнатона все вернулась на круги своя. И новый правитель Тутанхатон сменил им на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Тутанхамо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именно под этим именем он более известен в истории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29200" y="121896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Эхнатон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26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таршие боги великой девятки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тон ("диск солнца"), в египетской мифологии бог - олицетворение солнечного диска. Расцвет культа этого бога относится ко времени царствования Аменхотепа IV (1368 — 1351 гг. до н. э.). В начале его правления Атон выступал как воплощение всех главных богов солнца. Затем Аменхотеп IV объявил Атона единым богом всего Египта, запретив поклонение другим бога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Бог Ат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47920"/>
            <a:ext cx="4019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1120" y="2666520"/>
            <a:ext cx="4572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Шу – бог воздух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Шу"/>
          <p:cNvPicPr/>
          <p:nvPr/>
        </p:nvPicPr>
        <p:blipFill>
          <a:blip r:embed="rId1"/>
          <a:stretch/>
        </p:blipFill>
        <p:spPr>
          <a:xfrm>
            <a:off x="533520" y="1409760"/>
            <a:ext cx="31669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520" y="277920"/>
            <a:ext cx="487692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ефнут–Маат – богиня мирового порядка, влаги и око Ра (хранительница справедливости и законов)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Богиня Маат"/>
          <p:cNvPicPr/>
          <p:nvPr/>
        </p:nvPicPr>
        <p:blipFill>
          <a:blip r:embed="rId1"/>
          <a:stretch/>
        </p:blipFill>
        <p:spPr>
          <a:xfrm>
            <a:off x="380880" y="685800"/>
            <a:ext cx="359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81120" y="277560"/>
            <a:ext cx="350532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б – бог неба (сын Шу и Тефнут, изначально был богом земли)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Ге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133720"/>
            <a:ext cx="4800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ладшие боги великой девятки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ет – сын Геба, облик: звериная морда, красные глаза и волосы, повелитель стихийных бедствий и войн, бог мёртвой пустын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Бог С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95280"/>
            <a:ext cx="3359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сирис – сын Ра, изначально земной владыка, царь загробного мира, «солнце мертвых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Бог Осири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990720"/>
            <a:ext cx="3426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9520" y="838080"/>
            <a:ext cx="4876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зида – дочь Тота и Нут, богиня супружеской жизни, материнства и любви, жена Осириса, обучила людей магии. Помимо всего перечисленного возможно использование в ритуалах, как символ скорби и печали из-за ее судьбы (например, как в Ритуале Гексаграммы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Богиня Иси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341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bl</cp:lastModifiedBy>
  <dcterms:modified xsi:type="dcterms:W3CDTF">2010-12-23T09:39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