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10A-8F06-4B93-AC6A-6542E3F6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E72-1D3C-4813-A2FE-F1912961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C7A4-ED7E-4360-AB97-268DF5AA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800-80D3-46B9-948A-3567E2EF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ABD-F755-4801-8EE9-27A4CD62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C02-7A5A-4A25-8571-67B442DC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3B04-D16C-4E1D-92FA-F4FF505F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DEF-88F4-4E80-8AB2-7B9C1DD0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74E-4EBC-444B-AD45-87383DEB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FE2E-3B11-496D-9626-13D363CC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408-EDD6-4622-A31A-6F6CC9AD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C8A-334C-4CD6-AE0F-56974E1A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9463-4906-405B-B673-2200CFB066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9900"/>
                </a:solidFill>
                <a:latin typeface="Monotype Corsiva"/>
              </a:rPr>
              <a:t>Родители-первые учителя дете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2843280" y="33336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2050920" y="333360"/>
            <a:ext cx="70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ОУ «СОШ №3» города Краснокам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16360" y="4653000"/>
            <a:ext cx="4384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аботу выполнила: учитель   начальных классов Кондрашина А.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2843280" y="60930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раснокамск 2006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01-Track.mp3" descr=""/>
          <p:cNvPicPr/>
          <p:nvPr/>
        </p:nvPicPr>
        <p:blipFill>
          <a:blip r:embed="rId1"/>
          <a:stretch/>
        </p:blipFill>
        <p:spPr>
          <a:xfrm>
            <a:off x="824400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ff6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MCj03981590000[1]"/>
          <p:cNvPicPr/>
          <p:nvPr/>
        </p:nvPicPr>
        <p:blipFill>
          <a:blip r:embed="rId1"/>
          <a:stretch/>
        </p:blipFill>
        <p:spPr>
          <a:xfrm>
            <a:off x="6372360" y="3284640"/>
            <a:ext cx="2771640" cy="331308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12"/>
          <p:cNvSpPr/>
          <p:nvPr/>
        </p:nvSpPr>
        <p:spPr>
          <a:xfrm rot="20357400">
            <a:off x="721800" y="858960"/>
            <a:ext cx="5099040" cy="5141880"/>
          </a:xfrm>
          <a:prstGeom prst="wedgeRoundRectCallout">
            <a:avLst>
              <a:gd name="adj1" fmla="val 70833"/>
              <a:gd name="adj2" fmla="val 3519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защищайте меня от собственных ошибок. Я тоже учусь на собственном опы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давайте обещаний, которых вы не можете выполнить- это поколеблет мою веру в вас.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поправляйте меня в присутствии посторонних людей. Скажите мне спокойно с глазу на глаз. Я пойму луч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яйте в ребёнке инициати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яйте интерес к его де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мательно выслушивайте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ще хвалите своего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уйтесь вашему ребё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ьте терпели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жите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050920" y="836640"/>
            <a:ext cx="4249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"/>
              </a:rPr>
              <a:t>Делать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MCj04077840000[1]"/>
          <p:cNvPicPr/>
          <p:nvPr/>
        </p:nvPicPr>
        <p:blipFill>
          <a:blip r:embed="rId2"/>
          <a:stretch/>
        </p:blipFill>
        <p:spPr>
          <a:xfrm>
            <a:off x="5508720" y="2349360"/>
            <a:ext cx="3635280" cy="4508640"/>
          </a:xfrm>
          <a:prstGeom prst="rect">
            <a:avLst/>
          </a:prstGeom>
          <a:ln w="0">
            <a:noFill/>
          </a:ln>
        </p:spPr>
      </p:pic>
      <p:sp>
        <p:nvSpPr>
          <p:cNvPr id="72" name="WordArt 10"/>
          <p:cNvSpPr txBox="1"/>
          <p:nvPr/>
        </p:nvSpPr>
        <p:spPr>
          <a:xfrm>
            <a:off x="395280" y="0"/>
            <a:ext cx="799308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Impact"/>
              </a:rPr>
              <a:t>делать или не делать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2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инуждайте ребёнка делать то, к чему он не го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критикуйте его в присутствии друг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равнивайте его с другими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еребивайте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щайтесь с ним так, как подсказывает родительское серд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971640" y="0"/>
            <a:ext cx="6985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Impact"/>
              </a:rPr>
              <a:t>делать или не делать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340000" y="105264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Не дела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2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99ff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0066ff"/>
                </a:solidFill>
                <a:latin typeface="Arial"/>
              </a:rPr>
              <a:t>Заповеди для родителе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Не жди, что твой ребёнок будет таким, как ты, или таким, как ты хочешь. Помоги ему стать не тобой, а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Не требуй от ребёнка платы за всё, что ты для него сдел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Не вымещай на ребёнке свои обиды, чтобы в старости не есть горький хле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Не относись к его проблемам свысока. Жизнь дана каждому по силам, и будь уверен - ему она тяжела не меньше, а больше, поскольку у него нет опы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Не униж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ff99"/>
            </a:gs>
            <a:gs pos="100000">
              <a:srgbClr val="cc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Не мучь себя, если не можешь сделать что–то для своего ребёнка. Мучь, если можешь, но не дела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Ребёнок-это не тиран, это драгоценная чаша, которую Жизнь дала тебе на хранение и развитие в нём творческого ог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Умей любить чужого ребёнка. Никогда не делай чужому то, что не хотел бы, чтобы делали тво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Люби своего ребёнка любым–взрослым, неталантливым, неудачли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Общаясь с ним, радуйся, потому что ребёнок-это праздник, который пока с тоб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00"/>
            </a:gs>
            <a:gs pos="100000">
              <a:srgbClr val="ff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Добр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Cj04106850000[1]"/>
          <p:cNvPicPr/>
          <p:nvPr/>
        </p:nvPicPr>
        <p:blipFill>
          <a:blip r:embed="rId1"/>
          <a:stretch/>
        </p:blipFill>
        <p:spPr>
          <a:xfrm>
            <a:off x="4859280" y="3573360"/>
            <a:ext cx="4284720" cy="3284640"/>
          </a:xfrm>
          <a:prstGeom prst="rect">
            <a:avLst/>
          </a:prstGeom>
          <a:ln w="0">
            <a:noFill/>
          </a:ln>
        </p:spPr>
      </p:pic>
      <p:sp>
        <p:nvSpPr>
          <p:cNvPr id="81" name="WordArt 9"/>
          <p:cNvSpPr txBox="1"/>
          <p:nvPr/>
        </p:nvSpPr>
        <p:spPr>
          <a:xfrm rot="19959600">
            <a:off x="395280" y="1773000"/>
            <a:ext cx="1886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лоде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WordArt 10"/>
          <p:cNvSpPr txBox="1"/>
          <p:nvPr/>
        </p:nvSpPr>
        <p:spPr>
          <a:xfrm rot="826800">
            <a:off x="6804000" y="1628280"/>
            <a:ext cx="194472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мниц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11"/>
          <p:cNvSpPr txBox="1"/>
          <p:nvPr/>
        </p:nvSpPr>
        <p:spPr>
          <a:xfrm rot="873600">
            <a:off x="250560" y="5589360"/>
            <a:ext cx="34192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 горжусь тобо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WordArt 12"/>
          <p:cNvSpPr txBox="1"/>
          <p:nvPr/>
        </p:nvSpPr>
        <p:spPr>
          <a:xfrm rot="688800">
            <a:off x="5435280" y="2781000"/>
            <a:ext cx="333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ы хороший друг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WordArt 13"/>
          <p:cNvSpPr txBox="1"/>
          <p:nvPr/>
        </p:nvSpPr>
        <p:spPr>
          <a:xfrm rot="20896200">
            <a:off x="611280" y="2565000"/>
            <a:ext cx="2952720" cy="95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я верю в теб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86" name="WordArt 14"/>
          <p:cNvSpPr txBox="1"/>
          <p:nvPr/>
        </p:nvSpPr>
        <p:spPr>
          <a:xfrm>
            <a:off x="3059280" y="981000"/>
            <a:ext cx="2647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я люблю теб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7" name="WordArt 15"/>
          <p:cNvSpPr txBox="1"/>
          <p:nvPr/>
        </p:nvSpPr>
        <p:spPr>
          <a:xfrm>
            <a:off x="2195640" y="4869000"/>
            <a:ext cx="28288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ы побед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88" name="WordArt 16"/>
          <p:cNvSpPr txBox="1"/>
          <p:nvPr/>
        </p:nvSpPr>
        <p:spPr>
          <a:xfrm>
            <a:off x="2556000" y="4076640"/>
            <a:ext cx="2638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ы уникал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9" name="WordArt 19"/>
          <p:cNvSpPr txBox="1"/>
          <p:nvPr/>
        </p:nvSpPr>
        <p:spPr>
          <a:xfrm rot="20393400">
            <a:off x="0" y="4436640"/>
            <a:ext cx="2762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 уважаю тебя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WordArt 20"/>
          <p:cNvSpPr txBox="1"/>
          <p:nvPr/>
        </p:nvSpPr>
        <p:spPr>
          <a:xfrm rot="21105600">
            <a:off x="250920" y="2997360"/>
            <a:ext cx="41716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37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 тебя всё получитс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37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00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3280" y="1197000"/>
            <a:ext cx="450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ёнок должен чувствовать себя любимым, успешным. Успех, как известно, рождает успех.        Говорите ему чаще о том, как Вы его любите, и он тоже  ответит Вам любов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MCj04046990000[1]"/>
          <p:cNvPicPr/>
          <p:nvPr/>
        </p:nvPicPr>
        <p:blipFill>
          <a:blip r:embed="rId1"/>
          <a:stretch/>
        </p:blipFill>
        <p:spPr>
          <a:xfrm>
            <a:off x="0" y="4944960"/>
            <a:ext cx="2448000" cy="1913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4"/>
          <p:cNvSpPr/>
          <p:nvPr/>
        </p:nvSpPr>
        <p:spPr>
          <a:xfrm>
            <a:off x="7308360" y="616572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-35-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2771640" y="547848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скренне  Ваша   Кондрашина Ан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6" descr=""/>
          <p:cNvPicPr/>
          <p:nvPr/>
        </p:nvPicPr>
        <p:blipFill>
          <a:blip r:embed="rId2"/>
          <a:srcRect l="0" t="0" r="-26" b="0"/>
          <a:stretch/>
        </p:blipFill>
        <p:spPr>
          <a:xfrm rot="21067800">
            <a:off x="1062000" y="611280"/>
            <a:ext cx="2771640" cy="46479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66ff99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Дети должны жить в мире красоты, игры ,сказки, музыки, рисунка, фантазии, творчества. Этот мир должен окружать ребёнка и тогда, когда мы хотим научить его читать и писать. От того, как ребёнок будет чувствовать себя, поднимаясь на первую ступеньку лестницы познания, что он будет переживать, зависит весь его дальнейший путь к знаниям.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292720" y="6093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(В.А.Сухомли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Elephant"/>
              </a:rPr>
              <a:t>Как развивать речь ребён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а речь должна быть примером для подраж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а речь должна быть чёт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райтесь изолировать ребёнка от просмотра телешоу, фильмов, песен, разговоров с детьми, которые научат их неприемлемым нормам языка и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Как родители могут помочь своим детям уч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тесь заниматься регулярно в одно и тож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ивайте интересы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йте ребёнку новый материал для речев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яйте ребёнка в его стремлении самостоятельно исправлять свои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обряйте применение знаний 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Роль родителей в развитии у детей мыш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развивать мышление, предлагайте детям те предметы, которые дают возможность делать что-либо новое, экспериментир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агайте им строительный материал, головоломки, мозаики, природный матери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бывайте про наблюдения за животными и насекомыми; изготовление игрушек из лоскутков, ракушек, листьев, поездки в муз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01840" y="1557000"/>
            <a:ext cx="5041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ий способ заинтересовать ребёнка чтением - ежедневно читать ему и вместе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те и обсуждайте с ним прочита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яйте знакомые истории снова и сн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айте библиотеку, покупайте новые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дети читают"/>
          <p:cNvPicPr/>
          <p:nvPr/>
        </p:nvPicPr>
        <p:blipFill>
          <a:blip r:embed="rId2"/>
          <a:stretch/>
        </p:blipFill>
        <p:spPr>
          <a:xfrm>
            <a:off x="395280" y="3213000"/>
            <a:ext cx="3382920" cy="3003480"/>
          </a:xfrm>
          <a:prstGeom prst="rect">
            <a:avLst/>
          </a:prstGeom>
          <a:ln w="0">
            <a:noFill/>
          </a:ln>
        </p:spPr>
      </p:pic>
      <p:sp>
        <p:nvSpPr>
          <p:cNvPr id="57" name="WordArt 7"/>
          <p:cNvSpPr txBox="1"/>
          <p:nvPr/>
        </p:nvSpPr>
        <p:spPr>
          <a:xfrm>
            <a:off x="333360" y="333360"/>
            <a:ext cx="8477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ль родителей в обучении детей чтени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b0dc8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44701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время, чтобы заниматься с ребё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готовьте для этого карандаши, ручки, бума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айтесь не замечать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ще хвалите за всё, что он пиш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те с ним письма, открытки друзь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ывайте названия вывесок, игру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MCj03433630000[1]"/>
          <p:cNvPicPr/>
          <p:nvPr/>
        </p:nvPicPr>
        <p:blipFill>
          <a:blip r:embed="rId1"/>
          <a:stretch/>
        </p:blipFill>
        <p:spPr>
          <a:xfrm>
            <a:off x="5811840" y="3213000"/>
            <a:ext cx="2720880" cy="2880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8"/>
          <p:cNvSpPr txBox="1"/>
          <p:nvPr/>
        </p:nvSpPr>
        <p:spPr>
          <a:xfrm>
            <a:off x="352440" y="333360"/>
            <a:ext cx="84391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ль родителей в обучении детей письму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ccff99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яя любознательность детей вы тем самым помогаете  приобрести им навыки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ые шесть лет своей жизни дети учатся больше, чем за всю остальную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о знать, как и во что играть с детьми. Игра и домашние занятия помогают в учё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 чему Вы их научили до школы, является солидным фундаментом для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0"/>
          <p:cNvSpPr txBox="1"/>
          <p:nvPr/>
        </p:nvSpPr>
        <p:spPr>
          <a:xfrm>
            <a:off x="1908000" y="476280"/>
            <a:ext cx="52768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заниматься с детьм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ff6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Памятка родителям от 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MCj03981590000[1]"/>
          <p:cNvPicPr/>
          <p:nvPr/>
        </p:nvPicPr>
        <p:blipFill>
          <a:blip r:embed="rId1"/>
          <a:stretch/>
        </p:blipFill>
        <p:spPr>
          <a:xfrm>
            <a:off x="6300720" y="3141720"/>
            <a:ext cx="2882880" cy="331164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8"/>
          <p:cNvSpPr/>
          <p:nvPr/>
        </p:nvSpPr>
        <p:spPr>
          <a:xfrm rot="20902200">
            <a:off x="396360" y="1289160"/>
            <a:ext cx="5124600" cy="5160960"/>
          </a:xfrm>
          <a:prstGeom prst="wedgeRoundRectCallout">
            <a:avLst>
              <a:gd name="adj1" fmla="val 83208"/>
              <a:gd name="adj2" fmla="val 15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беспокойтесь, что мы проводим вместе слишком мало времени. Для меня важнее то, как мы его провод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пытайтесь от меня отделаться когда я задаю откровенные вопросы. Если вы не будете на них отвечать, я вообще перестану их вам задавать и буду искать информацию где-то на стороне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2:33:25Z</dcterms:created>
  <dc:creator>oem</dc:creator>
  <dc:description/>
  <dc:language>en-US</dc:language>
  <cp:lastModifiedBy>Пользователь Windows</cp:lastModifiedBy>
  <dcterms:modified xsi:type="dcterms:W3CDTF">2012-02-28T12:36:45Z</dcterms:modified>
  <cp:revision>3</cp:revision>
  <dc:subject/>
  <dc:title>Родители-первые учителя детей</dc:title>
</cp:coreProperties>
</file>