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1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EBD-C22C-4080-8EF6-B147E48F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702-352B-468C-9D8A-DAE43F43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25A-5E3B-4EE0-A65F-4DB05997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536-616C-4251-94E4-F27F7642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E0C7-D862-458B-A274-C14FDF13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D9E7-C154-495C-9D06-50E3D54E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3804-3741-48B4-BA0A-24A0077B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1669-8FE9-4EF1-B1A8-CAE54F63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1C18-AA54-4B71-87C4-48CC62CB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7814-BB02-49E8-B816-A4EE807D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00A2-6F6A-45DD-8E8F-F1CD4AA9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8C2-6AF6-44D7-AFA6-46053BDA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0D28-392B-49C9-83A3-1D7F8576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024F-6CBD-4F8C-9B01-643F87F7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35F8-C044-4AFA-A616-307C336D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5803-050A-40AF-B106-E0A7993C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DFFB-AAFF-41A2-A0A5-AE40306D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404-04CB-434B-B154-ED67AB9C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F1F-6B70-4305-9DEC-054B2C77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AB1-3A6D-4BFA-A7E8-16FA3DA7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51D-1B2B-4A55-9744-5BDF1461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4E4-D678-4097-83A4-67ECEC2C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23B-75CF-4933-A416-52877E1B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012-A917-43AC-A8C1-B9BD0E07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0121-6CFE-4EA4-A801-8E1EA51765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55BC-ACB6-430F-8F98-019FA0A1B55B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Сохранение и укрепление здоровья детей в условиях современного образования.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з опыта работы Калугиной Татьяны Геннадиевны учителя начальных классов ГОБС(К)ОУ школы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II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вида №7 Великого Новгород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00"/>
                </a:solidFill>
                <a:latin typeface="Times New Roman"/>
              </a:rPr>
              <a:t>Упражнения с циферблатом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3962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Упираясь кончиком носа в центр круга,посмотрите двумя глазами на отметку 12 часов 2-3 сек., в центр круг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Затем 1, затем опять в центр и т.д. перевести взгляд на отметку Упражнения выполняйте 3-4 раза по часовой стрелке и против часовой стрелк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6" descr="F:\Германия документы\2\7.gif"/>
          <p:cNvPicPr/>
          <p:nvPr/>
        </p:nvPicPr>
        <p:blipFill>
          <a:blip r:embed="rId1"/>
          <a:stretch/>
        </p:blipFill>
        <p:spPr>
          <a:xfrm>
            <a:off x="685800" y="1143000"/>
            <a:ext cx="3429000" cy="3208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F:\Германия документы\2\5.jpg"/>
          <p:cNvPicPr/>
          <p:nvPr/>
        </p:nvPicPr>
        <p:blipFill>
          <a:blip r:embed="rId2"/>
          <a:stretch/>
        </p:blipFill>
        <p:spPr>
          <a:xfrm>
            <a:off x="609480" y="4191120"/>
            <a:ext cx="38102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Упражнения для развития аккомодаци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imes New Roman"/>
              </a:rPr>
              <a:t>«Метка на стекле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imes New Roman"/>
              </a:rPr>
              <a:t>Детям дается задание фиксировать взгляд на «метке» (это может быть кружок из красной бумаги около 5мм в диаметре на оконном стекле) в течение 5 сек., а затем на отдаленных предметах (дом, дерево и т.д.) Длительность тренировки для каждого глаза от 1 до 3 мин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4" descr="C:\Documents and Settings\fio\Мои документы\Мои рисунки\iоко.jpg"/>
          <p:cNvPicPr/>
          <p:nvPr/>
        </p:nvPicPr>
        <p:blipFill>
          <a:blip r:embed="rId1"/>
          <a:stretch/>
        </p:blipFill>
        <p:spPr>
          <a:xfrm>
            <a:off x="6477120" y="5334120"/>
            <a:ext cx="16002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00"/>
                </a:solidFill>
                <a:latin typeface="Times New Roman"/>
              </a:rPr>
              <a:t>Упражнения для профилактики нарушений зрени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Глазами нарисовать 6 кругов по часовой стрелке и 6 кругов против часовой стрелки.(вместо кругов-ромбы треугольники и т.д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Написать глазами числа от 0 до 9. Число 10, 12,1 и т.п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Зажмурив левый глаз, правым написать нечетные числа от 1 до9, затем правый закрыть,а левым написать четные числа от 2 до 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Написать глазами имя, фамилию,день недели, месяц, дату и т.п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Нарисовать глазами пружинку, зигзаг слева направо и</a:t>
            </a:r>
            <a:r>
              <a:rPr b="0" i="1" lang="ru-RU" sz="2400" spc="-1" strike="noStrike">
                <a:solidFill>
                  <a:srgbClr val="ffffcc"/>
                </a:solidFill>
                <a:latin typeface="Times New Roman"/>
              </a:rPr>
              <a:t> справа налево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Квазиоптические очк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Квазиоптические очки рекомендуются детям с близорукостью, дальнозоркостью, астигматизмом и т.д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Ношение КОО значительно повышает остроту зрения и контрастность зрительного восприятия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КОО обладают защитными свойствами от компьютерных излучени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6" descr="F:\Германия документы\2\2.jpg"/>
          <p:cNvPicPr/>
          <p:nvPr/>
        </p:nvPicPr>
        <p:blipFill>
          <a:blip r:embed="rId1"/>
          <a:stretch/>
        </p:blipFill>
        <p:spPr>
          <a:xfrm>
            <a:off x="4572000" y="2438280"/>
            <a:ext cx="42670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Настольные конторк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Высота конторки регулируется в соответствии с ростом ребенка посредством выдвижных ножек-стоек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Учащиеся ,меняясь местами, работают то стоя, то сид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6" descr="F:\Германия документы\2\1.jpg"/>
          <p:cNvPicPr/>
          <p:nvPr/>
        </p:nvPicPr>
        <p:blipFill>
          <a:blip r:embed="rId1"/>
          <a:stretch/>
        </p:blipFill>
        <p:spPr>
          <a:xfrm>
            <a:off x="228600" y="2438280"/>
            <a:ext cx="44956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Автор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алугина Татьяна Геннадиевн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Учитель начальной школы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ГОБС(К)ОУ школы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II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вида №7 Великого Новгорода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6" descr="F:\Германия документы\2\4.jpg"/>
          <p:cNvPicPr/>
          <p:nvPr/>
        </p:nvPicPr>
        <p:blipFill>
          <a:blip r:embed="rId1"/>
          <a:stretch/>
        </p:blipFill>
        <p:spPr>
          <a:xfrm>
            <a:off x="1235160" y="1981080"/>
            <a:ext cx="270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Здоровый человек есть самое драгоценное произведение природы»  </a:t>
            </a:r>
            <a:br>
              <a:rPr sz="3200"/>
            </a:br>
            <a:r>
              <a:rPr b="1" i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Т.Карлейль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3200" y="2133720"/>
            <a:ext cx="719604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данной работе представлены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актические рекомендации по созданию сохраняющих здоровье условий воспитания и обучения детей с особыми образовательными потребностя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анный опыт может быть использован как в специальных (коррекционных), так и в общеобразовательных учреждениях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Актуальность</a:t>
            </a: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 данным Института возрастной физиологии РАО, за период обучения в школе у детей в 5 раз возрастает частота нарушений зрения и осанки, в 4 раза – психоневрологических отклонений, в 3 раза – патология органов пищеварени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облемы оздоровления обучающихся стали весьма актуальными и по причине резкого ухудшения состояния здоровья детей. Врачи-педиатры отмечают, что рождение здорового ребенка сегодня – это исключение из правил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Охранительный педагогический режим учебного процесса в начальной школе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покойный ровный тон учителя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авильное дозирование учебной нагрузки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оведение физкультминуток, количество которых не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ограничено и зависит от степени утомления учащихся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спользование во время уроков зрительных тренажеров по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истеме В.Ф.Базарного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спользование специальных упражнений для профилактики нарушений зрения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вазиоптические очки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етодика смены динамических поз (парты оборудованы конторками, и ученики могут по своему желанию и по указанию учителя заниматься сидя и стоя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обучение в режиме «зрительных горизонтов» (удаление дидактического материала соразмерно остроте зрения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Физкультминутки</a:t>
            </a:r>
            <a:r>
              <a:rPr b="0" i="1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Физкультминутки могут быть очень разными и зависят от целей данного урока.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C:\Documents and Settings\fio\Мои документы\Мои рисунки\макака.jpg"/>
          <p:cNvPicPr/>
          <p:nvPr/>
        </p:nvPicPr>
        <p:blipFill>
          <a:blip r:embed="rId1"/>
          <a:stretch/>
        </p:blipFill>
        <p:spPr>
          <a:xfrm>
            <a:off x="2743200" y="3429000"/>
            <a:ext cx="3962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азвитие внимания «Веселые человечки»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imes New Roman"/>
              </a:rPr>
              <a:t>Учитель показывае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imes New Roman"/>
              </a:rPr>
              <a:t>карточки с изображением  человечков, а дети должны повторить те движения, которые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cc"/>
                </a:solidFill>
                <a:latin typeface="Times New Roman"/>
              </a:rPr>
              <a:t>изображены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icture 6" descr="F:\Германия документы\2\6.gif"/>
          <p:cNvPicPr/>
          <p:nvPr/>
        </p:nvPicPr>
        <p:blipFill>
          <a:blip r:embed="rId1"/>
          <a:stretch/>
        </p:blipFill>
        <p:spPr>
          <a:xfrm>
            <a:off x="5715000" y="1981080"/>
            <a:ext cx="164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Пространственные представления – физкультминутки в стихах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ы в строю шагаем браво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-2-3 (маршируют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се науки познае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налево, и направо (движения руками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, конечно же, кругом (поворачиваются через левое плечо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то правая рука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то левая рука (показывают соответствующие руки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то правая нога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то левая нога. (топают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очередно ногами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5" descr="C:\Documents and Settings\fio\Мои документы\Мои рисунки\чичи.jpg"/>
          <p:cNvPicPr/>
          <p:nvPr/>
        </p:nvPicPr>
        <p:blipFill>
          <a:blip r:embed="rId1"/>
          <a:stretch/>
        </p:blipFill>
        <p:spPr>
          <a:xfrm>
            <a:off x="4648320" y="2209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азвитие мелкой моторики рук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33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гры - потешк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тот пальчик-дедушка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тот пальчик-бабушка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тот пальчик-папочка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тот пальчик-мамочка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тот пальчик-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едлагается детям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загибать и разгибать в кулачок пальчики как левой. Так и правой рук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пражнения без речевого сопровождения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Пальчики здороваются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Человечек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Слоненок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Домик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Лодка</a:t>
            </a:r>
            <a:r>
              <a:rPr b="1" i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7" descr="C:\Documents and Settings\fio\Мои документы\Мои рисунки\пальчики.jpg"/>
          <p:cNvPicPr/>
          <p:nvPr/>
        </p:nvPicPr>
        <p:blipFill>
          <a:blip r:embed="rId1"/>
          <a:stretch/>
        </p:blipFill>
        <p:spPr>
          <a:xfrm>
            <a:off x="7315200" y="4038480"/>
            <a:ext cx="1558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Зрительные тренажеры по методике В.Ф.Базарного.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Дети,фиксируя взором траектории,вначале учатся «обходить» схемы-траектории глазами, а затем «оббегать»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Необходимо выполнить каждое упражнение 10-15 раз по порядку номеров. Движения глаз можно сочетать с движениями головы и туловищ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6" descr="C:\Documents and Settings\fio\Мои документы\Мои рисунки\схема.gif"/>
          <p:cNvPicPr/>
          <p:nvPr/>
        </p:nvPicPr>
        <p:blipFill>
          <a:blip r:embed="rId1"/>
          <a:stretch/>
        </p:blipFill>
        <p:spPr>
          <a:xfrm>
            <a:off x="457200" y="2666880"/>
            <a:ext cx="4495680" cy="2792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1676520" y="15238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imes New Roman"/>
              </a:rPr>
              <a:t>Схема универсальных символо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5:49:34Z</dcterms:created>
  <dc:creator>fio</dc:creator>
  <dc:description/>
  <dc:language>en-US</dc:language>
  <cp:lastModifiedBy>uzer</cp:lastModifiedBy>
  <dcterms:modified xsi:type="dcterms:W3CDTF">2012-02-28T13:45:23Z</dcterms:modified>
  <cp:revision>14</cp:revision>
  <dc:subject/>
  <dc:title>Сохранение и укрепление здоровья детей в условиях современного образования. </dc:title>
</cp:coreProperties>
</file>