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F8A-EFE8-4778-9777-1164BBBF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CD2-1138-4CD5-8C69-92EF4EAC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2E9-4029-40E8-A4C3-8FF7BD6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030-6D03-44FE-ACDC-2965CF2C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FAD-EA8B-47AE-9515-1A6E02D8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AD8C-61D0-4BAA-8155-127879A2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0BFA-2838-4F74-B8BC-C6B3474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4B13-DEEB-4F8C-9B58-DE80665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76F5-CB40-4D48-88F7-22F94724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6472-4A11-4F43-9C7D-C63E664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130-F99B-4141-ABAC-8ECC9B4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631-0C7C-4592-9007-7D27031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1F8-A4BC-434E-A885-929CC43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9F4-BBD4-4233-A47E-33FE66B1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59E-4AB4-4543-855A-8A987D2B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BF1-34A6-4E73-A965-33498DC1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4EA1-4AD3-4AC6-B1A0-56A8EE30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D5D-C352-49A3-9810-6994D16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861-1E52-43AC-AC78-A6FC1729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6C5-94FA-4991-959B-0FCCF48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E73-6DE9-42B0-A27D-D8A3B714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B20-6B53-4C42-BFCB-5E36DEA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0ED-B8B1-461F-8825-1B71643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577-C86B-4FAC-B988-69C8B0A7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185-1398-4C16-96EB-C054D3FB4B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D496-3815-468A-B807-F5388B11FA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ерстак, его устройство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5120" y="1208160"/>
            <a:ext cx="525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относят к инструментам, а что к оборудованию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25800" y="1285920"/>
            <a:ext cx="858600" cy="1941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384200" y="1111320"/>
            <a:ext cx="385920" cy="2130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806400" cy="1806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258840" y="3843360"/>
            <a:ext cx="425520" cy="2179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2907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6248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021040" y="4662360"/>
            <a:ext cx="2246040" cy="966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990720" y="3925800"/>
            <a:ext cx="728640" cy="22273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124080" y="5729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31840" y="6248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05360" y="22860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- ножов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1523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кия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1447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стам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21337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топ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напи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27432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– пила лучк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114800"/>
            <a:ext cx="25909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410080"/>
            <a:ext cx="28195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3352680"/>
            <a:ext cx="2361960" cy="685800"/>
          </a:xfrm>
          <a:prstGeom prst="wedgeRoundRectCallout">
            <a:avLst>
              <a:gd name="adj1" fmla="val 128425"/>
              <a:gd name="adj2" fmla="val 6342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505320"/>
            <a:ext cx="2362320" cy="685800"/>
          </a:xfrm>
          <a:prstGeom prst="wedgeRoundRectCallout">
            <a:avLst>
              <a:gd name="adj1" fmla="val 88842"/>
              <a:gd name="adj2" fmla="val 22870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соответствие инструмента с технологической операци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9720" y="15238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Руба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5053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Б – инструмент для строгания древес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8880" y="1523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там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3505320"/>
            <a:ext cx="243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В – служит для выдалбливания неглубоких отверстий и гнезд, снятия тонкого слоя древесины, подрезания, срезки фасок и т. 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8960" y="1523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Кия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5053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А – деревянный или резиновый инструмент, служащий для нанесения ударов  по черенку долота, иногда и стаме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11 L -0.35 -0.19542 E">
                                      <p:cBhvr>
                                        <p:cTn id="46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19981 L -0.34166 -0.19542 E">
                                      <p:cBhvr>
                                        <p:cTn id="46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52 0.1709 L 0.60416 -0.19103 E">
                                      <p:cBhvr>
                                        <p:cTn id="473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соответствие инструмента с технологической операци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2160" y="15238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Шаб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42900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В – инструмент для проведения на заготовке разметочных линий, параллельных выбранной базовой ли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67320" y="1523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ож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429000"/>
            <a:ext cx="243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Б – применяют для распиливания тонких пиломатериалов, выпиливания криволинейных деталей и выполнения сквозных пропи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6800" y="15238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Рейс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34290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Times New Roman"/>
              </a:rPr>
              <a:t>А – приспособление, с помощью которого размечают большое количество одинаковых дета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13761 L -0.0125 -0.19542 E">
                                      <p:cBhvr>
                                        <p:cTn id="51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0421 L -0.025 -0.20652 E">
                                      <p:cBhvr>
                                        <p:cTn id="51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4861 L -0.01667 -0.19542 E">
                                      <p:cBhvr>
                                        <p:cTn id="52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990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называются основные части столярного верст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40984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клин, подверстач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ковой зажим, крышка верста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23623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подверстачье, крышка,  передний  зажим, ло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2362320"/>
            <a:ext cx="28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лоток, отверстия  под клинья, верстачная доска, осн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5029200"/>
            <a:ext cx="2895840" cy="609480"/>
          </a:xfrm>
          <a:prstGeom prst="wedgeRoundRectCallout">
            <a:avLst>
              <a:gd name="adj1" fmla="val -41393"/>
              <a:gd name="adj2" fmla="val -227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5105520"/>
            <a:ext cx="2895480" cy="609480"/>
          </a:xfrm>
          <a:prstGeom prst="wedgeRoundRectCallout">
            <a:avLst>
              <a:gd name="adj1" fmla="val -53236"/>
              <a:gd name="adj2" fmla="val -26640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029200"/>
            <a:ext cx="2895480" cy="609480"/>
          </a:xfrm>
          <a:prstGeom prst="wedgeRoundRectCallout">
            <a:avLst>
              <a:gd name="adj1" fmla="val 14199"/>
              <a:gd name="adj2" fmla="val -18046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2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9907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Для чего необходимы зажимы на верстачной крышке предназначе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0968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зажимы служат для опоры длинномерных заготовок при  их строг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20968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- зажимы предназначены для закрепления режущего инструмента при строгании и распиливании загот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2096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зажимы предназначены для закрепления заготовок, например, при строг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562720"/>
            <a:ext cx="2209680" cy="533160"/>
          </a:xfrm>
          <a:prstGeom prst="wedgeRoundRectCallout">
            <a:avLst>
              <a:gd name="adj1" fmla="val -25861"/>
              <a:gd name="adj2" fmla="val -3315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5562720"/>
            <a:ext cx="2209680" cy="533160"/>
          </a:xfrm>
          <a:prstGeom prst="wedgeRoundRectCallout">
            <a:avLst>
              <a:gd name="adj1" fmla="val 15587"/>
              <a:gd name="adj2" fmla="val -13095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5562720"/>
            <a:ext cx="2210040" cy="533160"/>
          </a:xfrm>
          <a:prstGeom prst="wedgeRoundRectCallout">
            <a:avLst>
              <a:gd name="adj1" fmla="val -9842"/>
              <a:gd name="adj2" fmla="val -27172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1066680"/>
            <a:ext cx="600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Для чего служат  отверстия в крышке верст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22860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для установки в них опорных клиньев или гребё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2286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для облегчения крышки верс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22860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для закрепления в них заготовок при пилении или строг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572000"/>
            <a:ext cx="2514600" cy="533520"/>
          </a:xfrm>
          <a:prstGeom prst="wedgeRoundRectCallout">
            <a:avLst>
              <a:gd name="adj1" fmla="val -35037"/>
              <a:gd name="adj2" fmla="val -20387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3733920"/>
            <a:ext cx="2514600" cy="533160"/>
          </a:xfrm>
          <a:prstGeom prst="wedgeRoundRectCallout">
            <a:avLst>
              <a:gd name="adj1" fmla="val -3157"/>
              <a:gd name="adj2" fmla="val -17916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4572000"/>
            <a:ext cx="2514600" cy="533520"/>
          </a:xfrm>
          <a:prstGeom prst="wedgeRoundRectCallout">
            <a:avLst>
              <a:gd name="adj1" fmla="val 25314"/>
              <a:gd name="adj2" fmla="val -19553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500"/>
                            </p:stCondLst>
                            <p:childTnLst>
                              <p:par>
                                <p:cTn id="7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990720"/>
            <a:ext cx="79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Что необходимо сделать, чтобы  проверить правильность установки крышки верст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20574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нужно встать у верстака, опустить руки вниз так, чтобы любой инструмент, положенный на крышке верстака, был в зоне их досягае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057400"/>
            <a:ext cx="289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нужно встать около верстака, опустить руки вниз и положить на крышку ладони. Считается, что крышка правильно установлена тогда, когда не требуется наклоняться или сгибать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3480" y="2057400"/>
            <a:ext cx="259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нужно встать около верстака, опустить вытянутые руки вниз и коснуться концами  пальцев крышки верс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5410080"/>
            <a:ext cx="2514600" cy="609840"/>
          </a:xfrm>
          <a:prstGeom prst="wedgeRoundRectCallout">
            <a:avLst>
              <a:gd name="adj1" fmla="val -25254"/>
              <a:gd name="adj2" fmla="val -11588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486400"/>
            <a:ext cx="2514600" cy="609480"/>
          </a:xfrm>
          <a:prstGeom prst="wedgeRoundRectCallout">
            <a:avLst>
              <a:gd name="adj1" fmla="val -2208"/>
              <a:gd name="adj2" fmla="val -12786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410080"/>
            <a:ext cx="2514600" cy="609840"/>
          </a:xfrm>
          <a:prstGeom prst="wedgeRoundRectCallout">
            <a:avLst>
              <a:gd name="adj1" fmla="val 76513"/>
              <a:gd name="adj2" fmla="val -23099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6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а ухода за верстако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еобходимо оберегать крышку верстака от повреждений режущим инструментом, потому что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819520" cy="2466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90720" y="1600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– крышка верстака придёт в негодное состояние и на ней нельзя будет работ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2286000"/>
            <a:ext cx="666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 – режущий инструмент придёт в негодное состояние, после чего его необходимо будет точить и пр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048120"/>
            <a:ext cx="6591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– выполнять практические работы, которые поручены учителем, соблюдая при этом заданную пооперационную последовательность будет не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4724280"/>
            <a:ext cx="2667240" cy="609840"/>
          </a:xfrm>
          <a:prstGeom prst="wedgeRoundRectCallout">
            <a:avLst>
              <a:gd name="adj1" fmla="val 9347"/>
              <a:gd name="adj2" fmla="val -51015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5943600"/>
            <a:ext cx="2666880" cy="609480"/>
          </a:xfrm>
          <a:prstGeom prst="wedgeRoundRectCallout">
            <a:avLst>
              <a:gd name="adj1" fmla="val 9347"/>
              <a:gd name="adj2" fmla="val -51015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257800"/>
            <a:ext cx="2666880" cy="609480"/>
          </a:xfrm>
          <a:prstGeom prst="wedgeRoundRectCallout">
            <a:avLst>
              <a:gd name="adj1" fmla="val 476"/>
              <a:gd name="adj2" fmla="val -26536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0880" y="152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ельзя сильно закручивать передний и задний зажимы верстака, потому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52280" y="4346640"/>
            <a:ext cx="2590920" cy="22636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410160" y="4365720"/>
            <a:ext cx="2600640" cy="2263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819520" y="4946760"/>
            <a:ext cx="3510000" cy="1679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80880" y="11430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заготовка при этом будет повреждена, появятся вмятины и с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28195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заготовку будет трудно снять после такой установки в за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981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зажимы могут прийти в негодное состояние, вследствие повреждения механическ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3657600"/>
            <a:ext cx="2743200" cy="609480"/>
          </a:xfrm>
          <a:prstGeom prst="wedgeRoundRectCallout">
            <a:avLst>
              <a:gd name="adj1" fmla="val -24652"/>
              <a:gd name="adj2" fmla="val -4093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3733920"/>
            <a:ext cx="2743200" cy="533160"/>
          </a:xfrm>
          <a:prstGeom prst="wedgeRoundRectCallout">
            <a:avLst>
              <a:gd name="adj1" fmla="val -3819"/>
              <a:gd name="adj2" fmla="val -24464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4191120"/>
            <a:ext cx="2743200" cy="533160"/>
          </a:xfrm>
          <a:prstGeom prst="wedgeRoundRectCallout">
            <a:avLst>
              <a:gd name="adj1" fmla="val 22106"/>
              <a:gd name="adj2" fmla="val -17112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1600" y="2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ельзя ударять молотком по крышке верстака и зажимам, потому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3657600" cy="3213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295280" y="1295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молоток придёт в негодное со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828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ышка верстака и зажимы придут в негодное со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2362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молоток после такой работы придётся периодически осматривать и готовить к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3809880"/>
            <a:ext cx="2514600" cy="609840"/>
          </a:xfrm>
          <a:prstGeom prst="wedgeRoundRectCallout">
            <a:avLst>
              <a:gd name="adj1" fmla="val -223611"/>
              <a:gd name="adj2" fmla="val -40182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495680"/>
            <a:ext cx="2514600" cy="609840"/>
          </a:xfrm>
          <a:prstGeom prst="wedgeRoundRectCallout">
            <a:avLst>
              <a:gd name="adj1" fmla="val -213824"/>
              <a:gd name="adj2" fmla="val -4265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24480" y="5562720"/>
            <a:ext cx="2514600" cy="609480"/>
          </a:xfrm>
          <a:prstGeom prst="wedgeRoundRectCallout">
            <a:avLst>
              <a:gd name="adj1" fmla="val -236300"/>
              <a:gd name="adj2" fmla="val -5187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240" y="277920"/>
            <a:ext cx="8929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з каких основных частей состоит столярный верста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309760" y="1828800"/>
            <a:ext cx="4853160" cy="4510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303720" y="4876920"/>
            <a:ext cx="722160" cy="87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1080" y="4365720"/>
            <a:ext cx="577800" cy="135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990960" y="4208400"/>
            <a:ext cx="30240" cy="15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011480" y="3949200"/>
            <a:ext cx="685800" cy="177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верстач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47840" y="1981080"/>
            <a:ext cx="57024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14640" y="2187720"/>
            <a:ext cx="82728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282560" y="2160720"/>
            <a:ext cx="476280" cy="9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61000" y="1676520"/>
            <a:ext cx="27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рстия под клин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62080" y="2527200"/>
            <a:ext cx="638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22860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07760" y="3165480"/>
            <a:ext cx="476280" cy="9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19112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дний за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977080" y="3757320"/>
            <a:ext cx="7999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ний за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28800" y="2895120"/>
            <a:ext cx="1752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з для выдвижного паль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5909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152388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1676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28600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7339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7913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1911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1143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клинья после удара молотком расколются и придут в негодное со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rcRect l="15612" t="20372" r="17992" b="17722"/>
          <a:stretch/>
        </p:blipFill>
        <p:spPr>
          <a:xfrm>
            <a:off x="228600" y="3657600"/>
            <a:ext cx="3200400" cy="2984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286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4. Клинья в отверстия верстака забивать только киянкой, потому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905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отверстия после каждой установки клина будут больше, что приведёт к их несоответствию диаметру к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819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забивая молотком клин, можно ударить мимо клина и повредить крышку верс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4114800"/>
            <a:ext cx="2286000" cy="533520"/>
          </a:xfrm>
          <a:prstGeom prst="wedgeRoundRectCallout">
            <a:avLst>
              <a:gd name="adj1" fmla="val -189722"/>
              <a:gd name="adj2" fmla="val -5315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53080" y="4267080"/>
            <a:ext cx="2286000" cy="533520"/>
          </a:xfrm>
          <a:prstGeom prst="wedgeRoundRectCallout">
            <a:avLst>
              <a:gd name="adj1" fmla="val -311458"/>
              <a:gd name="adj2" fmla="val -4190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5562720"/>
            <a:ext cx="2286000" cy="533160"/>
          </a:xfrm>
          <a:prstGeom prst="wedgeRoundRectCallout">
            <a:avLst>
              <a:gd name="adj1" fmla="val -261944"/>
              <a:gd name="adj2" fmla="val -48541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03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они загромождают рабочее место, мешают работе, могут упасть на пол и повредить ноги работаю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52280" y="4226040"/>
            <a:ext cx="2667240" cy="24796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8088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5. На рабочем месте не должны находиться лишние предметы и ненужные инструменты, потому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905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вместо необходимого инструмента для выполнения  технологической операции, можно взять  совсем  другой  инструмент или пред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3048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работа должна производиться с наименьшими затратами труда, сил и энергии, а также с наименьшим количество дви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4724280"/>
            <a:ext cx="2133720" cy="533520"/>
          </a:xfrm>
          <a:prstGeom prst="wedgeRoundRectCallout">
            <a:avLst>
              <a:gd name="adj1" fmla="val -179388"/>
              <a:gd name="adj2" fmla="val -62856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4724280"/>
            <a:ext cx="2286000" cy="533520"/>
          </a:xfrm>
          <a:prstGeom prst="wedgeRoundRectCallout">
            <a:avLst>
              <a:gd name="adj1" fmla="val -286944"/>
              <a:gd name="adj2" fmla="val -4312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5715000"/>
            <a:ext cx="2286000" cy="533520"/>
          </a:xfrm>
          <a:prstGeom prst="wedgeRoundRectCallout">
            <a:avLst>
              <a:gd name="adj1" fmla="val -240972"/>
              <a:gd name="adj2" fmla="val -41071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7621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6. По окончании работы очищать верстак от стружки и пыли щёткой-смёткой, потому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rcRect l="7271" t="6904" r="9092" b="9350"/>
          <a:stretch/>
        </p:blipFill>
        <p:spPr>
          <a:xfrm>
            <a:off x="228600" y="3581280"/>
            <a:ext cx="3352680" cy="306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04920" y="1066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– выполнять уборку другими инструментами запре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благодаря удобному совку и щётке-смётке можно легко собрать стружки и пыль с горизонтальных поверх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2666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– стружку и опилки  сдувать ртом или  смахивать рукой запре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3962520"/>
            <a:ext cx="2286000" cy="533160"/>
          </a:xfrm>
          <a:prstGeom prst="wedgeRoundRectCallout">
            <a:avLst>
              <a:gd name="adj1" fmla="val -204930"/>
              <a:gd name="adj2" fmla="val -52381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4038480"/>
            <a:ext cx="2286000" cy="533520"/>
          </a:xfrm>
          <a:prstGeom prst="wedgeRoundRectCallout">
            <a:avLst>
              <a:gd name="adj1" fmla="val -313888"/>
              <a:gd name="adj2" fmla="val -40714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5257800"/>
            <a:ext cx="2286000" cy="533520"/>
          </a:xfrm>
          <a:prstGeom prst="wedgeRoundRectCallout">
            <a:avLst>
              <a:gd name="adj1" fmla="val -253750"/>
              <a:gd name="adj2" fmla="val -46398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6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0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892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включает в себя рабочее мес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4038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ярный верс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36880" y="2514600"/>
            <a:ext cx="2411640" cy="306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03848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ур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629400" y="762120"/>
            <a:ext cx="2184480" cy="3276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629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ал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1143000"/>
            <a:ext cx="2438280" cy="533520"/>
          </a:xfrm>
          <a:prstGeom prst="wedgeRoundRectCallout">
            <a:avLst>
              <a:gd name="adj1" fmla="val -46027"/>
              <a:gd name="adj2" fmla="val 12856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181480"/>
            <a:ext cx="2438280" cy="533520"/>
          </a:xfrm>
          <a:prstGeom prst="wedgeRoundRectCallout">
            <a:avLst>
              <a:gd name="adj1" fmla="val 81967"/>
              <a:gd name="adj2" fmla="val 12410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5105520"/>
            <a:ext cx="2438640" cy="533160"/>
          </a:xfrm>
          <a:prstGeom prst="wedgeRoundRectCallout">
            <a:avLst>
              <a:gd name="adj1" fmla="val 10675"/>
              <a:gd name="adj2" fmla="val -15833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43434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ллаж для хранения инструмента и загот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2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ключает в себя рабочее мес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807160" y="990720"/>
            <a:ext cx="2498760" cy="3209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24480" y="4343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те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752480"/>
            <a:ext cx="2438640" cy="609840"/>
          </a:xfrm>
          <a:prstGeom prst="wedgeRoundRectCallout">
            <a:avLst>
              <a:gd name="adj1" fmla="val -59962"/>
              <a:gd name="adj2" fmla="val 3765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5486400"/>
            <a:ext cx="2438280" cy="609480"/>
          </a:xfrm>
          <a:prstGeom prst="wedgeRoundRectCallout">
            <a:avLst>
              <a:gd name="adj1" fmla="val 69726"/>
              <a:gd name="adj2" fmla="val -16171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591000" cy="364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62320" y="5181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ллаж для инстру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000" y="-360"/>
            <a:ext cx="892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ключает в себя рабочее мес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867280" y="914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7057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562720"/>
            <a:ext cx="2667240" cy="533160"/>
          </a:xfrm>
          <a:prstGeom prst="wedgeRoundRectCallout">
            <a:avLst>
              <a:gd name="adj1" fmla="val -99819"/>
              <a:gd name="adj2" fmla="val -12202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343400"/>
            <a:ext cx="2666880" cy="533520"/>
          </a:xfrm>
          <a:prstGeom prst="wedgeRoundRectCallout">
            <a:avLst>
              <a:gd name="adj1" fmla="val 75000"/>
              <a:gd name="adj2" fmla="val -9762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638520" cy="3733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" y="4952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щик для инстру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2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ключает в себя рабочее мест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rcRect l="0" t="30593" r="0" b="32277"/>
          <a:stretch/>
        </p:blipFill>
        <p:spPr>
          <a:xfrm>
            <a:off x="4495680" y="1600200"/>
            <a:ext cx="4343400" cy="1469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638680" y="33526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Щётка-см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2895480" cy="685800"/>
          </a:xfrm>
          <a:prstGeom prst="wedgeRoundRectCallout">
            <a:avLst>
              <a:gd name="adj1" fmla="val -66171"/>
              <a:gd name="adj2" fmla="val -11203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419720"/>
            <a:ext cx="2895840" cy="685800"/>
          </a:xfrm>
          <a:prstGeom prst="wedgeRoundRectCallout">
            <a:avLst>
              <a:gd name="adj1" fmla="val 54990"/>
              <a:gd name="adj2" fmla="val -15185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0480" y="277920"/>
            <a:ext cx="8852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редели соответствие крышки верстака по росту учени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909880" cy="3354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04920" y="5500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5767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8452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00800" y="55767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228840" y="2486160"/>
            <a:ext cx="2955960" cy="246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29528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относят к инструментам, а что к оборудованию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933480" cy="1914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602080" y="1447920"/>
            <a:ext cx="1055520" cy="1108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676520" y="1371600"/>
            <a:ext cx="326880" cy="152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7040" y="4052880"/>
            <a:ext cx="1648080" cy="167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590920" y="4186080"/>
            <a:ext cx="955440" cy="1533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0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75040" y="2646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805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38600" y="5805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198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руба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рейс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19810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свер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25146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мол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4267080"/>
            <a:ext cx="29718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5410080"/>
            <a:ext cx="29718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124080"/>
            <a:ext cx="2438640" cy="609840"/>
          </a:xfrm>
          <a:prstGeom prst="wedgeRoundRectCallout">
            <a:avLst>
              <a:gd name="adj1" fmla="val -20115"/>
              <a:gd name="adj2" fmla="val 1325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3429000"/>
            <a:ext cx="2438280" cy="609480"/>
          </a:xfrm>
          <a:prstGeom prst="wedgeRoundRectCallout">
            <a:avLst>
              <a:gd name="adj1" fmla="val 14194"/>
              <a:gd name="adj2" fmla="val 26640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1905120" cy="1770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2614320" cy="169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2408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5427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относят к инструментам, а что к оборудованию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1335240" cy="162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58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- верс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523880"/>
            <a:ext cx="3809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сверлильный ста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057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 – токарный станок по дере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96252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5410080"/>
            <a:ext cx="27432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733920"/>
            <a:ext cx="2286000" cy="609480"/>
          </a:xfrm>
          <a:prstGeom prst="wedgeRoundRectCallout">
            <a:avLst>
              <a:gd name="adj1" fmla="val 68194"/>
              <a:gd name="adj2" fmla="val 7630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4572000"/>
            <a:ext cx="2514600" cy="609480"/>
          </a:xfrm>
          <a:prstGeom prst="wedgeRoundRectCallout">
            <a:avLst>
              <a:gd name="adj1" fmla="val 59722"/>
              <a:gd name="adj2" fmla="val 8020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равильно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2</cp:lastModifiedBy>
  <dcterms:modified xsi:type="dcterms:W3CDTF">2012-02-10T07:28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