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E6AB-DBA0-42E5-8E60-7257FBBF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2917-BAA6-4774-BAB2-A9857F9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09B2-A77D-4136-9636-007DEE0D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6AF0-48E6-4AC8-97DB-04329D59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A80A-D5AC-4499-BB1A-725F04E5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B753-7EDD-4DF0-906C-8CB25ED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FDE-3D6F-4742-ADE0-F92A232B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464-991A-40A5-AD12-01B9F46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9CC2-D9F1-4DD1-8B92-510222F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85EC-F7D5-420D-B22F-B0F4DF53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5B73-9E68-4B77-B3C8-E138D95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7DAA-566C-4811-A5B4-E0B9C38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C3C9-A0D6-4E70-8F32-958DDF7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9FC-60E2-4605-9539-62D2B3F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CAA-4B0E-4B8F-8FD0-752806C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B2C6-4BB8-4174-AE86-3C170FC9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440-C79A-4066-80C6-9C5253A7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0D10-24D6-45FB-8345-36995603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D80A-5500-4D69-B9E3-E8BCD478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2C1E-02DC-4A86-9EBC-391B61E4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C8B9-4EFD-4B95-9BE6-52BAB68A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A9EB-43FE-4FBE-94D3-97626BA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E877-B396-4332-B76E-8FD7388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6AB1-99C8-4F6D-822E-E74BC87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7329-3687-4EE2-BE38-703522820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13D7-67FA-4FF5-AEB2-CE7A321033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Занятие 3</a:t>
            </a:r>
            <a:br>
              <a:rPr sz="6600"/>
            </a:br>
            <a:r>
              <a:rPr b="1" lang="ru-RU" sz="6000" spc="-1" strike="noStrike">
                <a:solidFill>
                  <a:srgbClr val="e6e3aa"/>
                </a:solidFill>
                <a:latin typeface="Garamond"/>
              </a:rPr>
              <a:t>Виды и жанры изобразительного искусства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Бытовой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50560" y="5661000"/>
            <a:ext cx="5410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Ю. Кугач  В суб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бытовой"/>
          <p:cNvPicPr/>
          <p:nvPr/>
        </p:nvPicPr>
        <p:blipFill>
          <a:blip r:embed="rId1"/>
          <a:stretch/>
        </p:blipFill>
        <p:spPr>
          <a:xfrm>
            <a:off x="1547640" y="981000"/>
            <a:ext cx="6073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Батальный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5533560"/>
            <a:ext cx="741672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9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. Верещагин Конец Бородинского сраж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батальный"/>
          <p:cNvPicPr/>
          <p:nvPr/>
        </p:nvPicPr>
        <p:blipFill>
          <a:blip r:embed="rId1"/>
          <a:stretch/>
        </p:blipFill>
        <p:spPr>
          <a:xfrm>
            <a:off x="1403280" y="981000"/>
            <a:ext cx="63248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Анималистический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82803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Е.Чарушин Иллюстрации к детским книг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257385815"/>
          <p:cNvPicPr/>
          <p:nvPr/>
        </p:nvPicPr>
        <p:blipFill>
          <a:blip r:embed="rId1"/>
          <a:stretch/>
        </p:blipFill>
        <p:spPr>
          <a:xfrm>
            <a:off x="324000" y="1197000"/>
            <a:ext cx="4470120" cy="330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анималистический"/>
          <p:cNvPicPr/>
          <p:nvPr/>
        </p:nvPicPr>
        <p:blipFill>
          <a:blip r:embed="rId2"/>
          <a:stretch/>
        </p:blipFill>
        <p:spPr>
          <a:xfrm>
            <a:off x="5003640" y="1197000"/>
            <a:ext cx="3816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Мифологический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92000" y="5229000"/>
            <a:ext cx="699444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. Врубель  Демон сидящ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мифологический"/>
          <p:cNvPicPr/>
          <p:nvPr/>
        </p:nvPicPr>
        <p:blipFill>
          <a:blip r:embed="rId1"/>
          <a:stretch/>
        </p:blipFill>
        <p:spPr>
          <a:xfrm>
            <a:off x="1258920" y="1125360"/>
            <a:ext cx="6991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Привести примеры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разных видов искусств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в Челябинск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Живопись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0" y="1628280"/>
            <a:ext cx="411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Леонардо да Винчи Джокон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портрет 3"/>
          <p:cNvPicPr/>
          <p:nvPr/>
        </p:nvPicPr>
        <p:blipFill>
          <a:blip r:embed="rId1"/>
          <a:stretch/>
        </p:blipFill>
        <p:spPr>
          <a:xfrm>
            <a:off x="539640" y="1268280"/>
            <a:ext cx="3364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Скульптур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88000" y="1484280"/>
            <a:ext cx="389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нера Милос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скульптура"/>
          <p:cNvPicPr/>
          <p:nvPr/>
        </p:nvPicPr>
        <p:blipFill>
          <a:blip r:embed="rId1"/>
          <a:stretch/>
        </p:blipFill>
        <p:spPr>
          <a:xfrm>
            <a:off x="468360" y="1197000"/>
            <a:ext cx="35845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Жанры живопис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ртр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йзаж; морской пейзаж (марин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тюрмор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р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ыт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ата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имал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ифолог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ортрет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720" y="1773000"/>
            <a:ext cx="3610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ровиковский В. Портр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.И. Лопухи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портрет2"/>
          <p:cNvPicPr/>
          <p:nvPr/>
        </p:nvPicPr>
        <p:blipFill>
          <a:blip r:embed="rId1"/>
          <a:stretch/>
        </p:blipFill>
        <p:spPr>
          <a:xfrm>
            <a:off x="611280" y="1197000"/>
            <a:ext cx="40082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ейзаж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36828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А.К. Саврасов         Скворцы прилете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пейзаж"/>
          <p:cNvPicPr/>
          <p:nvPr/>
        </p:nvPicPr>
        <p:blipFill>
          <a:blip r:embed="rId1"/>
          <a:stretch/>
        </p:blipFill>
        <p:spPr>
          <a:xfrm>
            <a:off x="468360" y="1197000"/>
            <a:ext cx="4186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ейзаж-марин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1640" y="5805360"/>
            <a:ext cx="5699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. Айвазовский Девятый в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марина"/>
          <p:cNvPicPr/>
          <p:nvPr/>
        </p:nvPicPr>
        <p:blipFill>
          <a:blip r:embed="rId1"/>
          <a:stretch/>
        </p:blipFill>
        <p:spPr>
          <a:xfrm>
            <a:off x="1403280" y="981000"/>
            <a:ext cx="6276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Натюрморт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566064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.Ф. Хруцкий    Натюрморт со свеч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натюрморт"/>
          <p:cNvPicPr/>
          <p:nvPr/>
        </p:nvPicPr>
        <p:blipFill>
          <a:blip r:embed="rId1"/>
          <a:stretch/>
        </p:blipFill>
        <p:spPr>
          <a:xfrm>
            <a:off x="1763640" y="1052640"/>
            <a:ext cx="60483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Исторический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8000" y="1484280"/>
            <a:ext cx="3538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.И. Суриков Переход Суворова через Аль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исторический"/>
          <p:cNvPicPr/>
          <p:nvPr/>
        </p:nvPicPr>
        <p:blipFill>
          <a:blip r:embed="rId1"/>
          <a:stretch/>
        </p:blipFill>
        <p:spPr>
          <a:xfrm>
            <a:off x="468360" y="1197000"/>
            <a:ext cx="4098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5:25:39Z</dcterms:created>
  <dc:creator>руслан и ильзира</dc:creator>
  <dc:description/>
  <dc:language>en-US</dc:language>
  <cp:lastModifiedBy>UserXP</cp:lastModifiedBy>
  <dcterms:modified xsi:type="dcterms:W3CDTF">2012-02-28T08:56:36Z</dcterms:modified>
  <cp:revision>10</cp:revision>
  <dc:subject/>
  <dc:title>Виды и жанры изобразительного искусства</dc:title>
</cp:coreProperties>
</file>