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DB7-30C1-4204-8862-0E3BF39D53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3BAD-7A37-4ED7-BED9-6DBFE7A866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163-81CE-4478-838D-D7F3623855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9835-6633-4292-83A3-FF2219CA0A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30A-D991-4A1E-A114-1A09FFEDDA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527B-639C-491E-B2C2-694F1A27C4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639-41C9-4D1E-85E4-5EE905D520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87EA-624A-4CA7-AC64-E77706AEE9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126-90AF-47C2-AA97-2FDB069E62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719-DAAC-4C69-A044-8144B997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255-9A82-4265-8641-3870F75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079-9AD0-4287-8B92-35D7C3F1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51-D6F9-4D4B-9A32-B371C057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4089-976E-4958-9FBB-BDB6EE34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88CC-160C-47A4-BF64-D87D73F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8CF-7186-40EA-8509-BFBD4781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142-D4D2-4A5A-A51D-05D6793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ADB-4AD8-4B44-A040-C5B6349A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7B5A-A22C-4CE6-83C3-7F85E88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59B-7DBB-4C07-96B3-B6D3BDE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AA2-9F9B-4C27-8D19-CA4DD06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7FE-F2A3-496D-B985-4A2AFDF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79C-10F2-428A-B337-4D5ED30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3FD8-898E-41D3-BB85-924E5E58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0D38-ED08-40DC-BACF-6D852593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1F0D-C422-41A7-A953-92376B9C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816-CE88-43AE-8C48-605B8207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ABB-77EF-45C4-86A9-39232739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D82-C0F7-453A-A041-82C3741D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D94-F3B6-489D-8A30-619B842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BE4-F029-487D-A5E1-5643E83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8CD-5E90-46F3-BB8C-202CFE6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34E-9CC9-4D66-BCBE-569EFE4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5E3-7996-4219-88E2-7F640C03F68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F1C-A0E4-44A9-AD0D-EF07D12E6F6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43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биологии Старокулаткинской средней школы №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первой  категор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H:\Новая папка\Image3.bmp"/>
          <p:cNvPicPr/>
          <p:nvPr/>
        </p:nvPicPr>
        <p:blipFill>
          <a:blip r:embed="rId3"/>
          <a:stretch/>
        </p:blipFill>
        <p:spPr>
          <a:xfrm>
            <a:off x="2806560" y="762120"/>
            <a:ext cx="3289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1997 году окончила Устькулаткинскую основную школ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857160" y="3286080"/>
            <a:ext cx="61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кончив школу , попрощавшись с не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згоряченная от слез и тепл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вчонка вышла, от любви хмеле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звуки вальса и прощальной су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H:\Новая папка\Image8.bmp"/>
          <p:cNvPicPr/>
          <p:nvPr/>
        </p:nvPicPr>
        <p:blipFill>
          <a:blip r:embed="rId2"/>
          <a:stretch/>
        </p:blipFill>
        <p:spPr>
          <a:xfrm>
            <a:off x="1862280" y="1614600"/>
            <a:ext cx="5419440" cy="36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H:\Новая папка\Image10.bmp"/>
          <p:cNvPicPr/>
          <p:nvPr/>
        </p:nvPicPr>
        <p:blipFill>
          <a:blip r:embed="rId3"/>
          <a:stretch/>
        </p:blipFill>
        <p:spPr>
          <a:xfrm>
            <a:off x="1857240" y="1500120"/>
            <a:ext cx="53895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9288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С 1997- 2001 г.    годы учебы  в Сенгилеевк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педагогическом училищ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85880" y="2357280"/>
            <a:ext cx="400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ть городок на Волг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илый наш Сенг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ас связал надол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призванием уч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785880" y="3571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десь прошли мои светлые дн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колько счастья они принесл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колько было сомнений, трево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решить только ты мне помо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H:\Новая папка\Image6.bmp"/>
          <p:cNvPicPr/>
          <p:nvPr/>
        </p:nvPicPr>
        <p:blipFill>
          <a:blip r:embed="rId2"/>
          <a:stretch/>
        </p:blipFill>
        <p:spPr>
          <a:xfrm>
            <a:off x="1862280" y="1630440"/>
            <a:ext cx="54194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00080" y="1857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ыть учителем - наша задач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надо – преграды пройд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уверена - ждет нас у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пока что азы позна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000080" y="3571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ного всяких профессий на све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одну любим мы всей душ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т сомнений , профессия 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ла нам путеводной звез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:\Новая папка\Image7.bmp"/>
          <p:cNvPicPr/>
          <p:nvPr/>
        </p:nvPicPr>
        <p:blipFill>
          <a:blip r:embed="rId3"/>
          <a:stretch/>
        </p:blipFill>
        <p:spPr>
          <a:xfrm>
            <a:off x="1922400" y="1706400"/>
            <a:ext cx="529740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ADMIN\Рабочий стол\Image1.jpg"/>
          <p:cNvPicPr/>
          <p:nvPr/>
        </p:nvPicPr>
        <p:blipFill>
          <a:blip r:embed="rId3"/>
          <a:stretch/>
        </p:blipFill>
        <p:spPr>
          <a:xfrm>
            <a:off x="4714920" y="1357200"/>
            <a:ext cx="3348000" cy="470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ADMIN\Рабочий стол\Image2.jpg"/>
          <p:cNvPicPr/>
          <p:nvPr/>
        </p:nvPicPr>
        <p:blipFill>
          <a:blip r:embed="rId4"/>
          <a:stretch/>
        </p:blipFill>
        <p:spPr>
          <a:xfrm>
            <a:off x="785880" y="1428840"/>
            <a:ext cx="35910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6043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ГПУ мы не забудем никог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ГПУ ты в нашем сердце навсег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H:\Новая папка\Image5.bmp"/>
          <p:cNvPicPr/>
          <p:nvPr/>
        </p:nvPicPr>
        <p:blipFill>
          <a:blip r:embed="rId3"/>
          <a:stretch/>
        </p:blipFill>
        <p:spPr>
          <a:xfrm>
            <a:off x="1862280" y="1690560"/>
            <a:ext cx="5419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257040" y="-171360"/>
            <a:ext cx="8886960" cy="31399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92880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колько лет работает учител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лько лет ему и учить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684360" y="0"/>
            <a:ext cx="828972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:\DCIM\100_PANA\P1000536.JPG"/>
          <p:cNvPicPr/>
          <p:nvPr/>
        </p:nvPicPr>
        <p:blipFill>
          <a:blip r:embed="rId3"/>
          <a:stretch/>
        </p:blipFill>
        <p:spPr>
          <a:xfrm>
            <a:off x="1143000" y="1222200"/>
            <a:ext cx="70293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1:04:52Z</dcterms:created>
  <dc:creator>ПК_9</dc:creator>
  <dc:description/>
  <dc:language>en-US</dc:language>
  <cp:lastModifiedBy>User</cp:lastModifiedBy>
  <dcterms:modified xsi:type="dcterms:W3CDTF">2012-02-28T10:50:15Z</dcterms:modified>
  <cp:revision>22</cp:revision>
  <dc:subject/>
  <dc:title>Аделова Розалия Равилевна</dc:title>
</cp:coreProperties>
</file>