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1.jpeg" ContentType="image/jpeg"/>
  <Override PartName="/ppt/media/image19.png" ContentType="image/png"/>
  <Override PartName="/ppt/media/image28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0327-1B01-4751-95AD-6DEB78D121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15D5-4E23-477F-A7B1-0BA3BFE7E9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6FF-1987-4798-98BC-E597FBBE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23EB-335E-4D54-8705-70F49DA6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C06F-2C8D-44C0-AE90-5F65D2AF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05CC-8453-4B8E-9AA9-9341B318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74B5-E3FA-431B-868D-850967A2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819-2840-417E-B90F-C47B191A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CC08-AA5B-44A6-BBF5-A260A6B2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6FE-608C-4CD8-9CB8-9E83C921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642C-2B91-4BB9-8A1E-2B18BBBB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08C8-7C61-47F7-9611-E9983828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92C6-B507-4245-9670-09BF3DDD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FD3-AFC6-4C60-85A0-255BBF6B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A070-90C2-48A6-A947-C28D6A78CF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" Target="slide12.xml"/><Relationship Id="rId15" Type="http://schemas.openxmlformats.org/officeDocument/2006/relationships/image" Target="../media/image7.png"/><Relationship Id="rId16" Type="http://schemas.openxmlformats.org/officeDocument/2006/relationships/slide" Target="slide5.xml"/><Relationship Id="rId17" Type="http://schemas.openxmlformats.org/officeDocument/2006/relationships/image" Target="../media/image7.png"/><Relationship Id="rId18" Type="http://schemas.openxmlformats.org/officeDocument/2006/relationships/slide" Target="slide3.xml"/><Relationship Id="rId19" Type="http://schemas.openxmlformats.org/officeDocument/2006/relationships/image" Target="../media/image7.png"/><Relationship Id="rId20" Type="http://schemas.openxmlformats.org/officeDocument/2006/relationships/image" Target="../media/image2.png"/><Relationship Id="rId21" Type="http://schemas.openxmlformats.org/officeDocument/2006/relationships/slide" Target="slide16.xml"/><Relationship Id="rId22" Type="http://schemas.openxmlformats.org/officeDocument/2006/relationships/image" Target="../media/image6.png"/><Relationship Id="rId23" Type="http://schemas.openxmlformats.org/officeDocument/2006/relationships/slide" Target="slide16.xml"/><Relationship Id="rId2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" Target="slide12.xml"/><Relationship Id="rId15" Type="http://schemas.openxmlformats.org/officeDocument/2006/relationships/image" Target="../media/image7.png"/><Relationship Id="rId16" Type="http://schemas.openxmlformats.org/officeDocument/2006/relationships/slide" Target="slide5.xml"/><Relationship Id="rId17" Type="http://schemas.openxmlformats.org/officeDocument/2006/relationships/image" Target="../media/image7.png"/><Relationship Id="rId18" Type="http://schemas.openxmlformats.org/officeDocument/2006/relationships/slide" Target="slide3.xml"/><Relationship Id="rId19" Type="http://schemas.openxmlformats.org/officeDocument/2006/relationships/image" Target="../media/image7.png"/><Relationship Id="rId20" Type="http://schemas.openxmlformats.org/officeDocument/2006/relationships/image" Target="../media/image2.png"/><Relationship Id="rId21" Type="http://schemas.openxmlformats.org/officeDocument/2006/relationships/slide" Target="slide16.xml"/><Relationship Id="rId22" Type="http://schemas.openxmlformats.org/officeDocument/2006/relationships/image" Target="../media/image6.png"/><Relationship Id="rId2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" Target="slide12.xml"/><Relationship Id="rId16" Type="http://schemas.openxmlformats.org/officeDocument/2006/relationships/image" Target="../media/image7.png"/><Relationship Id="rId17" Type="http://schemas.openxmlformats.org/officeDocument/2006/relationships/slide" Target="slide4.xml"/><Relationship Id="rId18" Type="http://schemas.openxmlformats.org/officeDocument/2006/relationships/image" Target="../media/image7.png"/><Relationship Id="rId19" Type="http://schemas.openxmlformats.org/officeDocument/2006/relationships/slide" Target="slide3.xml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" Target="slide12.xml"/><Relationship Id="rId15" Type="http://schemas.openxmlformats.org/officeDocument/2006/relationships/image" Target="../media/image7.png"/><Relationship Id="rId16" Type="http://schemas.openxmlformats.org/officeDocument/2006/relationships/slide" Target="slide5.xml"/><Relationship Id="rId17" Type="http://schemas.openxmlformats.org/officeDocument/2006/relationships/image" Target="../media/image7.png"/><Relationship Id="rId18" Type="http://schemas.openxmlformats.org/officeDocument/2006/relationships/slide" Target="slide3.xml"/><Relationship Id="rId19" Type="http://schemas.openxmlformats.org/officeDocument/2006/relationships/image" Target="../media/image7.png"/><Relationship Id="rId20" Type="http://schemas.openxmlformats.org/officeDocument/2006/relationships/image" Target="../media/image2.png"/><Relationship Id="rId21" Type="http://schemas.openxmlformats.org/officeDocument/2006/relationships/slide" Target="slide16.xml"/><Relationship Id="rId22" Type="http://schemas.openxmlformats.org/officeDocument/2006/relationships/image" Target="../media/image6.png"/><Relationship Id="rId23" Type="http://schemas.openxmlformats.org/officeDocument/2006/relationships/slide" Target="slide16.xml"/><Relationship Id="rId2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43080" y="189000"/>
            <a:ext cx="8229600" cy="71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бюджетное образовательное учреждение средняя общеобразовательная школа №37 г. Кемер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ияние звука на организм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я к проект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вук в жизни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у подготовил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и 11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сильев  Николай Евген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арасова Алёна Дмитр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рубина Ирина Олег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абдрахманова Эльвира Альберт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ивоносова Валерия Вадим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жанникова Александр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иброва Я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инкоренко Ольг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2006_23_vliyanie"/>
          <p:cNvPicPr/>
          <p:nvPr/>
        </p:nvPicPr>
        <p:blipFill>
          <a:blip r:embed="rId2"/>
          <a:stretch/>
        </p:blipFill>
        <p:spPr>
          <a:xfrm>
            <a:off x="344520" y="1849320"/>
            <a:ext cx="8370720" cy="101523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172" name="Picture 3" descr=""/>
          <p:cNvPicPr/>
          <p:nvPr/>
        </p:nvPicPr>
        <p:blipFill>
          <a:blip r:embed="rId3"/>
          <a:stretch/>
        </p:blipFill>
        <p:spPr>
          <a:xfrm>
            <a:off x="2916360" y="797040"/>
            <a:ext cx="3456000" cy="11192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2987640" y="140652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ум и неслышим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4"/>
          <a:stretch/>
        </p:blipFill>
        <p:spPr>
          <a:xfrm>
            <a:off x="2843280" y="189000"/>
            <a:ext cx="3603600" cy="12445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3203640" y="40464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звука на организ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2" descr="Рисунок4"/>
          <p:cNvPicPr/>
          <p:nvPr/>
        </p:nvPicPr>
        <p:blipFill>
          <a:blip r:embed="rId5"/>
          <a:stretch/>
        </p:blipFill>
        <p:spPr>
          <a:xfrm>
            <a:off x="755640" y="476280"/>
            <a:ext cx="1657440" cy="124308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177" name="Прямоугольник 13"/>
          <p:cNvSpPr/>
          <p:nvPr/>
        </p:nvSpPr>
        <p:spPr>
          <a:xfrm>
            <a:off x="214200" y="1841400"/>
            <a:ext cx="8643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льтразвук, занимающий заметное место в гамме производственных шумов, неблагоприятно воздей-ствует на организм, хотя ухо его не воспринимает.  Пассажиры само-лета часто ощущают состояние недомогания и беспокойства,  при-чиной  этого является инфразву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4"/>
          <p:cNvSpPr/>
          <p:nvPr/>
        </p:nvSpPr>
        <p:spPr>
          <a:xfrm>
            <a:off x="214200" y="1841400"/>
            <a:ext cx="8643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развуки вызывают у некоторых людей приступы морской болезни. Даже слабые инфразвуки могут оказывать на человека существенное воздействие, если они носят длительный характер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5"/>
          <p:cNvSpPr/>
          <p:nvPr/>
        </p:nvSpPr>
        <p:spPr>
          <a:xfrm>
            <a:off x="214200" y="1814400"/>
            <a:ext cx="8643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которые нервные болезни, свойственные жителям про-мышленных городов, вызываются именно инфразвуками, прони-кающими сквозь самые толстые сте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48148E-006 L -0.00868 -0.74121 E">
                                      <p:cBhvr>
                                        <p:cTn id="577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Круг"/>
          <p:cNvPicPr/>
          <p:nvPr/>
        </p:nvPicPr>
        <p:blipFill>
          <a:blip r:embed="rId2"/>
          <a:stretch/>
        </p:blipFill>
        <p:spPr>
          <a:xfrm>
            <a:off x="5867280" y="5229360"/>
            <a:ext cx="1368720" cy="1269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Линия"/>
          <p:cNvPicPr/>
          <p:nvPr/>
        </p:nvPicPr>
        <p:blipFill>
          <a:blip r:embed="rId3"/>
          <a:stretch/>
        </p:blipFill>
        <p:spPr>
          <a:xfrm>
            <a:off x="0" y="5877000"/>
            <a:ext cx="5940360" cy="144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Заголовок+"/>
          <p:cNvPicPr/>
          <p:nvPr/>
        </p:nvPicPr>
        <p:blipFill>
          <a:blip r:embed="rId4"/>
          <a:stretch/>
        </p:blipFill>
        <p:spPr>
          <a:xfrm>
            <a:off x="1692360" y="5229360"/>
            <a:ext cx="3600360" cy="1244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Круг"/>
          <p:cNvPicPr/>
          <p:nvPr/>
        </p:nvPicPr>
        <p:blipFill>
          <a:blip r:embed="rId5"/>
          <a:stretch/>
        </p:blipFill>
        <p:spPr>
          <a:xfrm>
            <a:off x="5867280" y="3933720"/>
            <a:ext cx="1368720" cy="1270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Заголовок+"/>
          <p:cNvPicPr/>
          <p:nvPr/>
        </p:nvPicPr>
        <p:blipFill>
          <a:blip r:embed="rId6"/>
          <a:stretch/>
        </p:blipFill>
        <p:spPr>
          <a:xfrm>
            <a:off x="1692360" y="3933720"/>
            <a:ext cx="3600360" cy="1244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Линия"/>
          <p:cNvPicPr/>
          <p:nvPr/>
        </p:nvPicPr>
        <p:blipFill>
          <a:blip r:embed="rId7"/>
          <a:stretch/>
        </p:blipFill>
        <p:spPr>
          <a:xfrm>
            <a:off x="0" y="4508640"/>
            <a:ext cx="5940360" cy="144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Круг"/>
          <p:cNvPicPr/>
          <p:nvPr/>
        </p:nvPicPr>
        <p:blipFill>
          <a:blip r:embed="rId8"/>
          <a:stretch/>
        </p:blipFill>
        <p:spPr>
          <a:xfrm>
            <a:off x="5867280" y="2637000"/>
            <a:ext cx="1368720" cy="1269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Заголовок+"/>
          <p:cNvPicPr/>
          <p:nvPr/>
        </p:nvPicPr>
        <p:blipFill>
          <a:blip r:embed="rId9"/>
          <a:stretch/>
        </p:blipFill>
        <p:spPr>
          <a:xfrm>
            <a:off x="1692360" y="2637000"/>
            <a:ext cx="3600360" cy="1244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Линия"/>
          <p:cNvPicPr/>
          <p:nvPr/>
        </p:nvPicPr>
        <p:blipFill>
          <a:blip r:embed="rId10"/>
          <a:stretch/>
        </p:blipFill>
        <p:spPr>
          <a:xfrm>
            <a:off x="0" y="3213000"/>
            <a:ext cx="5940360" cy="144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"/>
          <p:cNvPicPr/>
          <p:nvPr/>
        </p:nvPicPr>
        <p:blipFill>
          <a:blip r:embed="rId11"/>
          <a:stretch/>
        </p:blipFill>
        <p:spPr>
          <a:xfrm>
            <a:off x="1692360" y="5157720"/>
            <a:ext cx="3603600" cy="12445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3"/>
          <p:cNvSpPr/>
          <p:nvPr/>
        </p:nvSpPr>
        <p:spPr>
          <a:xfrm>
            <a:off x="1979640" y="54450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звука на психику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12"/>
          <a:stretch/>
        </p:blipFill>
        <p:spPr>
          <a:xfrm>
            <a:off x="1692360" y="3913200"/>
            <a:ext cx="3603600" cy="12445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5"/>
          <p:cNvSpPr/>
          <p:nvPr/>
        </p:nvSpPr>
        <p:spPr>
          <a:xfrm>
            <a:off x="1979640" y="414972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звука на организ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6" descr=""/>
          <p:cNvPicPr/>
          <p:nvPr/>
        </p:nvPicPr>
        <p:blipFill>
          <a:blip r:embed="rId13"/>
          <a:stretch/>
        </p:blipFill>
        <p:spPr>
          <a:xfrm>
            <a:off x="1692360" y="2637000"/>
            <a:ext cx="3603600" cy="12445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7"/>
          <p:cNvSpPr/>
          <p:nvPr/>
        </p:nvSpPr>
        <p:spPr>
          <a:xfrm>
            <a:off x="1908000" y="270828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нятие звука и его основные характер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8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372360" y="5445000"/>
            <a:ext cx="576000" cy="792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9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372360" y="4149720"/>
            <a:ext cx="576000" cy="792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0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6372360" y="2852640"/>
            <a:ext cx="576000" cy="7923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21"/>
          <p:cNvSpPr/>
          <p:nvPr/>
        </p:nvSpPr>
        <p:spPr>
          <a:xfrm>
            <a:off x="1692360" y="220500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Выберите пун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2" descr="Круг"/>
          <p:cNvPicPr/>
          <p:nvPr/>
        </p:nvPicPr>
        <p:blipFill>
          <a:blip r:embed="rId20"/>
          <a:stretch/>
        </p:blipFill>
        <p:spPr>
          <a:xfrm>
            <a:off x="7451640" y="5229360"/>
            <a:ext cx="2051280" cy="1903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3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000920" y="5376960"/>
            <a:ext cx="4286160" cy="14810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4">
            <a:hlinkClick r:id="rId23" action="ppaction://hlinksldjump"/>
          </p:cNvPr>
          <p:cNvSpPr/>
          <p:nvPr/>
        </p:nvSpPr>
        <p:spPr>
          <a:xfrm>
            <a:off x="7380360" y="5661000"/>
            <a:ext cx="17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ейти на окончание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remove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"/>
          <p:cNvPicPr/>
          <p:nvPr/>
        </p:nvPicPr>
        <p:blipFill>
          <a:blip r:embed="rId2"/>
          <a:stretch/>
        </p:blipFill>
        <p:spPr>
          <a:xfrm>
            <a:off x="1692360" y="5157720"/>
            <a:ext cx="3603600" cy="12445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3"/>
          <p:cNvSpPr/>
          <p:nvPr/>
        </p:nvSpPr>
        <p:spPr>
          <a:xfrm>
            <a:off x="1979640" y="54450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звука на психику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611280" y="208116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8" descr="213286ear-with-sound-wave-posters"/>
          <p:cNvPicPr/>
          <p:nvPr/>
        </p:nvPicPr>
        <p:blipFill>
          <a:blip r:embed="rId3"/>
          <a:stretch/>
        </p:blipFill>
        <p:spPr>
          <a:xfrm>
            <a:off x="1116000" y="260280"/>
            <a:ext cx="1354320" cy="152568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208" name="Picture 30" descr="Рисунок5"/>
          <p:cNvPicPr/>
          <p:nvPr/>
        </p:nvPicPr>
        <p:blipFill>
          <a:blip r:embed="rId4"/>
          <a:stretch/>
        </p:blipFill>
        <p:spPr>
          <a:xfrm>
            <a:off x="6975360" y="189000"/>
            <a:ext cx="1484280" cy="15969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209" name="Прямоугольник 8"/>
          <p:cNvSpPr/>
          <p:nvPr/>
        </p:nvSpPr>
        <p:spPr>
          <a:xfrm>
            <a:off x="214200" y="1841400"/>
            <a:ext cx="864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м хорошо известно, что звуки оказывают влияние на человеческую психик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9"/>
          <p:cNvSpPr/>
          <p:nvPr/>
        </p:nvSpPr>
        <p:spPr>
          <a:xfrm>
            <a:off x="214200" y="1886040"/>
            <a:ext cx="8643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 примеру, у тех женщин, которые во время кормления слушали тяжёлый рок, пропадало молоко, а у предпочитавших классику оно увеличивалось на 20 %. Также при помощи звуков, возможно, управлять толп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0"/>
          <p:cNvSpPr/>
          <p:nvPr/>
        </p:nvSpPr>
        <p:spPr>
          <a:xfrm>
            <a:off x="214200" y="1857240"/>
            <a:ext cx="8643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ществует такое предположение, что на пропавшие без вести экипажи кораблей воздействовали инфразвуком, людьми управлял страх, и они прыгали с бортов корабл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1"/>
          <p:cNvSpPr/>
          <p:nvPr/>
        </p:nvSpPr>
        <p:spPr>
          <a:xfrm>
            <a:off x="214200" y="1886040"/>
            <a:ext cx="8643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годня научными исследованиями доказано, что такие звуки как in vitro и in vivo определённой частоты убивают вирусы. А мурлыканье кошки хорошо воздействует на психику челове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2"/>
          <p:cNvSpPr/>
          <p:nvPr/>
        </p:nvSpPr>
        <p:spPr>
          <a:xfrm>
            <a:off x="21420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 ведь если существует поло-жительное воздействие звука на людей, должно быть и отрицательное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07407E-006 L 1.94444E-006 -0.33958 C 1.94444E-006 -0.49189 0.03003 -0.6787 0.05486 -0.6787 L 0.11007 -0.6787 E">
                                      <p:cBhvr>
                                        <p:cTn id="601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" nodeType="with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11111E-006 L -3.88889E-006 -0.34074 C -3.88889E-006 -0.49352 0.02917 -0.68102 0.05313 -0.68102 L 0.10643 -0.68102 E">
                                      <p:cBhvr>
                                        <p:cTn id="603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9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2786040" y="500040"/>
            <a:ext cx="3603600" cy="12445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2976480" y="71424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звука на психику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611280" y="208116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" descr="213286ear-with-sound-wave-posters"/>
          <p:cNvPicPr/>
          <p:nvPr/>
        </p:nvPicPr>
        <p:blipFill>
          <a:blip r:embed="rId3"/>
          <a:stretch/>
        </p:blipFill>
        <p:spPr>
          <a:xfrm>
            <a:off x="601560" y="254160"/>
            <a:ext cx="2041560" cy="15318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219" name="Picture 8" descr="Рисунок5"/>
          <p:cNvPicPr/>
          <p:nvPr/>
        </p:nvPicPr>
        <p:blipFill>
          <a:blip r:embed="rId4"/>
          <a:stretch/>
        </p:blipFill>
        <p:spPr>
          <a:xfrm>
            <a:off x="6500880" y="306360"/>
            <a:ext cx="2198520" cy="14796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220" name="Прямоугольник 8"/>
          <p:cNvSpPr/>
          <p:nvPr/>
        </p:nvSpPr>
        <p:spPr>
          <a:xfrm>
            <a:off x="214200" y="1857240"/>
            <a:ext cx="8643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сознательное внушение по-средством музыки является наилучшим методом контроля над психикой челове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9"/>
          <p:cNvSpPr/>
          <p:nvPr/>
        </p:nvSpPr>
        <p:spPr>
          <a:xfrm>
            <a:off x="214200" y="1857240"/>
            <a:ext cx="8643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зыка в обход сознанию способна проникать в подсознание и программировать его. После экспериментов было доказано, что из-за внушения «не красть» в супермаркетах намного уменьшилось число краж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0"/>
          <p:cNvSpPr/>
          <p:nvPr/>
        </p:nvSpPr>
        <p:spPr>
          <a:xfrm>
            <a:off x="214200" y="1841400"/>
            <a:ext cx="8643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прерывное проигрывание опре-деленных композиций сэкономило хозяевам магазинов миллионы долларов. Релаксирующая музыка воссоздает в супермаркете уютную домашнюю атмосферу, и прину-ждает покупателей не торопиться, уделяя массу времени покупка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1"/>
          <p:cNvSpPr/>
          <p:nvPr/>
        </p:nvSpPr>
        <p:spPr>
          <a:xfrm>
            <a:off x="285840" y="1857240"/>
            <a:ext cx="8643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час пик применяется быстрая музыка, которая провоцирует покупателей двигаться намного быстре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611280" y="262080"/>
            <a:ext cx="2160360" cy="5745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0" y="3333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стати говор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5"/>
          <p:cNvSpPr/>
          <p:nvPr/>
        </p:nvSpPr>
        <p:spPr>
          <a:xfrm>
            <a:off x="285840" y="100008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фессор Чеффилдского Ун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ситета Кэйти Овери сформ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ровала аспекты так называемых «интеллектуальных выгод» от музы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6"/>
          <p:cNvSpPr/>
          <p:nvPr/>
        </p:nvSpPr>
        <p:spPr>
          <a:xfrm>
            <a:off x="357120" y="114300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повышение уровня читательских навык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7"/>
          <p:cNvSpPr/>
          <p:nvPr/>
        </p:nvSpPr>
        <p:spPr>
          <a:xfrm>
            <a:off x="357120" y="110484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повышение уровня речевых навык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500040" y="1160640"/>
            <a:ext cx="8643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улучшение навыков, необходимых для решения пространственных и временных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9"/>
          <p:cNvSpPr/>
          <p:nvPr/>
        </p:nvSpPr>
        <p:spPr>
          <a:xfrm>
            <a:off x="500040" y="1143000"/>
            <a:ext cx="864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улучшение вербальных и счетно-арифметических способност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0"/>
          <p:cNvSpPr/>
          <p:nvPr/>
        </p:nvSpPr>
        <p:spPr>
          <a:xfrm>
            <a:off x="357120" y="114300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. улучшение концентрации вним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1"/>
          <p:cNvSpPr/>
          <p:nvPr/>
        </p:nvSpPr>
        <p:spPr>
          <a:xfrm>
            <a:off x="357120" y="114948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. улучшение памя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2"/>
          <p:cNvSpPr/>
          <p:nvPr/>
        </p:nvSpPr>
        <p:spPr>
          <a:xfrm>
            <a:off x="357120" y="110484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. улучшение моторной координаци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C:\Documents and Settings\2012.2012-D77CF41EF2\Рабочий стол\Слайд 1\x1.jpg"/>
          <p:cNvPicPr/>
          <p:nvPr/>
        </p:nvPicPr>
        <p:blipFill>
          <a:blip r:embed="rId3"/>
          <a:stretch/>
        </p:blipFill>
        <p:spPr>
          <a:xfrm>
            <a:off x="5072040" y="2928960"/>
            <a:ext cx="3429000" cy="34290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236" name="Picture 6" descr="C:\Documents and Settings\2012.2012-D77CF41EF2\Рабочий стол\Слайд 1\x1.jpg"/>
          <p:cNvPicPr/>
          <p:nvPr/>
        </p:nvPicPr>
        <p:blipFill>
          <a:blip r:embed="rId4"/>
          <a:stretch/>
        </p:blipFill>
        <p:spPr>
          <a:xfrm>
            <a:off x="5072040" y="2928960"/>
            <a:ext cx="3429000" cy="34290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237" name="Picture 6" descr="C:\Documents and Settings\2012.2012-D77CF41EF2\Рабочий стол\Слайд 1\x1.jpg"/>
          <p:cNvPicPr/>
          <p:nvPr/>
        </p:nvPicPr>
        <p:blipFill>
          <a:blip r:embed="rId5"/>
          <a:stretch/>
        </p:blipFill>
        <p:spPr>
          <a:xfrm>
            <a:off x="5072040" y="2928960"/>
            <a:ext cx="3429000" cy="34290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238" name="Picture 6" descr="C:\Documents and Settings\2012.2012-D77CF41EF2\Рабочий стол\Слайд 1\x1.jpg"/>
          <p:cNvPicPr/>
          <p:nvPr/>
        </p:nvPicPr>
        <p:blipFill>
          <a:blip r:embed="rId6"/>
          <a:stretch/>
        </p:blipFill>
        <p:spPr>
          <a:xfrm>
            <a:off x="5072040" y="3271680"/>
            <a:ext cx="3429000" cy="27432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239" name="Picture 6" descr="C:\Documents and Settings\2012.2012-D77CF41EF2\Рабочий стол\Слайд 1\x1.jpg"/>
          <p:cNvPicPr/>
          <p:nvPr/>
        </p:nvPicPr>
        <p:blipFill>
          <a:blip r:embed="rId7"/>
          <a:stretch/>
        </p:blipFill>
        <p:spPr>
          <a:xfrm>
            <a:off x="5143680" y="3286080"/>
            <a:ext cx="3292200" cy="27432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240" name="Picture 6" descr="C:\Documents and Settings\2012.2012-D77CF41EF2\Рабочий стол\Слайд 1\x1.jpg"/>
          <p:cNvPicPr/>
          <p:nvPr/>
        </p:nvPicPr>
        <p:blipFill>
          <a:blip r:embed="rId8"/>
          <a:stretch/>
        </p:blipFill>
        <p:spPr>
          <a:xfrm>
            <a:off x="5407200" y="3286080"/>
            <a:ext cx="2752560" cy="27432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241" name="Picture 6" descr="C:\Documents and Settings\2012.2012-D77CF41EF2\Рабочий стол\Слайд 1\x1.jpg"/>
          <p:cNvPicPr/>
          <p:nvPr/>
        </p:nvPicPr>
        <p:blipFill>
          <a:blip r:embed="rId9"/>
          <a:stretch/>
        </p:blipFill>
        <p:spPr>
          <a:xfrm>
            <a:off x="5391000" y="3359160"/>
            <a:ext cx="2752920" cy="264168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  <p:transition>
    <p:fade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1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5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2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9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6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0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Круг"/>
          <p:cNvPicPr/>
          <p:nvPr/>
        </p:nvPicPr>
        <p:blipFill>
          <a:blip r:embed="rId2"/>
          <a:stretch/>
        </p:blipFill>
        <p:spPr>
          <a:xfrm>
            <a:off x="5867280" y="5229360"/>
            <a:ext cx="1368720" cy="1269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Линия"/>
          <p:cNvPicPr/>
          <p:nvPr/>
        </p:nvPicPr>
        <p:blipFill>
          <a:blip r:embed="rId3"/>
          <a:stretch/>
        </p:blipFill>
        <p:spPr>
          <a:xfrm>
            <a:off x="0" y="5877000"/>
            <a:ext cx="5940360" cy="144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Заголовок+"/>
          <p:cNvPicPr/>
          <p:nvPr/>
        </p:nvPicPr>
        <p:blipFill>
          <a:blip r:embed="rId4"/>
          <a:stretch/>
        </p:blipFill>
        <p:spPr>
          <a:xfrm>
            <a:off x="1692360" y="5229360"/>
            <a:ext cx="3600360" cy="1244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Круг"/>
          <p:cNvPicPr/>
          <p:nvPr/>
        </p:nvPicPr>
        <p:blipFill>
          <a:blip r:embed="rId5"/>
          <a:stretch/>
        </p:blipFill>
        <p:spPr>
          <a:xfrm>
            <a:off x="5867280" y="3933720"/>
            <a:ext cx="1368720" cy="1270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Заголовок+"/>
          <p:cNvPicPr/>
          <p:nvPr/>
        </p:nvPicPr>
        <p:blipFill>
          <a:blip r:embed="rId6"/>
          <a:stretch/>
        </p:blipFill>
        <p:spPr>
          <a:xfrm>
            <a:off x="1692360" y="3933720"/>
            <a:ext cx="3600360" cy="1244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Линия"/>
          <p:cNvPicPr/>
          <p:nvPr/>
        </p:nvPicPr>
        <p:blipFill>
          <a:blip r:embed="rId7"/>
          <a:stretch/>
        </p:blipFill>
        <p:spPr>
          <a:xfrm>
            <a:off x="0" y="4508640"/>
            <a:ext cx="5940360" cy="14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Круг"/>
          <p:cNvPicPr/>
          <p:nvPr/>
        </p:nvPicPr>
        <p:blipFill>
          <a:blip r:embed="rId8"/>
          <a:stretch/>
        </p:blipFill>
        <p:spPr>
          <a:xfrm>
            <a:off x="5867280" y="2637000"/>
            <a:ext cx="1368720" cy="1269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Заголовок+"/>
          <p:cNvPicPr/>
          <p:nvPr/>
        </p:nvPicPr>
        <p:blipFill>
          <a:blip r:embed="rId9"/>
          <a:stretch/>
        </p:blipFill>
        <p:spPr>
          <a:xfrm>
            <a:off x="1692360" y="2637000"/>
            <a:ext cx="3600360" cy="1244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Линия"/>
          <p:cNvPicPr/>
          <p:nvPr/>
        </p:nvPicPr>
        <p:blipFill>
          <a:blip r:embed="rId10"/>
          <a:stretch/>
        </p:blipFill>
        <p:spPr>
          <a:xfrm>
            <a:off x="0" y="3213000"/>
            <a:ext cx="5940360" cy="144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"/>
          <p:cNvPicPr/>
          <p:nvPr/>
        </p:nvPicPr>
        <p:blipFill>
          <a:blip r:embed="rId11"/>
          <a:stretch/>
        </p:blipFill>
        <p:spPr>
          <a:xfrm>
            <a:off x="1692360" y="5157720"/>
            <a:ext cx="3603600" cy="12445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3"/>
          <p:cNvSpPr/>
          <p:nvPr/>
        </p:nvSpPr>
        <p:spPr>
          <a:xfrm>
            <a:off x="1979640" y="54450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звука на психику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4" descr=""/>
          <p:cNvPicPr/>
          <p:nvPr/>
        </p:nvPicPr>
        <p:blipFill>
          <a:blip r:embed="rId12"/>
          <a:stretch/>
        </p:blipFill>
        <p:spPr>
          <a:xfrm>
            <a:off x="1692360" y="3913200"/>
            <a:ext cx="3603600" cy="12445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5"/>
          <p:cNvSpPr/>
          <p:nvPr/>
        </p:nvSpPr>
        <p:spPr>
          <a:xfrm>
            <a:off x="1979640" y="414972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звука на организ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6" descr=""/>
          <p:cNvPicPr/>
          <p:nvPr/>
        </p:nvPicPr>
        <p:blipFill>
          <a:blip r:embed="rId13"/>
          <a:stretch/>
        </p:blipFill>
        <p:spPr>
          <a:xfrm>
            <a:off x="1692360" y="2637000"/>
            <a:ext cx="3603600" cy="12445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7"/>
          <p:cNvSpPr/>
          <p:nvPr/>
        </p:nvSpPr>
        <p:spPr>
          <a:xfrm>
            <a:off x="1908000" y="270828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нятие звука и его основные характер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8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372360" y="5445000"/>
            <a:ext cx="576000" cy="792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9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372360" y="4149720"/>
            <a:ext cx="576000" cy="792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0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6372360" y="2852640"/>
            <a:ext cx="576000" cy="7923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1"/>
          <p:cNvSpPr/>
          <p:nvPr/>
        </p:nvSpPr>
        <p:spPr>
          <a:xfrm>
            <a:off x="1692360" y="220500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Выберите пун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2" descr="Круг"/>
          <p:cNvPicPr/>
          <p:nvPr/>
        </p:nvPicPr>
        <p:blipFill>
          <a:blip r:embed="rId20"/>
          <a:stretch/>
        </p:blipFill>
        <p:spPr>
          <a:xfrm>
            <a:off x="7451640" y="5229360"/>
            <a:ext cx="2051280" cy="1903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3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000920" y="5376960"/>
            <a:ext cx="4286160" cy="14810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24"/>
          <p:cNvSpPr/>
          <p:nvPr/>
        </p:nvSpPr>
        <p:spPr>
          <a:xfrm>
            <a:off x="7380360" y="5661000"/>
            <a:ext cx="17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ейти на окончание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remove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3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8"/>
          <p:cNvSpPr/>
          <p:nvPr/>
        </p:nvSpPr>
        <p:spPr>
          <a:xfrm>
            <a:off x="2556000" y="1557360"/>
            <a:ext cx="374472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 оказывает колоссальное влияние на здоровье человека - как физическое, так и психическое. Тем не менее, большинство негативных воздействий можно избежать, а использовать положительные может кажд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влияние звука на наше здоровье прежде всего зависит от н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Заголовок"/>
          <p:cNvPicPr/>
          <p:nvPr/>
        </p:nvPicPr>
        <p:blipFill>
          <a:blip r:embed="rId2"/>
          <a:stretch/>
        </p:blipFill>
        <p:spPr>
          <a:xfrm>
            <a:off x="2484360" y="4221000"/>
            <a:ext cx="3888000" cy="13446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9"/>
          <p:cNvSpPr/>
          <p:nvPr/>
        </p:nvSpPr>
        <p:spPr>
          <a:xfrm>
            <a:off x="2411280" y="4508640"/>
            <a:ext cx="416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2" descr="Заголовок"/>
          <p:cNvPicPr/>
          <p:nvPr/>
        </p:nvPicPr>
        <p:blipFill>
          <a:blip r:embed="rId3"/>
          <a:stretch/>
        </p:blipFill>
        <p:spPr>
          <a:xfrm>
            <a:off x="2340000" y="333360"/>
            <a:ext cx="3887640" cy="13446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1"/>
          <p:cNvSpPr/>
          <p:nvPr/>
        </p:nvSpPr>
        <p:spPr>
          <a:xfrm>
            <a:off x="2556000" y="62064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уем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2571840" y="1611360"/>
            <a:ext cx="360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бардин О.Ф.Физика. -М.: «Школа-Пресс». Физика в школе, 199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е на организм человека опасных и вредных экологических факторов. Метрологические аспекты. В 2-х Т./Под ред. Исаева Л.К. Т.1. – М.: ПАИМАС. 1997. – 512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http://ru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http://MacRol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http://exoteric.roach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http://otvetin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5" descr="Заголовок"/>
          <p:cNvPicPr/>
          <p:nvPr/>
        </p:nvPicPr>
        <p:blipFill>
          <a:blip r:embed="rId4"/>
          <a:stretch/>
        </p:blipFill>
        <p:spPr>
          <a:xfrm>
            <a:off x="2340000" y="333360"/>
            <a:ext cx="3887640" cy="13446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6"/>
          <p:cNvSpPr/>
          <p:nvPr/>
        </p:nvSpPr>
        <p:spPr>
          <a:xfrm>
            <a:off x="2268360" y="620640"/>
            <a:ext cx="410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и 11 «Л» класса шк.№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2500200" y="1643040"/>
            <a:ext cx="4392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ьев  Николай Евген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расова Алёна Дмитр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убина Ирина Олег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бдрахманова Эльвира Альберт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воносова Валерия Вадим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жанникова Александр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брова Я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4255E-006 L -1.38889E-006 -0.56985 E">
                                      <p:cBhvr>
                                        <p:cTn id="858" dur="5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42276E-006 L 0.00052 -0.56938 E">
                                      <p:cBhvr>
                                        <p:cTn id="863" dur="5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5699 L 0.00052 -0.9794 E">
                                      <p:cBhvr>
                                        <p:cTn id="867" dur="5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57037 L -1.38889E-006 -0.90371 E">
                                      <p:cBhvr>
                                        <p:cTn id="869" dur="5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47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9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3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9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3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7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1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9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3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9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8" descr="Круг"/>
          <p:cNvPicPr/>
          <p:nvPr/>
        </p:nvPicPr>
        <p:blipFill>
          <a:blip r:embed="rId2"/>
          <a:stretch/>
        </p:blipFill>
        <p:spPr>
          <a:xfrm>
            <a:off x="5867280" y="5229360"/>
            <a:ext cx="1368720" cy="1269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6" descr="Линия"/>
          <p:cNvPicPr/>
          <p:nvPr/>
        </p:nvPicPr>
        <p:blipFill>
          <a:blip r:embed="rId3"/>
          <a:stretch/>
        </p:blipFill>
        <p:spPr>
          <a:xfrm>
            <a:off x="0" y="5877000"/>
            <a:ext cx="5940360" cy="14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7" descr="Заголовок+"/>
          <p:cNvPicPr/>
          <p:nvPr/>
        </p:nvPicPr>
        <p:blipFill>
          <a:blip r:embed="rId4"/>
          <a:stretch/>
        </p:blipFill>
        <p:spPr>
          <a:xfrm>
            <a:off x="1692360" y="5229360"/>
            <a:ext cx="3600360" cy="1244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5" descr="Круг"/>
          <p:cNvPicPr/>
          <p:nvPr/>
        </p:nvPicPr>
        <p:blipFill>
          <a:blip r:embed="rId5"/>
          <a:stretch/>
        </p:blipFill>
        <p:spPr>
          <a:xfrm>
            <a:off x="5867280" y="3933720"/>
            <a:ext cx="1368720" cy="127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4" descr="Заголовок+"/>
          <p:cNvPicPr/>
          <p:nvPr/>
        </p:nvPicPr>
        <p:blipFill>
          <a:blip r:embed="rId6"/>
          <a:stretch/>
        </p:blipFill>
        <p:spPr>
          <a:xfrm>
            <a:off x="1692360" y="3933720"/>
            <a:ext cx="3600360" cy="1244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3" descr="Линия"/>
          <p:cNvPicPr/>
          <p:nvPr/>
        </p:nvPicPr>
        <p:blipFill>
          <a:blip r:embed="rId7"/>
          <a:stretch/>
        </p:blipFill>
        <p:spPr>
          <a:xfrm>
            <a:off x="0" y="4508640"/>
            <a:ext cx="5940360" cy="14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7" descr="Круг"/>
          <p:cNvPicPr/>
          <p:nvPr/>
        </p:nvPicPr>
        <p:blipFill>
          <a:blip r:embed="rId8"/>
          <a:stretch/>
        </p:blipFill>
        <p:spPr>
          <a:xfrm>
            <a:off x="5867280" y="2637000"/>
            <a:ext cx="1368720" cy="126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4" descr="Заголовок+"/>
          <p:cNvPicPr/>
          <p:nvPr/>
        </p:nvPicPr>
        <p:blipFill>
          <a:blip r:embed="rId9"/>
          <a:stretch/>
        </p:blipFill>
        <p:spPr>
          <a:xfrm>
            <a:off x="1692360" y="2637000"/>
            <a:ext cx="3600360" cy="1244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Линия"/>
          <p:cNvPicPr/>
          <p:nvPr/>
        </p:nvPicPr>
        <p:blipFill>
          <a:blip r:embed="rId10"/>
          <a:stretch/>
        </p:blipFill>
        <p:spPr>
          <a:xfrm>
            <a:off x="0" y="3213000"/>
            <a:ext cx="5940360" cy="14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"/>
          <p:cNvPicPr/>
          <p:nvPr/>
        </p:nvPicPr>
        <p:blipFill>
          <a:blip r:embed="rId11"/>
          <a:stretch/>
        </p:blipFill>
        <p:spPr>
          <a:xfrm>
            <a:off x="1692360" y="3933720"/>
            <a:ext cx="3603600" cy="12448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3"/>
          <p:cNvSpPr/>
          <p:nvPr/>
        </p:nvSpPr>
        <p:spPr>
          <a:xfrm>
            <a:off x="1908000" y="414972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звука на психику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9" descr=""/>
          <p:cNvPicPr/>
          <p:nvPr/>
        </p:nvPicPr>
        <p:blipFill>
          <a:blip r:embed="rId12"/>
          <a:stretch/>
        </p:blipFill>
        <p:spPr>
          <a:xfrm>
            <a:off x="1692360" y="2637000"/>
            <a:ext cx="3603600" cy="1244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0"/>
          <p:cNvSpPr/>
          <p:nvPr/>
        </p:nvSpPr>
        <p:spPr>
          <a:xfrm>
            <a:off x="1908000" y="285264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звука на организ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1" descr=""/>
          <p:cNvPicPr/>
          <p:nvPr/>
        </p:nvPicPr>
        <p:blipFill>
          <a:blip r:embed="rId13"/>
          <a:stretch/>
        </p:blipFill>
        <p:spPr>
          <a:xfrm>
            <a:off x="1692360" y="2637000"/>
            <a:ext cx="3603600" cy="12445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8"/>
          <p:cNvSpPr/>
          <p:nvPr/>
        </p:nvSpPr>
        <p:spPr>
          <a:xfrm>
            <a:off x="1908000" y="270972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нятие звука и его основные характер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Заголовок"/>
          <p:cNvPicPr/>
          <p:nvPr/>
        </p:nvPicPr>
        <p:blipFill>
          <a:blip r:embed="rId14"/>
          <a:stretch/>
        </p:blipFill>
        <p:spPr>
          <a:xfrm>
            <a:off x="1547640" y="1989000"/>
            <a:ext cx="6048720" cy="209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35280" y="2133720"/>
            <a:ext cx="54734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 Unicode MS"/>
              </a:rPr>
              <a:t>Влияние звука на организм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1619280" y="393372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Нажмите левую кнопку мыши, чтобы продолж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0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372360" y="5445000"/>
            <a:ext cx="576000" cy="79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2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6372360" y="4149720"/>
            <a:ext cx="576000" cy="79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3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372360" y="2852640"/>
            <a:ext cx="576000" cy="792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4"/>
          <p:cNvSpPr/>
          <p:nvPr/>
        </p:nvSpPr>
        <p:spPr>
          <a:xfrm>
            <a:off x="1692360" y="220500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Выберите пун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remove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96296E-006 L 0 -0.26759 E">
                                      <p:cBhvr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0 -0.26227 E">
                                      <p:cBhvr>
                                        <p:cTn id="41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-4.44444E-006 0.18889 E">
                                      <p:cBhvr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4.44444E-006 0.18912 E">
                                      <p:cBhvr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-4.44444E-006 0.18889 E">
                                      <p:cBhvr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4.44444E-006 0.18912 E">
                                      <p:cBhvr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remove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"/>
          <p:cNvPicPr/>
          <p:nvPr/>
        </p:nvPicPr>
        <p:blipFill>
          <a:blip r:embed="rId2"/>
          <a:stretch/>
        </p:blipFill>
        <p:spPr>
          <a:xfrm>
            <a:off x="1692360" y="2637000"/>
            <a:ext cx="3603600" cy="12445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7"/>
          <p:cNvSpPr/>
          <p:nvPr/>
        </p:nvSpPr>
        <p:spPr>
          <a:xfrm>
            <a:off x="1908000" y="270972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нятие звука и его основные характер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214200" y="1785960"/>
            <a:ext cx="8607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научной литературе дается понятие звука как колебания частиц в упругих средах, распро-страняющиеся в форме про-дольных волн, частота которых лежит в пределах, воспри-нимаемых человеческим ух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3"/>
          <p:cNvSpPr/>
          <p:nvPr/>
        </p:nvSpPr>
        <p:spPr>
          <a:xfrm>
            <a:off x="214200" y="1785960"/>
            <a:ext cx="8643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воздухе при температуре 00С и нормальном атмосферном да-влении звук распространяется со скоростью 330 м/с, в морской воде – около 1500 м/с, в некоторых металлах скорость звука достигает 7000 м/с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0"/>
          <p:cNvSpPr/>
          <p:nvPr/>
        </p:nvSpPr>
        <p:spPr>
          <a:xfrm>
            <a:off x="357120" y="1785960"/>
            <a:ext cx="8643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угие волны с частотой меньше 16 Гц называют инфразвуком, а волны, частота которых превышает 20000 Гц,- ультразвуком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1"/>
          <p:cNvSpPr/>
          <p:nvPr/>
        </p:nvSpPr>
        <p:spPr>
          <a:xfrm>
            <a:off x="214200" y="1785960"/>
            <a:ext cx="8643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вук может распространяться в газообразной и жидкой среде только в виде продольных волн, а в твердых телах помимо про-дольных волн возникают также и поперечные вол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2"/>
          <p:cNvSpPr/>
          <p:nvPr/>
        </p:nvSpPr>
        <p:spPr>
          <a:xfrm>
            <a:off x="285840" y="1841400"/>
            <a:ext cx="8643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вуковые волны несут с собой энергию, которую сообщает им источник звука.    Интенсивность звука – величина, объективно характеризующая волновой процесс. Единица интенсивности звука – ватт на квадратный метр (Вт/м2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6"/>
          <p:cNvSpPr/>
          <p:nvPr/>
        </p:nvSpPr>
        <p:spPr>
          <a:xfrm>
            <a:off x="214200" y="1841400"/>
            <a:ext cx="8643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бы вызвать звуковое ощущение, волна должна обла-дать некоторой минимальной интенсивностью. Минимальное изменение давления, которое может фиксироваться чело-веческим ухом, определяет порог слышимост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7"/>
          <p:cNvSpPr/>
          <p:nvPr/>
        </p:nvSpPr>
        <p:spPr>
          <a:xfrm>
            <a:off x="285840" y="1841400"/>
            <a:ext cx="8643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 частоте 1000 Гц порог слышимости составляет 10-5 Па, т.е. человеческое ухо фиксирует амплитуду колебания молекул порядка 1 нм. Величина интен-сивности звуковых волн, при пороге слышимости составляет I0 = 10-12 Вт/м2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8"/>
          <p:cNvSpPr/>
          <p:nvPr/>
        </p:nvSpPr>
        <p:spPr>
          <a:xfrm>
            <a:off x="285840" y="1841400"/>
            <a:ext cx="8643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ля разных людей порог слышимости неодинаков: как правило, с возрастом он увели-чивается. Но  чувствительность человеческого уха различна для разных частот. Наиболее чувстви-тельно оно к частотам от 1000 до 4000 Г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9"/>
          <p:cNvSpPr/>
          <p:nvPr/>
        </p:nvSpPr>
        <p:spPr>
          <a:xfrm>
            <a:off x="285840" y="1841400"/>
            <a:ext cx="8643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 очень большой интенсивности волны перестают восприниматься как звук, вызывая в ушах ощущение давящей боли. Максимальное изменение давле-ния, которое в состоянии фикси-ровать человеческое ухо, опре-деляет болевой поро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1"/>
          <p:cNvSpPr/>
          <p:nvPr/>
        </p:nvSpPr>
        <p:spPr>
          <a:xfrm>
            <a:off x="285840" y="190188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левой порог соответствует изменению давления 10 Па. Величина интенсивности звуковых волн, при болевом пороге составляет I б. п. = 1 Вт/м2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2"/>
          <p:cNvSpPr/>
          <p:nvPr/>
        </p:nvSpPr>
        <p:spPr>
          <a:xfrm>
            <a:off x="28584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увствительность нашего уха очень велика. Болевой порог отличается по интенсивности звука от порога слышимости на 12 порядк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3"/>
          <p:cNvSpPr/>
          <p:nvPr/>
        </p:nvSpPr>
        <p:spPr>
          <a:xfrm>
            <a:off x="214200" y="1841400"/>
            <a:ext cx="8643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столько же порядков отли-чается диаметр Земли от толщины человеческого волоса. При таком огромном диапазоне удобно вос-пользоваться логарифмическим масштабом.  С этой целью вводи-тся величина, называемая уровнем интенсивност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4"/>
          <p:cNvSpPr/>
          <p:nvPr/>
        </p:nvSpPr>
        <p:spPr>
          <a:xfrm>
            <a:off x="214200" y="1841400"/>
            <a:ext cx="8643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диницей измерения уровня интенсивности является децибел.  К шуму относятся звуки, которые представляют собой сочетание множества различных тонов, частота, форма, интенсивность и продолжительность действия которых беспорядочно меняютс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5"/>
          <p:cNvSpPr/>
          <p:nvPr/>
        </p:nvSpPr>
        <p:spPr>
          <a:xfrm>
            <a:off x="285840" y="1928880"/>
            <a:ext cx="8643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зависимости от пределов частоты колебаний, на которые приходится максимальная интенсивность, шумы разд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яются на низкочастотные, среднечастотные и высокочасто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ые.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6"/>
          <p:cNvSpPr/>
          <p:nvPr/>
        </p:nvSpPr>
        <p:spPr>
          <a:xfrm>
            <a:off x="214200" y="192888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ум, содержащий все частоты в широком диапазоне спектра примерно одинаковой инте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вности, называется белым шум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7"/>
          <p:cNvSpPr/>
          <p:nvPr/>
        </p:nvSpPr>
        <p:spPr>
          <a:xfrm>
            <a:off x="285840" y="1928880"/>
            <a:ext cx="8643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диницы измерения в области шума такие же, как и для звука вообще. Для измерения уровня интенсивности применяют шум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ры. Установлены нормы уровня интенсивности, обеспечивающие наилучшие условия работы и бы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571760" y="157176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Загрузка, подождит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C:\Documents and Settings\2012.2012-D77CF41EF2\Рабочий стол\Слайд 1\1-1.gif"/>
          <p:cNvPicPr/>
          <p:nvPr/>
        </p:nvPicPr>
        <p:blipFill>
          <a:blip r:embed="rId3"/>
          <a:stretch/>
        </p:blipFill>
        <p:spPr>
          <a:xfrm>
            <a:off x="855720" y="214200"/>
            <a:ext cx="1287360" cy="15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Picture 12" descr="C:\Documents and Settings\2012.2012-D77CF41EF2\Рабочий стол\Слайд 1\2-2.jpg"/>
          <p:cNvPicPr/>
          <p:nvPr/>
        </p:nvPicPr>
        <p:blipFill>
          <a:blip r:embed="rId4"/>
          <a:stretch/>
        </p:blipFill>
        <p:spPr>
          <a:xfrm>
            <a:off x="357120" y="142920"/>
            <a:ext cx="2286000" cy="163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Picture 13" descr="C:\Documents and Settings\2012.2012-D77CF41EF2\Рабочий стол\Слайд 1\3.jpg"/>
          <p:cNvPicPr/>
          <p:nvPr/>
        </p:nvPicPr>
        <p:blipFill>
          <a:blip r:embed="rId5"/>
          <a:stretch/>
        </p:blipFill>
        <p:spPr>
          <a:xfrm>
            <a:off x="357120" y="4643280"/>
            <a:ext cx="8358120" cy="20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Picture 15" descr="C:\Documents and Settings\2012.2012-D77CF41EF2\Рабочий стол\Слайд 1\4-5.jpg"/>
          <p:cNvPicPr/>
          <p:nvPr/>
        </p:nvPicPr>
        <p:blipFill>
          <a:blip r:embed="rId6"/>
          <a:stretch/>
        </p:blipFill>
        <p:spPr>
          <a:xfrm>
            <a:off x="357120" y="142920"/>
            <a:ext cx="2357640" cy="157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Picture 17" descr="C:\Documents and Settings\2012.2012-D77CF41EF2\Рабочий стол\Слайд 1\6-1.jpg"/>
          <p:cNvPicPr/>
          <p:nvPr/>
        </p:nvPicPr>
        <p:blipFill>
          <a:blip r:embed="rId7"/>
          <a:stretch/>
        </p:blipFill>
        <p:spPr>
          <a:xfrm>
            <a:off x="500040" y="142920"/>
            <a:ext cx="2160720" cy="164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Picture 19" descr="C:\Documents and Settings\2012.2012-D77CF41EF2\Рабочий стол\Слайд 1\7-1.jpg"/>
          <p:cNvPicPr/>
          <p:nvPr/>
        </p:nvPicPr>
        <p:blipFill>
          <a:blip r:embed="rId8"/>
          <a:stretch/>
        </p:blipFill>
        <p:spPr>
          <a:xfrm>
            <a:off x="285840" y="142920"/>
            <a:ext cx="2286000" cy="171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remove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1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8 0.04165 L -0.00798 -0.13697 C -0.00798 -0.21726 0.02639 -0.3149 0.05469 -0.3149 L 0.11789 -0.3149 E">
                                      <p:cBhvr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16 0.04165 L -0.00816 -0.14067 C -0.00816 -0.22212 0.02587 -0.32161 0.05399 -0.32161 L 0.11753 -0.32161 E">
                                      <p:cBhvr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Круг"/>
          <p:cNvPicPr/>
          <p:nvPr/>
        </p:nvPicPr>
        <p:blipFill>
          <a:blip r:embed="rId2"/>
          <a:stretch/>
        </p:blipFill>
        <p:spPr>
          <a:xfrm>
            <a:off x="5867280" y="5229360"/>
            <a:ext cx="1368720" cy="1269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Линия"/>
          <p:cNvPicPr/>
          <p:nvPr/>
        </p:nvPicPr>
        <p:blipFill>
          <a:blip r:embed="rId3"/>
          <a:stretch/>
        </p:blipFill>
        <p:spPr>
          <a:xfrm>
            <a:off x="0" y="5877000"/>
            <a:ext cx="5940360" cy="14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Заголовок+"/>
          <p:cNvPicPr/>
          <p:nvPr/>
        </p:nvPicPr>
        <p:blipFill>
          <a:blip r:embed="rId4"/>
          <a:stretch/>
        </p:blipFill>
        <p:spPr>
          <a:xfrm>
            <a:off x="1692360" y="5229360"/>
            <a:ext cx="3600360" cy="1244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Круг"/>
          <p:cNvPicPr/>
          <p:nvPr/>
        </p:nvPicPr>
        <p:blipFill>
          <a:blip r:embed="rId5"/>
          <a:stretch/>
        </p:blipFill>
        <p:spPr>
          <a:xfrm>
            <a:off x="5867280" y="3933720"/>
            <a:ext cx="1368720" cy="1270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Заголовок+"/>
          <p:cNvPicPr/>
          <p:nvPr/>
        </p:nvPicPr>
        <p:blipFill>
          <a:blip r:embed="rId6"/>
          <a:stretch/>
        </p:blipFill>
        <p:spPr>
          <a:xfrm>
            <a:off x="1692360" y="3933720"/>
            <a:ext cx="3600360" cy="1244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Линия"/>
          <p:cNvPicPr/>
          <p:nvPr/>
        </p:nvPicPr>
        <p:blipFill>
          <a:blip r:embed="rId7"/>
          <a:stretch/>
        </p:blipFill>
        <p:spPr>
          <a:xfrm>
            <a:off x="0" y="4508640"/>
            <a:ext cx="5940360" cy="144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Круг"/>
          <p:cNvPicPr/>
          <p:nvPr/>
        </p:nvPicPr>
        <p:blipFill>
          <a:blip r:embed="rId8"/>
          <a:stretch/>
        </p:blipFill>
        <p:spPr>
          <a:xfrm>
            <a:off x="5867280" y="2637000"/>
            <a:ext cx="1368720" cy="1269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Заголовок+"/>
          <p:cNvPicPr/>
          <p:nvPr/>
        </p:nvPicPr>
        <p:blipFill>
          <a:blip r:embed="rId9"/>
          <a:stretch/>
        </p:blipFill>
        <p:spPr>
          <a:xfrm>
            <a:off x="1692360" y="2637000"/>
            <a:ext cx="3600360" cy="1244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Линия"/>
          <p:cNvPicPr/>
          <p:nvPr/>
        </p:nvPicPr>
        <p:blipFill>
          <a:blip r:embed="rId10"/>
          <a:stretch/>
        </p:blipFill>
        <p:spPr>
          <a:xfrm>
            <a:off x="0" y="3213000"/>
            <a:ext cx="5940360" cy="144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11"/>
          <a:stretch/>
        </p:blipFill>
        <p:spPr>
          <a:xfrm>
            <a:off x="1692360" y="5157720"/>
            <a:ext cx="3603600" cy="12445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3"/>
          <p:cNvSpPr/>
          <p:nvPr/>
        </p:nvSpPr>
        <p:spPr>
          <a:xfrm>
            <a:off x="1979640" y="54450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звука на психику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"/>
          <p:cNvPicPr/>
          <p:nvPr/>
        </p:nvPicPr>
        <p:blipFill>
          <a:blip r:embed="rId12"/>
          <a:stretch/>
        </p:blipFill>
        <p:spPr>
          <a:xfrm>
            <a:off x="1692360" y="3913200"/>
            <a:ext cx="3603600" cy="12445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5"/>
          <p:cNvSpPr/>
          <p:nvPr/>
        </p:nvSpPr>
        <p:spPr>
          <a:xfrm>
            <a:off x="1979640" y="414972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звука на организ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6" descr=""/>
          <p:cNvPicPr/>
          <p:nvPr/>
        </p:nvPicPr>
        <p:blipFill>
          <a:blip r:embed="rId13"/>
          <a:stretch/>
        </p:blipFill>
        <p:spPr>
          <a:xfrm>
            <a:off x="1692360" y="2637000"/>
            <a:ext cx="3603600" cy="1244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7"/>
          <p:cNvSpPr/>
          <p:nvPr/>
        </p:nvSpPr>
        <p:spPr>
          <a:xfrm>
            <a:off x="1908000" y="270828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нятие звука и его основные характер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8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372360" y="5445000"/>
            <a:ext cx="576000" cy="792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9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372360" y="4149720"/>
            <a:ext cx="576000" cy="79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0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6372360" y="2852640"/>
            <a:ext cx="576000" cy="792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1"/>
          <p:cNvSpPr/>
          <p:nvPr/>
        </p:nvSpPr>
        <p:spPr>
          <a:xfrm>
            <a:off x="1692360" y="220500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Выберите пун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2" descr="Круг"/>
          <p:cNvPicPr/>
          <p:nvPr/>
        </p:nvPicPr>
        <p:blipFill>
          <a:blip r:embed="rId20"/>
          <a:stretch/>
        </p:blipFill>
        <p:spPr>
          <a:xfrm>
            <a:off x="7451640" y="5229360"/>
            <a:ext cx="2051280" cy="1903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000920" y="5376960"/>
            <a:ext cx="4286160" cy="14810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4">
            <a:hlinkClick r:id="rId23" action="ppaction://hlinksldjump"/>
          </p:cNvPr>
          <p:cNvSpPr/>
          <p:nvPr/>
        </p:nvSpPr>
        <p:spPr>
          <a:xfrm>
            <a:off x="7380360" y="5661000"/>
            <a:ext cx="17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ейти на окончание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remove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7" descr=""/>
          <p:cNvPicPr/>
          <p:nvPr/>
        </p:nvPicPr>
        <p:blipFill>
          <a:blip r:embed="rId2"/>
          <a:stretch/>
        </p:blipFill>
        <p:spPr>
          <a:xfrm>
            <a:off x="2916360" y="260280"/>
            <a:ext cx="3456000" cy="11192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8"/>
          <p:cNvSpPr/>
          <p:nvPr/>
        </p:nvSpPr>
        <p:spPr>
          <a:xfrm>
            <a:off x="2987640" y="981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3"/>
          <a:stretch/>
        </p:blipFill>
        <p:spPr>
          <a:xfrm>
            <a:off x="1692360" y="3933720"/>
            <a:ext cx="3603600" cy="1244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5"/>
          <p:cNvSpPr/>
          <p:nvPr/>
        </p:nvSpPr>
        <p:spPr>
          <a:xfrm>
            <a:off x="1979640" y="414972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звука на организ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7" descr="Рисунок1"/>
          <p:cNvPicPr/>
          <p:nvPr/>
        </p:nvPicPr>
        <p:blipFill>
          <a:blip r:embed="rId4"/>
          <a:stretch/>
        </p:blipFill>
        <p:spPr>
          <a:xfrm>
            <a:off x="317520" y="115920"/>
            <a:ext cx="2598840" cy="17240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9"/>
          <p:cNvSpPr/>
          <p:nvPr/>
        </p:nvSpPr>
        <p:spPr>
          <a:xfrm>
            <a:off x="285840" y="192888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юди давно стали замечать действие тех или иных звуков на человека и его организм, в общем. Постепенно эти знания собирались и систематизировалис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0"/>
          <p:cNvSpPr/>
          <p:nvPr/>
        </p:nvSpPr>
        <p:spPr>
          <a:xfrm>
            <a:off x="285840" y="1928880"/>
            <a:ext cx="8643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х еще и сейчас не так уж много, но достаточно для того, чтобы звукотерапия стала считаться отдельным направлением в медицине, хотя еще и малоисследованны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2"/>
          <p:cNvSpPr/>
          <p:nvPr/>
        </p:nvSpPr>
        <p:spPr>
          <a:xfrm>
            <a:off x="214200" y="1841400"/>
            <a:ext cx="8643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 время проигрывания музыки образуются невидимые для глаза человека частотные колебания. Вибрации своеобразно влияют на внутренние органы человека и могут заставлять работать практически все механизмы высшей нервной деятельност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3"/>
          <p:cNvSpPr/>
          <p:nvPr/>
        </p:nvSpPr>
        <p:spPr>
          <a:xfrm>
            <a:off x="214200" y="2071800"/>
            <a:ext cx="8643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акции, вызванные звуком, положительно влияют на здоровье человека, в результате он выздоравливает намного быстре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5"/>
          <p:cNvSpPr/>
          <p:nvPr/>
        </p:nvSpPr>
        <p:spPr>
          <a:xfrm>
            <a:off x="214200" y="190188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йчас  специалисты уверенны в том, что конкретная нота положительно влияет на определенный орган или помогает в лечении конкретной болез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11022E-016 L -3.88889E-006 -0.27245 C -3.88889E-006 -0.39468 0.03351 -0.54468 0.06094 -0.54468 L 0.12205 -0.54468 E">
                                      <p:cBhvr>
                                        <p:cTn id="328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59259E-006 L 1.94444E-006 -0.27523 C 1.94444E-006 -0.39838 0.03437 -0.54977 0.0625 -0.54977 L 0.12569 -0.54977 E">
                                      <p:cBhvr>
                                        <p:cTn id="330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7407E-006 L -2.5E-006 0.08403 E">
                                      <p:cBhvr>
                                        <p:cTn id="337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07407E-006 L -2.5E-006 0.0574 E">
                                      <p:cBhvr>
                                        <p:cTn id="339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2916360" y="260280"/>
            <a:ext cx="3456000" cy="11192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2987640" y="981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ум и неслышим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3"/>
          <a:stretch/>
        </p:blipFill>
        <p:spPr>
          <a:xfrm>
            <a:off x="2843280" y="189000"/>
            <a:ext cx="3603600" cy="12445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203640" y="40464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звука на организ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214200" y="1841400"/>
            <a:ext cx="8643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ум, даже когда он невелик (при уровне 50–60 дБ), создает значительную нагрузку на нервную систему человека, оказывая на него психологическое воздействие. Это часто наблюдается у людей, занятых умственной деятель-ностью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214200" y="1835280"/>
            <a:ext cx="8643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приятное воздействие шума зависит и от индивидуального отношения к нему. Так, шум, про-изводимый самим человеком, не беспокоит его, в то время как небольшой посторонний шум мо-жет вызвать сильный раздража-ющий эффек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5"/>
          <p:cNvSpPr/>
          <p:nvPr/>
        </p:nvSpPr>
        <p:spPr>
          <a:xfrm>
            <a:off x="214200" y="1830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абый шум различно влияет на людей. Причиной этого могут быть: возраст, состояние здоровья, вид труда, физическое и душевное состояние человека, и др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Рисунок3"/>
          <p:cNvPicPr/>
          <p:nvPr/>
        </p:nvPicPr>
        <p:blipFill>
          <a:blip r:embed="rId4"/>
          <a:stretch/>
        </p:blipFill>
        <p:spPr>
          <a:xfrm>
            <a:off x="843120" y="260280"/>
            <a:ext cx="1555560" cy="15559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141" name="Picture 11" descr="Рисунок2"/>
          <p:cNvPicPr/>
          <p:nvPr/>
        </p:nvPicPr>
        <p:blipFill>
          <a:blip r:embed="rId5"/>
          <a:stretch/>
        </p:blipFill>
        <p:spPr>
          <a:xfrm>
            <a:off x="6858000" y="285840"/>
            <a:ext cx="1512720" cy="15127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  <p:transition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7407E-006 L -2.5E-006 0.08403 E">
                                      <p:cBhvr>
                                        <p:cTn id="398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07407E-006 L -2.5E-006 0.0574 E">
                                      <p:cBhvr>
                                        <p:cTn id="400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2916360" y="797040"/>
            <a:ext cx="3456000" cy="11192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2987640" y="140652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ум и неслышим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3"/>
          <a:stretch/>
        </p:blipFill>
        <p:spPr>
          <a:xfrm>
            <a:off x="2843280" y="189000"/>
            <a:ext cx="3603600" cy="12445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3203640" y="40464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звука на организ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Рисунок3"/>
          <p:cNvPicPr/>
          <p:nvPr/>
        </p:nvPicPr>
        <p:blipFill>
          <a:blip r:embed="rId4"/>
          <a:stretch/>
        </p:blipFill>
        <p:spPr>
          <a:xfrm>
            <a:off x="539640" y="260280"/>
            <a:ext cx="2160720" cy="15559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148" name="Прямоугольник 10"/>
          <p:cNvSpPr/>
          <p:nvPr/>
        </p:nvSpPr>
        <p:spPr>
          <a:xfrm>
            <a:off x="214200" y="1830240"/>
            <a:ext cx="86439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вестно, что ряд таких серьезных заболеваний, как гипертоническая и язвенная болезни, неврозы, желудочно-кишечные, заболевания кожи, патологические изменения, связаны с перенапряжением нервной системы в процессе труда и отдых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2916360" y="797040"/>
            <a:ext cx="3456000" cy="11192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2987640" y="140652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ум и неслышим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3"/>
          <a:stretch/>
        </p:blipFill>
        <p:spPr>
          <a:xfrm>
            <a:off x="2843280" y="189000"/>
            <a:ext cx="3603600" cy="1244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3203640" y="40464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звука на организ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Рисунок2"/>
          <p:cNvPicPr/>
          <p:nvPr/>
        </p:nvPicPr>
        <p:blipFill>
          <a:blip r:embed="rId4"/>
          <a:stretch/>
        </p:blipFill>
        <p:spPr>
          <a:xfrm>
            <a:off x="7164360" y="260280"/>
            <a:ext cx="1135080" cy="151308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155" name="Прямоугольник 9"/>
          <p:cNvSpPr/>
          <p:nvPr/>
        </p:nvSpPr>
        <p:spPr>
          <a:xfrm>
            <a:off x="214200" y="1830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сутствие необходимой тишины, особенно в ночное время, приводит к преждевременной усталости, а часто и к заболевания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0"/>
          <p:cNvSpPr/>
          <p:nvPr/>
        </p:nvSpPr>
        <p:spPr>
          <a:xfrm>
            <a:off x="214200" y="1857240"/>
            <a:ext cx="8643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этой связи необходимо отметить, что шум в 30–40 дБ в ночное время может явиться серьезным беспокоящим факто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1"/>
          <p:cNvSpPr/>
          <p:nvPr/>
        </p:nvSpPr>
        <p:spPr>
          <a:xfrm>
            <a:off x="214200" y="1857240"/>
            <a:ext cx="8643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увеличением уровней до 70 дБ и выше шум может оказывать определенное физиологическое воздействие на человека, приводя к видимым изменениям в его организм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2"/>
          <p:cNvSpPr/>
          <p:nvPr/>
        </p:nvSpPr>
        <p:spPr>
          <a:xfrm>
            <a:off x="214200" y="1857240"/>
            <a:ext cx="8643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 воздействием шума, превышающего 85–90 дБ, в первую очередь снижается слуховая чувствительность на высоких частотах.  Сильный шум вредно отражается на здоровье и работоспособности люд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4"/>
          <p:cNvSpPr/>
          <p:nvPr/>
        </p:nvSpPr>
        <p:spPr>
          <a:xfrm>
            <a:off x="214200" y="1841400"/>
            <a:ext cx="8643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ловек, работая при шуме, привыкает к нему, но продол-жительное действие сильного шума вызывает общее утомление,  приводит к ухудшению слуха, а иногда и к глухоте, происходят изменения объема внутренних орган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5"/>
          <p:cNvSpPr/>
          <p:nvPr/>
        </p:nvSpPr>
        <p:spPr>
          <a:xfrm>
            <a:off x="214200" y="1841400"/>
            <a:ext cx="8643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здействуя на кору головного мозга, шум оказывает раздра-жающее действие, ускоряет процесс утомления, ослабляет внимание и замедляет пси-хические реакции. Уровень шума в 20–30 дБ практически безвреден для челове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6"/>
          <p:cNvSpPr/>
          <p:nvPr/>
        </p:nvSpPr>
        <p:spPr>
          <a:xfrm>
            <a:off x="214200" y="1857240"/>
            <a:ext cx="8643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ля «громких звуков» допустимая граница примерно 80 дБ Звук в 130 дБ уже вызывает у человека болевое ощущение, а в 150 – становится для него непереносимы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7"/>
          <p:cNvSpPr/>
          <p:nvPr/>
        </p:nvSpPr>
        <p:spPr>
          <a:xfrm>
            <a:off x="285840" y="1928880"/>
            <a:ext cx="8643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вук в 180 дБ вызывает усталость металла, а при 190 дБ заклепки вырываются из конструкций. Под влиянием сильного шума, особенно высокочастотного, в органе слуха происходят необратимые измен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8"/>
          <p:cNvSpPr/>
          <p:nvPr/>
        </p:nvSpPr>
        <p:spPr>
          <a:xfrm>
            <a:off x="285840" y="1857240"/>
            <a:ext cx="8643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 высоких уровнях шума понижение слуховой чувстви-тельности наступает уже через 1–2 года работы, при средних уровнях она обнаруживается через 5–10 ле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611280" y="262080"/>
            <a:ext cx="2160360" cy="5745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0" y="3333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стати говор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mozhno-li-izbavitsya-ot-shuma-v-ushah-1"/>
          <p:cNvPicPr/>
          <p:nvPr/>
        </p:nvPicPr>
        <p:blipFill>
          <a:blip r:embed="rId3"/>
          <a:stretch/>
        </p:blipFill>
        <p:spPr>
          <a:xfrm>
            <a:off x="336600" y="1336680"/>
            <a:ext cx="2449440" cy="26640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168" name="Прямоугольник 6"/>
          <p:cNvSpPr/>
          <p:nvPr/>
        </p:nvSpPr>
        <p:spPr>
          <a:xfrm>
            <a:off x="2928960" y="285840"/>
            <a:ext cx="61437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едовательность, с которой происходит утрата слуха, сейчас хорошо изучена. Шу-мная музыка также притупляет слух. Группа специалистов обсле-довала молодежь, часто слушающую модную современную музык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7"/>
          <p:cNvSpPr/>
          <p:nvPr/>
        </p:nvSpPr>
        <p:spPr>
          <a:xfrm>
            <a:off x="2928960" y="285840"/>
            <a:ext cx="61437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 20 процентов юношей и девушек слух оказался притупленным в такой степени, как у 85‑летних(!) стариков. Исследования показали, что и неслышимые звуки также опасн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5:44:16Z</dcterms:created>
  <dc:creator>Рабочий профиль</dc:creator>
  <dc:description/>
  <dc:language>en-US</dc:language>
  <cp:lastModifiedBy>2012</cp:lastModifiedBy>
  <dcterms:modified xsi:type="dcterms:W3CDTF">2012-02-28T07:22:43Z</dcterms:modified>
  <cp:revision>245</cp:revision>
  <dc:subject/>
  <dc:title>Влияние звука на организм человека</dc:title>
</cp:coreProperties>
</file>