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9DF-F0F0-4EC2-8408-FB262D26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936-BED8-4CF5-A7B0-2D4824E0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729-7A22-49ED-ACF3-45061D26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01C-1F80-4268-B189-27EEEE0A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E3C0-5361-4D8E-B33D-A1E1BED8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3C27-A6AC-4B4F-B342-9F851B09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6643-D3AC-40A0-BFEE-3D83C3CA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F291-2C34-448D-A9AF-E5576807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596D-4584-4DC5-9573-B533AA16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624B-9572-4C49-BCD6-258498DD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DE13-C37A-451C-B9E2-3E0953B3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1AF-6A9F-400E-A4C8-E029FFAA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498C-6EBB-48D1-9E43-7BE400A3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C119-5E21-47F4-B650-29158340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51C5-3390-4E3C-A300-11DBD98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3F89-B1EB-4AFF-A603-96E45FF3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C3A7-84CF-487B-B59C-5C55B36B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95F-18CA-4F93-91C0-49B432F5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468-AFEB-4D6E-AD3B-DCFFB1F6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180-C19E-437E-A491-FABC5536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90E-2C63-4A45-A1B2-9F106134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5CE-35C7-4718-BDF5-34B8145A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3E6-B765-4D4D-9808-9860E7DC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5CD-29EC-444E-8374-EC0809F8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C586-8D9E-43E1-A519-CAF1F6FFF9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E4D8-7CBB-46ED-89B7-8A48C347B2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981000"/>
            <a:ext cx="813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ahoma"/>
              </a:rPr>
              <a:t>Военные конструкторы, прославившие Россию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60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ГОРОДСКОЙ НАУЧНО-ПРАКТИЧЕСКИЙ МАРАФОН «ШАЖОК В НАУКУ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58800" y="620640"/>
            <a:ext cx="3814920" cy="4680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0928000">
            <a:off x="4858920" y="4292280"/>
            <a:ext cx="4025880" cy="1450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6516720" y="5877000"/>
            <a:ext cx="17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СВТ-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292720" y="907920"/>
            <a:ext cx="3024360" cy="19846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023840" y="5722920"/>
            <a:ext cx="297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373720"/>
            <a:ext cx="4032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Фёдор Василь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Токар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(1871-1968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2997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пистолет Т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(1930-33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3456000" cy="1800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755640" y="256536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автомат Фёдорова (1913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1280" y="3645000"/>
            <a:ext cx="3384360" cy="1800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39640" y="558972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автомат Фёдор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(1919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3744720" cy="1800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88000" y="620640"/>
            <a:ext cx="3744720" cy="1800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29" name=""/>
          <p:cNvSpPr/>
          <p:nvPr/>
        </p:nvSpPr>
        <p:spPr>
          <a:xfrm flipV="1" rot="10815600">
            <a:off x="4932000" y="5589360"/>
            <a:ext cx="337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автомат Фёдор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(1940-ые 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96000" y="2637000"/>
            <a:ext cx="36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пулемёт Фёдор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2982960" cy="4032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4869000"/>
            <a:ext cx="421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Василий Алексееви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Дегтярё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(1880-1949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356000" y="1916280"/>
            <a:ext cx="4535640" cy="4032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390920" y="76500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Дегтярёв и спаре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авиационный пулемёт (ДА-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567240" cy="4608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468360" y="5291280"/>
            <a:ext cx="381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Пётр Максим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Горюнов</a:t>
            </a: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(1902-1943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148360" y="404640"/>
            <a:ext cx="3479760" cy="4610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643280" y="5291280"/>
            <a:ext cx="450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Георгий Семён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Шпаг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(1897-1952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4826160" cy="3313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258920" y="4149720"/>
            <a:ext cx="27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ДШК  (1938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2822400" cy="4680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42" name=""/>
          <p:cNvSpPr/>
          <p:nvPr/>
        </p:nvSpPr>
        <p:spPr>
          <a:xfrm flipV="1" rot="10800000">
            <a:off x="6012000" y="602064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ДШК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24360" y="2781360"/>
            <a:ext cx="4897440" cy="30654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5076720" y="595008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пистолет-пулемё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Шпагина (1941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4535280" cy="2232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755640" y="292428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пулемёт  Горюн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(СГ-4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537080" cy="35355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68360" y="5084640"/>
            <a:ext cx="44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Михаил Тимофе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Калашников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(1919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19640" y="476280"/>
            <a:ext cx="3529080" cy="27734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 rot="19999800">
            <a:off x="6011640" y="3068640"/>
            <a:ext cx="2038320" cy="3384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226040" cy="4608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0" y="544500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автоматы Калашник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(А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53080" y="4724280"/>
            <a:ext cx="439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284720" y="3068640"/>
            <a:ext cx="4356000" cy="25192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4716360" y="5805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АКН с ночным прицелом НСП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134136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АК – неофициальный символ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3959280" cy="2592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4788000" y="3068640"/>
            <a:ext cx="43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ручной пулемё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Калашникова (РП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3703680" cy="2664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24000" y="314172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первый пистолет—пулемё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Калашник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132000" y="4149720"/>
            <a:ext cx="4319640" cy="23544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7823520" y="59500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П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146560" y="1052640"/>
            <a:ext cx="3527640" cy="2958840"/>
          </a:xfrm>
          <a:prstGeom prst="rect">
            <a:avLst/>
          </a:prstGeom>
          <a:ln w="31680">
            <a:solidFill>
              <a:srgbClr val="ff66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50920" y="1052640"/>
            <a:ext cx="4464000" cy="293976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165" name=""/>
          <p:cNvSpPr/>
          <p:nvPr/>
        </p:nvSpPr>
        <p:spPr>
          <a:xfrm flipV="1" rot="10800000">
            <a:off x="-360" y="-360"/>
            <a:ext cx="947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ahoma"/>
              </a:rPr>
              <a:t>огневая подготов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556000" y="4154400"/>
            <a:ext cx="4529160" cy="2505240"/>
          </a:xfrm>
          <a:prstGeom prst="rect">
            <a:avLst/>
          </a:prstGeom>
          <a:ln w="316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3280" y="90792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ahoma"/>
              </a:rPr>
              <a:t>Цель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5653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проследить пути совершенствования стрелкового оруж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2104560"/>
            <a:ext cx="8642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97,8 % опрошенных знают различные виды стрелкового оруж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3428640"/>
            <a:ext cx="8713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нают военных конструкторов стрелкового оружия 40 учеников (44,4%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830480"/>
            <a:ext cx="8788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79 человек (87,8%) стреляли из стрелкового оруж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60280"/>
            <a:ext cx="8207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6600"/>
                </a:solidFill>
                <a:latin typeface="Tahoma"/>
              </a:rPr>
              <a:t>РЕЗУЛЬТАТЫ АНКЕТИРОВАНИЯ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 rot="20761800">
            <a:off x="5292360" y="2707920"/>
            <a:ext cx="3311640" cy="1800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 rot="460800">
            <a:off x="5651640" y="907560"/>
            <a:ext cx="2944800" cy="16606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 rot="21232200">
            <a:off x="323640" y="836640"/>
            <a:ext cx="2806560" cy="1692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492360" y="1413000"/>
            <a:ext cx="2233800" cy="16556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 rot="21129600">
            <a:off x="323640" y="2781360"/>
            <a:ext cx="3384360" cy="190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 flipH="1" rot="328200">
            <a:off x="5292360" y="4797000"/>
            <a:ext cx="3384720" cy="16225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 rot="21331800">
            <a:off x="1258560" y="4653000"/>
            <a:ext cx="3529080" cy="17906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468360" y="106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Современное стрелковое оруж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6264360" cy="5400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250920" y="6093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Я и мой папа – Ершов Константин Анатольевич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162864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ahoma"/>
              </a:rPr>
              <a:t>Спасибо з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ahoma"/>
              </a:rPr>
              <a:t>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19280" y="0"/>
            <a:ext cx="51847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916280"/>
            <a:ext cx="8424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ознакомиться с различными документами и литературой о русских военных конструкт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изучить историю стрелкового оруж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ределить преимущества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временного оруж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7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ahoma"/>
              </a:rPr>
              <a:t>Задачи исследования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941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вести анкетирование и отразить результ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4573440" cy="3429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27640" y="2852640"/>
            <a:ext cx="4319640" cy="3141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435640" y="404640"/>
            <a:ext cx="3168720" cy="2189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826920" y="4221000"/>
            <a:ext cx="3095640" cy="24447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4788000" y="609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в воинской ч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4246560" cy="30956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3313080" cy="424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39640" y="40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каменный топ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573408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межконтинентальная рак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63640" y="836640"/>
            <a:ext cx="5616720" cy="39942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250920" y="5157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Огнестрельное оружие на Руси – пища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24000" y="4941720"/>
            <a:ext cx="70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Берданка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«русская винтовк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60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ahoma"/>
              </a:rPr>
              <a:t>Первые отечественные оружейни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519280" cy="3240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348000" y="2565360"/>
            <a:ext cx="2457360" cy="3240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300720" y="2060640"/>
            <a:ext cx="2449440" cy="3240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50920" y="5373720"/>
            <a:ext cx="2592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С. И. Мос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(1849-1902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5877000"/>
            <a:ext cx="316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Н. М. Фил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(1870-1935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5445000"/>
            <a:ext cx="273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В. Г. Фёд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(1874-1966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600360" cy="2305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611280" y="2565360"/>
            <a:ext cx="338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Tahoma"/>
              </a:rPr>
              <a:t>винтовка Мосина</a:t>
            </a: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(1891-1930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3657600" cy="24148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539640" y="5950080"/>
            <a:ext cx="34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Tahoma"/>
              </a:rPr>
              <a:t>винтовка Мосина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Tahoma"/>
              </a:rPr>
              <a:t>оружие побед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59280" y="1413000"/>
            <a:ext cx="3816360" cy="3528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5416560" y="501336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Tahoma"/>
              </a:rPr>
              <a:t>снайперская винтовка Моси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3:56:57Z</dcterms:created>
  <dc:creator>vadim</dc:creator>
  <dc:description/>
  <dc:language>en-US</dc:language>
  <cp:lastModifiedBy>Вадим</cp:lastModifiedBy>
  <dcterms:modified xsi:type="dcterms:W3CDTF">2012-02-28T15:46:07Z</dcterms:modified>
  <cp:revision>72</cp:revision>
  <dc:subject/>
  <dc:title>Слайд 1</dc:title>
</cp:coreProperties>
</file>