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6402-2598-458D-B74F-C08481EBE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D420-A4BE-43D0-BF9A-49D9D12AF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3CF-45B9-4A7B-A219-73D93948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3CA-55A8-408A-A5CF-E7D3C0F5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478-71F4-4444-92CF-5A2EB35E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371-EC46-4E00-8E14-C323DD0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277-FA5A-4276-81F6-0FB8F49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716-5D6A-45C9-BA2E-1DF308E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8B4-11DB-4BAF-9F12-07AD4381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682-B644-403E-9180-1EF332C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883-C0F9-4AE1-807B-CE8B98F8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D53-9B01-45F5-B6ED-26FBE6A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712-83D3-4002-AD36-2E5302AC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DEF-5E20-4BC4-B4DF-85BB4F0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54C-A2D7-43B1-8F0A-4E312E4857B3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mayli.ru/prazdnikia_2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stranamasterov.ru/node/314598?tid=1300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proshkolu.ru/user/vik-navigator/folder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Волшебный цветок для любимой мамочки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1"/>
          <a:stretch/>
        </p:blipFill>
        <p:spPr>
          <a:xfrm>
            <a:off x="212760" y="3780000"/>
            <a:ext cx="6535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1" name="Picture 2" descr="C:\Documents and Settings\Admin\Рабочий стол\p1080714.jpg"/>
          <p:cNvPicPr/>
          <p:nvPr/>
        </p:nvPicPr>
        <p:blipFill>
          <a:blip r:embed="rId1"/>
          <a:stretch/>
        </p:blipFill>
        <p:spPr>
          <a:xfrm>
            <a:off x="1214280" y="357120"/>
            <a:ext cx="45007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242856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d23"/>
                </a:solidFill>
                <a:latin typeface="Segoe UI"/>
              </a:rPr>
              <a:t>Нам понадобится: </a:t>
            </a:r>
            <a:br>
              <a:rPr sz="2400"/>
            </a:b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1. Картон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2. Цветная бумага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3. Клей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4. Шаблон лепестка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5. Шаблон листика и центра цветка</a:t>
            </a:r>
            <a:endParaRPr b="0" lang="en-US" sz="24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d23"/>
                </a:solidFill>
                <a:latin typeface="Segoe UI"/>
              </a:rPr>
              <a:t>6. Ножницы, карандаш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4" name="Picture 4" descr="C:\Documents and Settings\Admin\Рабочий стол\p1080699.jpg"/>
          <p:cNvPicPr/>
          <p:nvPr/>
        </p:nvPicPr>
        <p:blipFill>
          <a:blip r:embed="rId8"/>
          <a:stretch/>
        </p:blipFill>
        <p:spPr>
          <a:xfrm>
            <a:off x="392904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8568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Складываем</a:t>
            </a:r>
            <a:r>
              <a:rPr b="0" lang="en-US" sz="2800" spc="-1" strike="noStrike">
                <a:solidFill>
                  <a:srgbClr val="546422"/>
                </a:solidFill>
                <a:latin typeface="Segoe Script"/>
              </a:rPr>
              <a:t> </a:t>
            </a: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вчетверо лист </a:t>
            </a:r>
            <a:br>
              <a:rPr sz="2800"/>
            </a:b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цветной бумаги, </a:t>
            </a:r>
            <a:br>
              <a:rPr sz="2800"/>
            </a:b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шаблон укладываем </a:t>
            </a:r>
            <a:br>
              <a:rPr sz="2800"/>
            </a:b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в центр сгиба</a:t>
            </a: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.</a:t>
            </a:r>
            <a:br>
              <a:rPr sz="4400"/>
            </a:b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Лепестки делаем </a:t>
            </a:r>
            <a:br>
              <a:rPr sz="2800"/>
            </a:br>
            <a:r>
              <a:rPr b="0" lang="ru-RU" sz="2800" spc="-1" strike="noStrike">
                <a:solidFill>
                  <a:srgbClr val="546422"/>
                </a:solidFill>
                <a:latin typeface="Segoe Script"/>
              </a:rPr>
              <a:t>двух цветов.</a:t>
            </a:r>
            <a:endParaRPr b="0" lang="en-US" sz="28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6" name="Picture 2" descr="C:\Documents and Settings\Admin\Рабочий стол\p1080700.jpg"/>
          <p:cNvPicPr/>
          <p:nvPr/>
        </p:nvPicPr>
        <p:blipFill>
          <a:blip r:embed="rId1"/>
          <a:stretch/>
        </p:blipFill>
        <p:spPr>
          <a:xfrm>
            <a:off x="357120" y="307188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Рабочий стол\p1080701.jpg"/>
          <p:cNvPicPr/>
          <p:nvPr/>
        </p:nvPicPr>
        <p:blipFill>
          <a:blip r:embed="rId2"/>
          <a:stretch/>
        </p:blipFill>
        <p:spPr>
          <a:xfrm>
            <a:off x="4643280" y="135720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Всё аккуратно вырезаем и укладываем лепестки друг на друга со смещением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Вырезаем тонкую полосочку</a:t>
            </a:r>
            <a:br>
              <a:rPr sz="3200"/>
            </a:b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 из зелёной бумаги . </a:t>
            </a:r>
            <a:br>
              <a:rPr sz="3200"/>
            </a:b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Это – стебелёк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9" name="Picture 2" descr="C:\Documents and Settings\Admin\Рабочий стол\p1080705.jpg"/>
          <p:cNvPicPr/>
          <p:nvPr/>
        </p:nvPicPr>
        <p:blipFill>
          <a:blip r:embed="rId1"/>
          <a:stretch/>
        </p:blipFill>
        <p:spPr>
          <a:xfrm>
            <a:off x="357120" y="14288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p1080707.jpg"/>
          <p:cNvPicPr/>
          <p:nvPr/>
        </p:nvPicPr>
        <p:blipFill>
          <a:blip r:embed="rId2"/>
          <a:stretch/>
        </p:blipFill>
        <p:spPr>
          <a:xfrm>
            <a:off x="4643280" y="1428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Наносим клей на лепестки цветка только в середину, чтобы аппликация была объёмной, вырезаем по шаблону листочки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62" name="Picture 2" descr="C:\Documents and Settings\Admin\Рабочий стол\p1080709.jpg"/>
          <p:cNvPicPr/>
          <p:nvPr/>
        </p:nvPicPr>
        <p:blipFill>
          <a:blip r:embed="rId1"/>
          <a:stretch/>
        </p:blipFill>
        <p:spPr>
          <a:xfrm>
            <a:off x="5500800" y="2286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p1080712.jpg"/>
          <p:cNvPicPr/>
          <p:nvPr/>
        </p:nvPicPr>
        <p:blipFill>
          <a:blip r:embed="rId2"/>
          <a:stretch/>
        </p:blipFill>
        <p:spPr>
          <a:xfrm>
            <a:off x="357120" y="207180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Карандашом или лезвиями ножниц подкручиваем лепестки и любуемся на красоту, созданную своими руками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65" name="Picture 2" descr="C:\Documents and Settings\Admin\Рабочий стол\p1080714.jpg"/>
          <p:cNvPicPr/>
          <p:nvPr/>
        </p:nvPicPr>
        <p:blipFill>
          <a:blip r:embed="rId1"/>
          <a:stretch/>
        </p:blipFill>
        <p:spPr>
          <a:xfrm>
            <a:off x="1071720" y="19288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Рабочий стол\prazdnikia-2372.gif"/>
          <p:cNvPicPr/>
          <p:nvPr/>
        </p:nvPicPr>
        <p:blipFill>
          <a:blip r:embed="rId2"/>
          <a:stretch/>
        </p:blipFill>
        <p:spPr>
          <a:xfrm>
            <a:off x="5572080" y="1643040"/>
            <a:ext cx="1900440" cy="2586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214960" y="4000680"/>
            <a:ext cx="29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ля любимой мамоч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Интернет – ресурсы: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Segoe UI"/>
                <a:hlinkClick r:id="rId2"/>
              </a:rPr>
              <a:t>http://www.smayli.ru/prazdnikia_2.htm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Материалы сайта «Страна мастеров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Segoe UI"/>
                <a:hlinkClick r:id="rId5"/>
              </a:rPr>
              <a:t>http://stranamasterov.ru/node/314598?tid=1300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Segoe UI"/>
                <a:hlinkClick r:id="rId7"/>
              </a:rPr>
              <a:t>http://www.proshkolu.ru/user/vik-navigator/folder/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Шаблон Татьяны Петровны Писаревской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33:06Z</dcterms:created>
  <dc:creator/>
  <dc:description>Шаблон оформления к 8 Марта</dc:description>
  <dc:language>en-US</dc:language>
  <cp:lastModifiedBy/>
  <dcterms:modified xsi:type="dcterms:W3CDTF">2012-02-27T19:42:09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1049</vt:lpwstr>
  </property>
</Properties>
</file>