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B9A-AF0A-47DF-B053-7D6F385A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A0F-2237-4F72-A9D0-0FB45D33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E77-5F4A-42CE-8023-590D917B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8F4-BD63-4C8A-B56D-4F6909EC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D6B-315C-4F19-BFED-D6F208A7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179-233F-4372-AE02-CF31DFDB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F62-93CC-49D6-930E-D35439A2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320-357D-4E08-BD00-1856D894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5E8-6DA5-4607-A6FD-EFDFC3EF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753-B76F-4FBB-80EB-BA78A3B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2F9-27F4-408E-BB20-F931E57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0C1-10B1-4D9A-A387-021AAC2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931C-C9AB-427B-8542-A22218CB8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42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отыйгия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Г.Тукай Казанда кемдә яшәгә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ә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ъ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ди абзый гаиләсенд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өхәммәтвәли абзый гаиләсенд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Зиннәтулла абзый гаиләсенд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өхәммтвәли абзый гаиләсенд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Г.Тукай Казанга ни өчен кил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олдатка каралыр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кырга керерг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унак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олдатка каралыр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абдулла Кырлайда яш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әгәндә нинди китапны яратып укыган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Иман шарты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лифб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ыскача татар нәхүе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Иман шарты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Box 1" descr=""/>
          <p:cNvPicPr/>
          <p:nvPr/>
        </p:nvPicPr>
        <p:blipFill>
          <a:blip r:embed="rId1"/>
          <a:stretch/>
        </p:blipFill>
        <p:spPr>
          <a:xfrm>
            <a:off x="1060560" y="1951200"/>
            <a:ext cx="4992480" cy="3449520"/>
          </a:xfrm>
          <a:prstGeom prst="rect">
            <a:avLst/>
          </a:prstGeom>
          <a:ln w="0">
            <a:noFill/>
          </a:ln>
        </p:spPr>
      </p:pic>
      <p:grpSp>
        <p:nvGrpSpPr>
          <p:cNvPr id="102" name="5-конечная звезда 2"/>
          <p:cNvGrpSpPr/>
          <p:nvPr/>
        </p:nvGrpSpPr>
        <p:grpSpPr>
          <a:xfrm>
            <a:off x="304920" y="920880"/>
            <a:ext cx="1249200" cy="1498320"/>
            <a:chOff x="304920" y="920880"/>
            <a:chExt cx="1249200" cy="1498320"/>
          </a:xfrm>
        </p:grpSpPr>
        <p:pic>
          <p:nvPicPr>
            <p:cNvPr id="103" name="5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304920" y="920880"/>
              <a:ext cx="124920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92000" y="156852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5-конечная звезда 3"/>
          <p:cNvGrpSpPr/>
          <p:nvPr/>
        </p:nvGrpSpPr>
        <p:grpSpPr>
          <a:xfrm>
            <a:off x="731880" y="4992840"/>
            <a:ext cx="1249200" cy="1500120"/>
            <a:chOff x="731880" y="4992840"/>
            <a:chExt cx="1249200" cy="1500120"/>
          </a:xfrm>
        </p:grpSpPr>
        <p:pic>
          <p:nvPicPr>
            <p:cNvPr id="106" name="5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731880" y="4992840"/>
              <a:ext cx="12492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220760" y="564048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5-конечная звезда 4"/>
          <p:cNvGrpSpPr/>
          <p:nvPr/>
        </p:nvGrpSpPr>
        <p:grpSpPr>
          <a:xfrm>
            <a:off x="4091040" y="5492880"/>
            <a:ext cx="1249200" cy="1498320"/>
            <a:chOff x="4091040" y="5492880"/>
            <a:chExt cx="1249200" cy="1498320"/>
          </a:xfrm>
        </p:grpSpPr>
        <p:pic>
          <p:nvPicPr>
            <p:cNvPr id="109" name="5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4091040" y="5492880"/>
              <a:ext cx="124920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78480" y="614052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5-конечная звезда 5"/>
          <p:cNvGrpSpPr/>
          <p:nvPr/>
        </p:nvGrpSpPr>
        <p:grpSpPr>
          <a:xfrm>
            <a:off x="7016760" y="4992840"/>
            <a:ext cx="1249200" cy="1500120"/>
            <a:chOff x="7016760" y="4992840"/>
            <a:chExt cx="1249200" cy="1500120"/>
          </a:xfrm>
        </p:grpSpPr>
        <p:pic>
          <p:nvPicPr>
            <p:cNvPr id="112" name="5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7016760" y="4992840"/>
              <a:ext cx="12492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07440" y="564048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5-конечная звезда 6"/>
          <p:cNvGrpSpPr/>
          <p:nvPr/>
        </p:nvGrpSpPr>
        <p:grpSpPr>
          <a:xfrm>
            <a:off x="2876400" y="493560"/>
            <a:ext cx="1251000" cy="1494000"/>
            <a:chOff x="2876400" y="493560"/>
            <a:chExt cx="1251000" cy="1494000"/>
          </a:xfrm>
        </p:grpSpPr>
        <p:pic>
          <p:nvPicPr>
            <p:cNvPr id="115" name="5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2876400" y="493560"/>
              <a:ext cx="1251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63840" y="113976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5-конечная звезда 7"/>
          <p:cNvGrpSpPr/>
          <p:nvPr/>
        </p:nvGrpSpPr>
        <p:grpSpPr>
          <a:xfrm>
            <a:off x="2230560" y="2206800"/>
            <a:ext cx="1251000" cy="1493640"/>
            <a:chOff x="2230560" y="2206800"/>
            <a:chExt cx="1251000" cy="1493640"/>
          </a:xfrm>
        </p:grpSpPr>
        <p:pic>
          <p:nvPicPr>
            <p:cNvPr id="118" name="5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2230560" y="2206800"/>
              <a:ext cx="12510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720880" y="2854440"/>
              <a:ext cx="273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5-конечная звезда 8"/>
          <p:cNvGrpSpPr/>
          <p:nvPr/>
        </p:nvGrpSpPr>
        <p:grpSpPr>
          <a:xfrm>
            <a:off x="7375680" y="133200"/>
            <a:ext cx="1250640" cy="1500480"/>
            <a:chOff x="7375680" y="133200"/>
            <a:chExt cx="1250640" cy="1500480"/>
          </a:xfrm>
        </p:grpSpPr>
        <p:pic>
          <p:nvPicPr>
            <p:cNvPr id="121" name="5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7375680" y="133200"/>
              <a:ext cx="1250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864560" y="78264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5-конечная звезда 9"/>
          <p:cNvGrpSpPr/>
          <p:nvPr/>
        </p:nvGrpSpPr>
        <p:grpSpPr>
          <a:xfrm>
            <a:off x="4803840" y="847800"/>
            <a:ext cx="1249200" cy="1498680"/>
            <a:chOff x="4803840" y="847800"/>
            <a:chExt cx="1249200" cy="1498680"/>
          </a:xfrm>
        </p:grpSpPr>
        <p:pic>
          <p:nvPicPr>
            <p:cNvPr id="124" name="5-конечная звезда 9" descr=""/>
            <p:cNvPicPr/>
            <p:nvPr/>
          </p:nvPicPr>
          <p:blipFill>
            <a:blip r:embed="rId9"/>
            <a:stretch/>
          </p:blipFill>
          <p:spPr>
            <a:xfrm>
              <a:off x="4803840" y="847800"/>
              <a:ext cx="12492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292720" y="149688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5-конечная звезда 10"/>
          <p:cNvGrpSpPr/>
          <p:nvPr/>
        </p:nvGrpSpPr>
        <p:grpSpPr>
          <a:xfrm>
            <a:off x="5662440" y="3992400"/>
            <a:ext cx="1251000" cy="1494000"/>
            <a:chOff x="5662440" y="3992400"/>
            <a:chExt cx="1251000" cy="1494000"/>
          </a:xfrm>
        </p:grpSpPr>
        <p:pic>
          <p:nvPicPr>
            <p:cNvPr id="127" name="5-конечная звезда 10" descr=""/>
            <p:cNvPicPr/>
            <p:nvPr/>
          </p:nvPicPr>
          <p:blipFill>
            <a:blip r:embed="rId10"/>
            <a:stretch/>
          </p:blipFill>
          <p:spPr>
            <a:xfrm>
              <a:off x="5662440" y="3992400"/>
              <a:ext cx="1251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149880" y="4640400"/>
              <a:ext cx="273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5-конечная звезда 11"/>
          <p:cNvGrpSpPr/>
          <p:nvPr/>
        </p:nvGrpSpPr>
        <p:grpSpPr>
          <a:xfrm>
            <a:off x="444600" y="2852640"/>
            <a:ext cx="1251000" cy="1494000"/>
            <a:chOff x="444600" y="2852640"/>
            <a:chExt cx="1251000" cy="1494000"/>
          </a:xfrm>
        </p:grpSpPr>
        <p:pic>
          <p:nvPicPr>
            <p:cNvPr id="130" name="5-конечная звезда 11" descr=""/>
            <p:cNvPicPr/>
            <p:nvPr/>
          </p:nvPicPr>
          <p:blipFill>
            <a:blip r:embed="rId11"/>
            <a:stretch/>
          </p:blipFill>
          <p:spPr>
            <a:xfrm>
              <a:off x="444600" y="2852640"/>
              <a:ext cx="1251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934920" y="3497400"/>
              <a:ext cx="273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5-конечная звезда 12"/>
          <p:cNvGrpSpPr/>
          <p:nvPr/>
        </p:nvGrpSpPr>
        <p:grpSpPr>
          <a:xfrm>
            <a:off x="7802640" y="2633760"/>
            <a:ext cx="1249200" cy="1500120"/>
            <a:chOff x="7802640" y="2633760"/>
            <a:chExt cx="1249200" cy="1500120"/>
          </a:xfrm>
        </p:grpSpPr>
        <p:pic>
          <p:nvPicPr>
            <p:cNvPr id="133" name="5-конечная звезда 12" descr=""/>
            <p:cNvPicPr/>
            <p:nvPr/>
          </p:nvPicPr>
          <p:blipFill>
            <a:blip r:embed="rId12"/>
            <a:stretch/>
          </p:blipFill>
          <p:spPr>
            <a:xfrm>
              <a:off x="7802640" y="2633760"/>
              <a:ext cx="12492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292960" y="328284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Ишеттем мин кичә берәү җыр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Г.Тукайның кайсы шигыре гимнга әйләнеп кит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илли моңнар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уган тел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ллүки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әңге яши Тукай безнең күңелләрд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уган тел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Шүрәле”, “Су анасы” сю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етларына нигезләнеп язылган музыка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ан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а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Оп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вертю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а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Монда оркестр, театрлар да шул,... та шу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а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е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Оп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е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Җырны т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Җырны т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1" descr=""/>
          <p:cNvPicPr/>
          <p:nvPr/>
        </p:nvPicPr>
        <p:blipFill>
          <a:blip r:embed="rId1"/>
          <a:stretch/>
        </p:blipFill>
        <p:spPr>
          <a:xfrm>
            <a:off x="950760" y="1852560"/>
            <a:ext cx="7643880" cy="3962520"/>
          </a:xfrm>
          <a:prstGeom prst="rect">
            <a:avLst/>
          </a:prstGeom>
          <a:ln w="0">
            <a:noFill/>
          </a:ln>
        </p:spPr>
      </p:pic>
      <p:grpSp>
        <p:nvGrpSpPr>
          <p:cNvPr id="158" name="5-конечная звезда 2"/>
          <p:cNvGrpSpPr/>
          <p:nvPr/>
        </p:nvGrpSpPr>
        <p:grpSpPr>
          <a:xfrm>
            <a:off x="304920" y="920880"/>
            <a:ext cx="1249200" cy="1498320"/>
            <a:chOff x="304920" y="920880"/>
            <a:chExt cx="1249200" cy="1498320"/>
          </a:xfrm>
        </p:grpSpPr>
        <p:pic>
          <p:nvPicPr>
            <p:cNvPr id="159" name="5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304920" y="920880"/>
              <a:ext cx="124920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92000" y="156852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5-конечная звезда 3"/>
          <p:cNvGrpSpPr/>
          <p:nvPr/>
        </p:nvGrpSpPr>
        <p:grpSpPr>
          <a:xfrm>
            <a:off x="731880" y="4992840"/>
            <a:ext cx="1249200" cy="1500120"/>
            <a:chOff x="731880" y="4992840"/>
            <a:chExt cx="1249200" cy="1500120"/>
          </a:xfrm>
        </p:grpSpPr>
        <p:pic>
          <p:nvPicPr>
            <p:cNvPr id="162" name="5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731880" y="4992840"/>
              <a:ext cx="12492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220760" y="564048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5-конечная звезда 4"/>
          <p:cNvGrpSpPr/>
          <p:nvPr/>
        </p:nvGrpSpPr>
        <p:grpSpPr>
          <a:xfrm>
            <a:off x="4091040" y="5492880"/>
            <a:ext cx="1249200" cy="1498320"/>
            <a:chOff x="4091040" y="5492880"/>
            <a:chExt cx="1249200" cy="1498320"/>
          </a:xfrm>
        </p:grpSpPr>
        <p:pic>
          <p:nvPicPr>
            <p:cNvPr id="165" name="5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4091040" y="5492880"/>
              <a:ext cx="124920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8480" y="614052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5-конечная звезда 5"/>
          <p:cNvGrpSpPr/>
          <p:nvPr/>
        </p:nvGrpSpPr>
        <p:grpSpPr>
          <a:xfrm>
            <a:off x="7016760" y="4992840"/>
            <a:ext cx="1249200" cy="1500120"/>
            <a:chOff x="7016760" y="4992840"/>
            <a:chExt cx="1249200" cy="1500120"/>
          </a:xfrm>
        </p:grpSpPr>
        <p:pic>
          <p:nvPicPr>
            <p:cNvPr id="168" name="5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7016760" y="4992840"/>
              <a:ext cx="12492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507440" y="564048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5-конечная звезда 6"/>
          <p:cNvGrpSpPr/>
          <p:nvPr/>
        </p:nvGrpSpPr>
        <p:grpSpPr>
          <a:xfrm>
            <a:off x="2876400" y="493560"/>
            <a:ext cx="1251000" cy="1494000"/>
            <a:chOff x="2876400" y="493560"/>
            <a:chExt cx="1251000" cy="1494000"/>
          </a:xfrm>
        </p:grpSpPr>
        <p:pic>
          <p:nvPicPr>
            <p:cNvPr id="171" name="5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2876400" y="493560"/>
              <a:ext cx="1251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363840" y="113976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5-конечная звезда 7"/>
          <p:cNvGrpSpPr/>
          <p:nvPr/>
        </p:nvGrpSpPr>
        <p:grpSpPr>
          <a:xfrm>
            <a:off x="2230560" y="2206800"/>
            <a:ext cx="1251000" cy="1493640"/>
            <a:chOff x="2230560" y="2206800"/>
            <a:chExt cx="1251000" cy="1493640"/>
          </a:xfrm>
        </p:grpSpPr>
        <p:pic>
          <p:nvPicPr>
            <p:cNvPr id="174" name="5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2230560" y="2206800"/>
              <a:ext cx="12510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720880" y="2854440"/>
              <a:ext cx="273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5-конечная звезда 8"/>
          <p:cNvGrpSpPr/>
          <p:nvPr/>
        </p:nvGrpSpPr>
        <p:grpSpPr>
          <a:xfrm>
            <a:off x="7375680" y="133200"/>
            <a:ext cx="1250640" cy="1500480"/>
            <a:chOff x="7375680" y="133200"/>
            <a:chExt cx="1250640" cy="1500480"/>
          </a:xfrm>
        </p:grpSpPr>
        <p:pic>
          <p:nvPicPr>
            <p:cNvPr id="177" name="5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7375680" y="133200"/>
              <a:ext cx="1250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864560" y="78264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5-конечная звезда 9"/>
          <p:cNvGrpSpPr/>
          <p:nvPr/>
        </p:nvGrpSpPr>
        <p:grpSpPr>
          <a:xfrm>
            <a:off x="4803840" y="847800"/>
            <a:ext cx="1249200" cy="1498680"/>
            <a:chOff x="4803840" y="847800"/>
            <a:chExt cx="1249200" cy="1498680"/>
          </a:xfrm>
        </p:grpSpPr>
        <p:pic>
          <p:nvPicPr>
            <p:cNvPr id="180" name="5-конечная звезда 9" descr=""/>
            <p:cNvPicPr/>
            <p:nvPr/>
          </p:nvPicPr>
          <p:blipFill>
            <a:blip r:embed="rId9"/>
            <a:stretch/>
          </p:blipFill>
          <p:spPr>
            <a:xfrm>
              <a:off x="4803840" y="847800"/>
              <a:ext cx="12492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292720" y="149688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5-конечная звезда 10"/>
          <p:cNvGrpSpPr/>
          <p:nvPr/>
        </p:nvGrpSpPr>
        <p:grpSpPr>
          <a:xfrm>
            <a:off x="5662440" y="3992400"/>
            <a:ext cx="1251000" cy="1494000"/>
            <a:chOff x="5662440" y="3992400"/>
            <a:chExt cx="1251000" cy="1494000"/>
          </a:xfrm>
        </p:grpSpPr>
        <p:pic>
          <p:nvPicPr>
            <p:cNvPr id="183" name="5-конечная звезда 10" descr=""/>
            <p:cNvPicPr/>
            <p:nvPr/>
          </p:nvPicPr>
          <p:blipFill>
            <a:blip r:embed="rId10"/>
            <a:stretch/>
          </p:blipFill>
          <p:spPr>
            <a:xfrm>
              <a:off x="5662440" y="3992400"/>
              <a:ext cx="1251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149880" y="4640400"/>
              <a:ext cx="273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5-конечная звезда 11"/>
          <p:cNvGrpSpPr/>
          <p:nvPr/>
        </p:nvGrpSpPr>
        <p:grpSpPr>
          <a:xfrm>
            <a:off x="444600" y="2852640"/>
            <a:ext cx="1251000" cy="1494000"/>
            <a:chOff x="444600" y="2852640"/>
            <a:chExt cx="1251000" cy="1494000"/>
          </a:xfrm>
        </p:grpSpPr>
        <p:pic>
          <p:nvPicPr>
            <p:cNvPr id="186" name="5-конечная звезда 11" descr=""/>
            <p:cNvPicPr/>
            <p:nvPr/>
          </p:nvPicPr>
          <p:blipFill>
            <a:blip r:embed="rId11"/>
            <a:stretch/>
          </p:blipFill>
          <p:spPr>
            <a:xfrm>
              <a:off x="444600" y="2852640"/>
              <a:ext cx="1251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934920" y="3497400"/>
              <a:ext cx="273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5-конечная звезда 12"/>
          <p:cNvGrpSpPr/>
          <p:nvPr/>
        </p:nvGrpSpPr>
        <p:grpSpPr>
          <a:xfrm>
            <a:off x="7802640" y="2633760"/>
            <a:ext cx="1249200" cy="1500120"/>
            <a:chOff x="7802640" y="2633760"/>
            <a:chExt cx="1249200" cy="1500120"/>
          </a:xfrm>
        </p:grpSpPr>
        <p:pic>
          <p:nvPicPr>
            <p:cNvPr id="189" name="5-конечная звезда 12" descr=""/>
            <p:cNvPicPr/>
            <p:nvPr/>
          </p:nvPicPr>
          <p:blipFill>
            <a:blip r:embed="rId12"/>
            <a:stretch/>
          </p:blipFill>
          <p:spPr>
            <a:xfrm>
              <a:off x="7802640" y="2633760"/>
              <a:ext cx="12492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292960" y="328284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AutoShape 3"/>
          <p:cNvGrpSpPr/>
          <p:nvPr/>
        </p:nvGrpSpPr>
        <p:grpSpPr>
          <a:xfrm>
            <a:off x="682560" y="255600"/>
            <a:ext cx="7302600" cy="6168960"/>
            <a:chOff x="682560" y="255600"/>
            <a:chExt cx="7302600" cy="6168960"/>
          </a:xfrm>
        </p:grpSpPr>
        <p:pic>
          <p:nvPicPr>
            <p:cNvPr id="47" name="AutoShape 3" descr=""/>
            <p:cNvPicPr/>
            <p:nvPr/>
          </p:nvPicPr>
          <p:blipFill>
            <a:blip r:embed="rId1"/>
            <a:stretch/>
          </p:blipFill>
          <p:spPr>
            <a:xfrm>
              <a:off x="682560" y="255600"/>
              <a:ext cx="73026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029040" y="2657520"/>
              <a:ext cx="259704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WordArt 2"/>
          <p:cNvSpPr txBox="1"/>
          <p:nvPr/>
        </p:nvSpPr>
        <p:spPr>
          <a:xfrm>
            <a:off x="857160" y="1071720"/>
            <a:ext cx="6838920" cy="730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357280" y="1285920"/>
            <a:ext cx="4429440" cy="46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1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51" name="5-конечная звезда 5"/>
          <p:cNvGrpSpPr/>
          <p:nvPr/>
        </p:nvGrpSpPr>
        <p:grpSpPr>
          <a:xfrm>
            <a:off x="304920" y="920880"/>
            <a:ext cx="1249200" cy="1498320"/>
            <a:chOff x="304920" y="920880"/>
            <a:chExt cx="1249200" cy="1498320"/>
          </a:xfrm>
        </p:grpSpPr>
        <p:pic>
          <p:nvPicPr>
            <p:cNvPr id="52" name="5-конечная звезда 5" descr=""/>
            <p:cNvPicPr/>
            <p:nvPr/>
          </p:nvPicPr>
          <p:blipFill>
            <a:blip r:embed="rId6"/>
            <a:stretch/>
          </p:blipFill>
          <p:spPr>
            <a:xfrm>
              <a:off x="304920" y="920880"/>
              <a:ext cx="124920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92000" y="1568520"/>
              <a:ext cx="273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5-конечная звезда 6"/>
          <p:cNvGrpSpPr/>
          <p:nvPr/>
        </p:nvGrpSpPr>
        <p:grpSpPr>
          <a:xfrm>
            <a:off x="2157480" y="66600"/>
            <a:ext cx="1255680" cy="1494000"/>
            <a:chOff x="2157480" y="66600"/>
            <a:chExt cx="1255680" cy="1494000"/>
          </a:xfrm>
        </p:grpSpPr>
        <p:pic>
          <p:nvPicPr>
            <p:cNvPr id="55" name="5-конечная звезда 6" descr=""/>
            <p:cNvPicPr/>
            <p:nvPr/>
          </p:nvPicPr>
          <p:blipFill>
            <a:blip r:embed="rId7"/>
            <a:stretch/>
          </p:blipFill>
          <p:spPr>
            <a:xfrm>
              <a:off x="2157480" y="66600"/>
              <a:ext cx="125568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649600" y="711360"/>
              <a:ext cx="272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5-конечная звезда 7"/>
          <p:cNvGrpSpPr/>
          <p:nvPr/>
        </p:nvGrpSpPr>
        <p:grpSpPr>
          <a:xfrm>
            <a:off x="19080" y="5278320"/>
            <a:ext cx="1249200" cy="1494000"/>
            <a:chOff x="19080" y="5278320"/>
            <a:chExt cx="1249200" cy="1494000"/>
          </a:xfrm>
        </p:grpSpPr>
        <p:pic>
          <p:nvPicPr>
            <p:cNvPr id="58" name="5-конечная звезда 7" descr=""/>
            <p:cNvPicPr/>
            <p:nvPr/>
          </p:nvPicPr>
          <p:blipFill>
            <a:blip r:embed="rId8"/>
            <a:stretch/>
          </p:blipFill>
          <p:spPr>
            <a:xfrm>
              <a:off x="19080" y="5278320"/>
              <a:ext cx="1249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06520" y="592596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5-конечная звезда 8"/>
          <p:cNvGrpSpPr/>
          <p:nvPr/>
        </p:nvGrpSpPr>
        <p:grpSpPr>
          <a:xfrm>
            <a:off x="3803760" y="5425920"/>
            <a:ext cx="1249200" cy="1492560"/>
            <a:chOff x="3803760" y="5425920"/>
            <a:chExt cx="1249200" cy="1492560"/>
          </a:xfrm>
        </p:grpSpPr>
        <p:pic>
          <p:nvPicPr>
            <p:cNvPr id="61" name="5-конечная звезда 8" descr=""/>
            <p:cNvPicPr/>
            <p:nvPr/>
          </p:nvPicPr>
          <p:blipFill>
            <a:blip r:embed="rId9"/>
            <a:stretch/>
          </p:blipFill>
          <p:spPr>
            <a:xfrm>
              <a:off x="3803760" y="5425920"/>
              <a:ext cx="1249200" cy="14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292640" y="606888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5-конечная звезда 9"/>
          <p:cNvGrpSpPr/>
          <p:nvPr/>
        </p:nvGrpSpPr>
        <p:grpSpPr>
          <a:xfrm>
            <a:off x="804960" y="3992400"/>
            <a:ext cx="1249200" cy="1494000"/>
            <a:chOff x="804960" y="3992400"/>
            <a:chExt cx="1249200" cy="1494000"/>
          </a:xfrm>
        </p:grpSpPr>
        <p:pic>
          <p:nvPicPr>
            <p:cNvPr id="64" name="5-конечная звезда 9" descr=""/>
            <p:cNvPicPr/>
            <p:nvPr/>
          </p:nvPicPr>
          <p:blipFill>
            <a:blip r:embed="rId10"/>
            <a:stretch/>
          </p:blipFill>
          <p:spPr>
            <a:xfrm>
              <a:off x="804960" y="3992400"/>
              <a:ext cx="1249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292400" y="4640400"/>
              <a:ext cx="272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5-конечная звезда 10"/>
          <p:cNvGrpSpPr/>
          <p:nvPr/>
        </p:nvGrpSpPr>
        <p:grpSpPr>
          <a:xfrm>
            <a:off x="7089840" y="3992400"/>
            <a:ext cx="1249200" cy="1494000"/>
            <a:chOff x="7089840" y="3992400"/>
            <a:chExt cx="1249200" cy="1494000"/>
          </a:xfrm>
        </p:grpSpPr>
        <p:pic>
          <p:nvPicPr>
            <p:cNvPr id="67" name="5-конечная звезда 10" descr=""/>
            <p:cNvPicPr/>
            <p:nvPr/>
          </p:nvPicPr>
          <p:blipFill>
            <a:blip r:embed="rId11"/>
            <a:stretch/>
          </p:blipFill>
          <p:spPr>
            <a:xfrm>
              <a:off x="7089840" y="3992400"/>
              <a:ext cx="1249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78720" y="4640400"/>
              <a:ext cx="272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5-конечная звезда 11"/>
          <p:cNvGrpSpPr/>
          <p:nvPr/>
        </p:nvGrpSpPr>
        <p:grpSpPr>
          <a:xfrm>
            <a:off x="5730840" y="281160"/>
            <a:ext cx="1255680" cy="1492200"/>
            <a:chOff x="5730840" y="281160"/>
            <a:chExt cx="1255680" cy="1492200"/>
          </a:xfrm>
        </p:grpSpPr>
        <p:pic>
          <p:nvPicPr>
            <p:cNvPr id="70" name="5-конечная звезда 11" descr=""/>
            <p:cNvPicPr/>
            <p:nvPr/>
          </p:nvPicPr>
          <p:blipFill>
            <a:blip r:embed="rId12"/>
            <a:stretch/>
          </p:blipFill>
          <p:spPr>
            <a:xfrm>
              <a:off x="5730840" y="281160"/>
              <a:ext cx="125568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221520" y="92556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5-конечная звезда 12"/>
          <p:cNvGrpSpPr/>
          <p:nvPr/>
        </p:nvGrpSpPr>
        <p:grpSpPr>
          <a:xfrm>
            <a:off x="7516800" y="208080"/>
            <a:ext cx="1255680" cy="1492200"/>
            <a:chOff x="7516800" y="208080"/>
            <a:chExt cx="1255680" cy="1492200"/>
          </a:xfrm>
        </p:grpSpPr>
        <p:pic>
          <p:nvPicPr>
            <p:cNvPr id="73" name="5-конечная звезда 12" descr=""/>
            <p:cNvPicPr/>
            <p:nvPr/>
          </p:nvPicPr>
          <p:blipFill>
            <a:blip r:embed="rId13"/>
            <a:stretch/>
          </p:blipFill>
          <p:spPr>
            <a:xfrm>
              <a:off x="7516800" y="208080"/>
              <a:ext cx="125568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007480" y="853920"/>
              <a:ext cx="272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Иҗат һәм публ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Тукай” романының авторы кем?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Ибраһим Нурул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хмәт Фәй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Хәсән Туф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хмәт Фәй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Г.Тукай Ф Әмирхан һәм Г.Камаллар белән бергә нинди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урнал чыга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Ялт-йол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клар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Яшен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Ялт-йол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Тукай турындагы “Г.Тукай – һәр буынга якын, мәңгелек шагый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” дигән сүзләрне кем әйткән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Г.Исхак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.Аги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Г.Ибраһ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.Аги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Бу әдипләрнең кайсы Г.Тукайның иң якын дусты бу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Г.Кам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Х.Ямаш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Ф.Әмирх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Ф.Әмирх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Г.Тукай исемендәге Дәүләт премиясе иң беренче кемгә бирелә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Х.Туфан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.Фәйзиг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.Еникиг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Балачак и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хмәт Фәйзиг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Г.Тукайның ничә псевдонимы булган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Г.Тукай кайда туга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ырлай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ушлавыч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чилед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ушлавыч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Г.Тукай кайсы авылны “Дө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яга иң беренче күзем ачылган урын “ дип ат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ушлавы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ырл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Җа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ырл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Җаекта Г.Тукай укыган мәдәрәсә кайсы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Хөсәения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отыйгия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Гусмания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8:38:02Z</dcterms:created>
  <dc:creator>гулюса</dc:creator>
  <dc:description/>
  <dc:language>en-US</dc:language>
  <cp:lastModifiedBy>гулюса</cp:lastModifiedBy>
  <dcterms:modified xsi:type="dcterms:W3CDTF">2011-04-19T11:00:52Z</dcterms:modified>
  <cp:revision>15</cp:revision>
  <dc:subject/>
  <dc:title>Слайд 1</dc:title>
</cp:coreProperties>
</file>