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9C6-1503-463C-8659-E595EDE6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5F1-AC31-40F6-A17C-E987C5F5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1BD-8376-429E-B510-EA8F277C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E04-3C04-4D23-A590-F27506C5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24B7-96EC-4E04-97FF-04E411F5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6426-783D-47CF-82D7-AA67367B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20A8-5C2E-4DD7-98E3-33E0BAE3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DF25-749D-4292-AE13-62D854FD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5E89-0F6A-47F9-A5AB-7B124E83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9FEF-5988-4C97-B561-A6109F85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116A-7CDB-4563-9483-5E7A8879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65D-9039-453A-9E5D-9549BF90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CA85-C753-4574-BA63-F87A007B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37F9-5396-4796-AE0D-4A032E16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721C-BB06-40F4-AB17-CF91A572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58B2-3D19-45B4-8155-7C71471D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40F5-A9E4-4924-99A4-C4BD9450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EAC-7C6E-4F2A-8535-7147AD2E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C5D-41F9-4E09-9B1D-626C54F3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AD0-B4BE-4239-973D-96834290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93A-7594-427A-8DA2-AA874059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35C-142A-4F6E-8AD9-971484A7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5EA-DD34-4DF4-9DDA-4903B481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776-5207-4ACD-B990-FF18DDC0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673D77-303D-4550-90DB-F76F8B09938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C3AA27-0668-4ED7-8977-F3C84936B2F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4.xml"/><Relationship Id="rId9" Type="http://schemas.openxmlformats.org/officeDocument/2006/relationships/slide" Target="slide35.xml"/><Relationship Id="rId10" Type="http://schemas.openxmlformats.org/officeDocument/2006/relationships/slide" Target="slide36.xml"/><Relationship Id="rId11" Type="http://schemas.openxmlformats.org/officeDocument/2006/relationships/slide" Target="slide37.xml"/><Relationship Id="rId12" Type="http://schemas.openxmlformats.org/officeDocument/2006/relationships/slide" Target="slide38.xml"/><Relationship Id="rId13" Type="http://schemas.openxmlformats.org/officeDocument/2006/relationships/slide" Target="slide39.xml"/><Relationship Id="rId14" Type="http://schemas.openxmlformats.org/officeDocument/2006/relationships/slide" Target="slide40.xml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4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3.xml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4.xml"/><Relationship Id="rId3" Type="http://schemas.openxmlformats.org/officeDocument/2006/relationships/slide" Target="slide58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333360"/>
            <a:ext cx="471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Monotype Corsiva"/>
              </a:rPr>
              <a:t>Своя игра</a:t>
            </a:r>
            <a:r>
              <a:rPr b="0" lang="ru-RU" sz="60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8000" y="206064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6000" spc="-1" strike="noStrike">
                <a:solidFill>
                  <a:srgbClr val="cc0000"/>
                </a:solidFill>
                <a:latin typeface="Comic Sans MS"/>
              </a:rPr>
              <a:t>«Будьте здоровы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6381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443640" y="1341360"/>
            <a:ext cx="2328840" cy="417672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16000" y="1628640"/>
            <a:ext cx="748836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Как иначе называется флосс, используемый для чистки зубов?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333360"/>
            <a:ext cx="36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5373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убная н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4000" y="404640"/>
            <a:ext cx="115236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620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189000"/>
            <a:ext cx="705816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3399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57340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516720" y="3573360"/>
            <a:ext cx="1860480" cy="212112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3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9640" y="476280"/>
            <a:ext cx="50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620640"/>
            <a:ext cx="7345440" cy="39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С какого возраста начинается формирование осанки?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805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5589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ервых дней жизни ребенк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39640" y="476280"/>
            <a:ext cx="43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476280"/>
            <a:ext cx="7199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Спать на боку в такой позе не рекомендуется.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551664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537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рнувшись калачико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476280"/>
            <a:ext cx="50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260280"/>
            <a:ext cx="561672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3399"/>
                </a:solidFill>
                <a:latin typeface="Arial"/>
              </a:rPr>
              <a:t>«Своя игр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429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Какой должна быть спинка стула для детей?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5516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551664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есткой, прямой или вогнутой форм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989760" y="549360"/>
            <a:ext cx="1492200" cy="26636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8360" y="404640"/>
            <a:ext cx="720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8920" y="1052640"/>
            <a:ext cx="7272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ак определить высоту сиденья стульчика для ребенка?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537372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544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ысота сиденья должна равняться длине гол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11280" y="260280"/>
            <a:ext cx="4334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620640"/>
            <a:ext cx="7921440" cy="23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им по продолжительности должно быть время чистки зубов?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57340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373720"/>
            <a:ext cx="27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-3 минуты</a:t>
            </a:r>
            <a:r>
              <a:rPr b="0" lang="ru-RU" sz="1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682.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68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11280" y="333360"/>
            <a:ext cx="86364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5280" y="1125360"/>
            <a:ext cx="691344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ов срок служб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зубной щетки?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24360" y="5661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-3 месяца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11280" y="476280"/>
            <a:ext cx="36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0"/>
            <a:ext cx="799308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Вопрос - аукцион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6021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324000" y="595008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456160" y="2205000"/>
            <a:ext cx="232884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4360" y="476280"/>
            <a:ext cx="36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0"/>
            <a:ext cx="774072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30 баллов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ое количество зубной пас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до наносить на щетку?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6021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6021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2436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горошину</a:t>
            </a:r>
            <a:r>
              <a:rPr b="0" lang="ru-RU" sz="1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70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Правила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sto MT"/>
              </a:rPr>
              <a:t>В игре участвуют три команды, отвечает команда, капитан которой первым поднимает руку после вопроса ведущ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sto MT"/>
              </a:rPr>
              <a:t>При правильном ответе  на счёт команды записывается соответствующее число бал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sto MT"/>
              </a:rPr>
              <a:t>При неправильном ответе  команда штрафуется на соответствующее число б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ектор «Кот в мешке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Calisto MT"/>
              </a:rPr>
              <a:t>команда передает право ответа одной из команд-соперн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ектор «Вопрос - аукцион»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sto MT"/>
              </a:rPr>
              <a:t>команда назначает любую цену за вопрос, но не ниже номинальной и не выше суммы баллов, имеющейся на счету коман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ектор «Своя игра»</a:t>
            </a:r>
            <a:r>
              <a:rPr b="0" i="1" lang="ru-RU" sz="2400" spc="-1" strike="noStrike">
                <a:solidFill>
                  <a:srgbClr val="80008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Calisto MT"/>
              </a:rPr>
              <a:t>команда имеет право увеличить или уменьшить цену вопроса по своему усмотр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ектор «Счастливый случай»</a:t>
            </a:r>
            <a:r>
              <a:rPr b="0" i="1" lang="ru-RU" sz="2400" spc="-1" strike="noStrike">
                <a:solidFill>
                  <a:srgbClr val="80008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Calisto MT"/>
              </a:rPr>
              <a:t>команда получает указанную на табло сумму б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50920" y="333360"/>
            <a:ext cx="3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00" y="260280"/>
            <a:ext cx="39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47640" y="765000"/>
            <a:ext cx="720108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 нашей стране от этого заболевания страдает почти 100% населен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5734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64000" y="5445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Карие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50920" y="4762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333360"/>
            <a:ext cx="64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76360" y="1700280"/>
            <a:ext cx="5975280" cy="27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Кот в мешк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0 бал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59500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97640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908000" y="620640"/>
            <a:ext cx="669636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ревние славянские поверья гласят, что этот зуб появляется тогда, когда человек достигает духовной зрелости, приобретая защиту высших сил и предков. Тот же, у кого вышли все четыре зуба, считался самым сильным духовно и его называли хранителем 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 каких зубах идёт реч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914544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8520"/>
                <a:gridCol w="1224000"/>
                <a:gridCol w="1297080"/>
                <a:gridCol w="1258560"/>
              </a:tblGrid>
              <a:tr h="228456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1619280" y="62064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Monotype Corsiva"/>
              </a:rPr>
              <a:t>Красный раун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17928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49588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dfd2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0" y="0"/>
          <a:ext cx="914544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8520"/>
                <a:gridCol w="1224000"/>
                <a:gridCol w="1297080"/>
                <a:gridCol w="1258560"/>
              </a:tblGrid>
              <a:tr h="228456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Брос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сигаре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c1f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Берегите сердц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Пит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1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2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3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4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17928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6093000"/>
            <a:ext cx="649080" cy="576000"/>
          </a:xfrm>
          <a:prstGeom prst="pi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47640" y="1268280"/>
            <a:ext cx="66247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 бал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и попадании в больших количествах в организм человека этого содержащегося в табаке яда начинаются судороги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57340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16720" y="5516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981000"/>
            <a:ext cx="64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539640" y="5805360"/>
            <a:ext cx="1440000" cy="576360"/>
          </a:xfrm>
          <a:prstGeom prst="leftArrow">
            <a:avLst>
              <a:gd name="adj1" fmla="val 50000"/>
              <a:gd name="adj2" fmla="val 6246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76360" y="765000"/>
            <a:ext cx="71643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0 балл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Почему курильщику труднее, чем некурящему, выучить стихотворение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5805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64000" y="6021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 курильщиков ухудшается память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5950080"/>
            <a:ext cx="50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981000"/>
            <a:ext cx="64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156360" y="3429000"/>
            <a:ext cx="2003400" cy="248112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rId3" action="ppaction://hlinksldjump"/>
          </p:cNvPr>
          <p:cNvSpPr/>
          <p:nvPr/>
        </p:nvSpPr>
        <p:spPr>
          <a:xfrm>
            <a:off x="539640" y="5805360"/>
            <a:ext cx="1440000" cy="576360"/>
          </a:xfrm>
          <a:prstGeom prst="leftArrow">
            <a:avLst>
              <a:gd name="adj1" fmla="val 50000"/>
              <a:gd name="adj2" fmla="val 6246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476360" y="836640"/>
            <a:ext cx="7272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Arial"/>
              </a:rPr>
              <a:t>«Счастливый случай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981000"/>
            <a:ext cx="64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>
            <a:hlinkClick r:id="rId2" action="ppaction://hlinksldjump"/>
          </p:cNvPr>
          <p:cNvSpPr/>
          <p:nvPr/>
        </p:nvSpPr>
        <p:spPr>
          <a:xfrm>
            <a:off x="539640" y="5805360"/>
            <a:ext cx="1440000" cy="576360"/>
          </a:xfrm>
          <a:prstGeom prst="leftArrow">
            <a:avLst>
              <a:gd name="adj1" fmla="val 50000"/>
              <a:gd name="adj2" fmla="val 6246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724360" y="3789360"/>
            <a:ext cx="1860840" cy="2120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69236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2000" y="549360"/>
            <a:ext cx="734544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При курении часть гемоглобина крови соединяется с этим ядовитым газом. Назовите его.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5661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501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гарный га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5280" y="981000"/>
            <a:ext cx="64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539640" y="5805360"/>
            <a:ext cx="1440000" cy="576360"/>
          </a:xfrm>
          <a:prstGeom prst="leftArrow">
            <a:avLst>
              <a:gd name="adj1" fmla="val 50000"/>
              <a:gd name="adj2" fmla="val 6246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908000" y="476280"/>
            <a:ext cx="594072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«Вопрос-аукцион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573408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981000"/>
            <a:ext cx="64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684360" y="587700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3">
                <a:moveTo>
                  <a:pt x="11905" y="14288"/>
                </a:moveTo>
                <a:lnTo>
                  <a:pt x="11905" y="12330"/>
                </a:lnTo>
                <a:cubicBezTo>
                  <a:pt x="11905" y="11503"/>
                  <a:pt x="12236" y="10807"/>
                  <a:pt x="12837" y="10807"/>
                </a:cubicBezTo>
                <a:cubicBezTo>
                  <a:pt x="13968" y="10807"/>
                  <a:pt x="14865" y="9440"/>
                  <a:pt x="14865" y="7856"/>
                </a:cubicBezTo>
                <a:cubicBezTo>
                  <a:pt x="14865" y="5541"/>
                  <a:pt x="13011" y="3800"/>
                  <a:pt x="10800" y="3800"/>
                </a:cubicBezTo>
                <a:cubicBezTo>
                  <a:pt x="8589" y="3800"/>
                  <a:pt x="6918" y="5541"/>
                  <a:pt x="6918" y="7856"/>
                </a:cubicBezTo>
                <a:lnTo>
                  <a:pt x="8772" y="7856"/>
                </a:lnTo>
                <a:cubicBezTo>
                  <a:pt x="8772" y="6716"/>
                  <a:pt x="9695" y="5828"/>
                  <a:pt x="10800" y="5828"/>
                </a:cubicBezTo>
                <a:cubicBezTo>
                  <a:pt x="11905" y="5828"/>
                  <a:pt x="12837" y="6716"/>
                  <a:pt x="12837" y="7856"/>
                </a:cubicBezTo>
                <a:cubicBezTo>
                  <a:pt x="12837" y="8596"/>
                  <a:pt x="12367" y="9327"/>
                  <a:pt x="11905" y="9327"/>
                </a:cubicBezTo>
                <a:cubicBezTo>
                  <a:pt x="10800" y="9327"/>
                  <a:pt x="9695" y="10807"/>
                  <a:pt x="9695" y="12330"/>
                </a:cubicBezTo>
                <a:lnTo>
                  <a:pt x="9695" y="14288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1924200" cy="2192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0"/>
            <a:ext cx="3779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Сини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РАУН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443700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Умирает только хилое и слабое, здоровое и сильное всегда выходит победителем в борьбе за существован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Чарльз Дарвин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199404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08000" y="476280"/>
            <a:ext cx="59407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Что такое «пассивное курение»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4000" y="573408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1280" y="5445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ебывание в накуренном помещении не менее вредно, чем само кур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981000"/>
            <a:ext cx="64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539640" y="5805360"/>
            <a:ext cx="1440000" cy="576360"/>
          </a:xfrm>
          <a:prstGeom prst="leftArrow">
            <a:avLst>
              <a:gd name="adj1" fmla="val 50000"/>
              <a:gd name="adj2" fmla="val 6246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79280" y="476280"/>
            <a:ext cx="720720" cy="51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49360"/>
            <a:ext cx="568944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5877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595008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4000" y="580536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539640" y="5805360"/>
            <a:ext cx="1295640" cy="576360"/>
          </a:xfrm>
          <a:prstGeom prst="leftArrow">
            <a:avLst>
              <a:gd name="adj1" fmla="val 50000"/>
              <a:gd name="adj2" fmla="val 5619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112840" cy="240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71640" y="404640"/>
            <a:ext cx="777564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Какую пользу для сердца приносят физические упражне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9280" y="623736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1636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Lucida Console"/>
              </a:rPr>
              <a:t>Укрепляется сердечная мыш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0920" y="6021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395280" y="6093000"/>
            <a:ext cx="792000" cy="431640"/>
          </a:xfrm>
          <a:prstGeom prst="leftArrow">
            <a:avLst>
              <a:gd name="adj1" fmla="val 50000"/>
              <a:gd name="adj2" fmla="val 4587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549360"/>
            <a:ext cx="720720" cy="51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549360"/>
            <a:ext cx="820908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Какую первую помощь надо оказать при венозном кровотече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2400" y="6453360"/>
            <a:ext cx="70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48000" y="55897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аложить давящую повяз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468360" y="6021360"/>
            <a:ext cx="790560" cy="432000"/>
          </a:xfrm>
          <a:prstGeom prst="leftArrow">
            <a:avLst>
              <a:gd name="adj1" fmla="val 50000"/>
              <a:gd name="adj2" fmla="val 4575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280" y="476280"/>
            <a:ext cx="720720" cy="51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826920" y="620640"/>
            <a:ext cx="83170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После каких действий наблюдается резкое сужение кровеносных сосудов на 30 мину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5877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50920" y="57340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сле каждой выкуренной сигар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595008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250920" y="630864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476280"/>
            <a:ext cx="720720" cy="51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692360" y="765000"/>
            <a:ext cx="475272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Своя игра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5589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03640" y="602136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Серд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6165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476280"/>
            <a:ext cx="720720" cy="51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6680" y="3789360"/>
            <a:ext cx="657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ган, обеспечивающ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виже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ови в организ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778800" y="260280"/>
            <a:ext cx="189540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95280" y="1413000"/>
            <a:ext cx="5047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476280"/>
            <a:ext cx="7489800" cy="37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В каких единицах измеряется энергетическая ценность пищ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595008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5280" y="580536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250920" y="5950080"/>
            <a:ext cx="1368360" cy="358560"/>
          </a:xfrm>
          <a:prstGeom prst="leftArrow">
            <a:avLst>
              <a:gd name="adj1" fmla="val 50000"/>
              <a:gd name="adj2" fmla="val 95407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360" y="544500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Калор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48200" y="2728800"/>
            <a:ext cx="104760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95280" y="1413000"/>
            <a:ext cx="5047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79640" y="260280"/>
            <a:ext cx="5832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>
            <a:hlinkClick r:id="rId1" action="ppaction://hlinksldjump"/>
          </p:cNvPr>
          <p:cNvSpPr/>
          <p:nvPr/>
        </p:nvSpPr>
        <p:spPr>
          <a:xfrm>
            <a:off x="250920" y="5950080"/>
            <a:ext cx="1368360" cy="358560"/>
          </a:xfrm>
          <a:prstGeom prst="leftArrow">
            <a:avLst>
              <a:gd name="adj1" fmla="val 50000"/>
              <a:gd name="adj2" fmla="val 95407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5913360" y="3573360"/>
            <a:ext cx="2463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95280" y="1413000"/>
            <a:ext cx="5047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19280" y="476280"/>
            <a:ext cx="712944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пособность организма противостоять действию повреждающих факторов, защитная реакция организ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250920" y="5950080"/>
            <a:ext cx="1368360" cy="358560"/>
          </a:xfrm>
          <a:prstGeom prst="leftArrow">
            <a:avLst>
              <a:gd name="adj1" fmla="val 50000"/>
              <a:gd name="adj2" fmla="val 95407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24360" y="544500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Иммунит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95280" y="1413000"/>
            <a:ext cx="5047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250920" y="5950080"/>
            <a:ext cx="1368360" cy="358560"/>
          </a:xfrm>
          <a:prstGeom prst="leftArrow">
            <a:avLst>
              <a:gd name="adj1" fmla="val 50000"/>
              <a:gd name="adj2" fmla="val 95407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24360" y="544500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Регулярность, дробность, разнообраз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476280"/>
            <a:ext cx="71294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Назовите основные принципы рационального 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0"/>
          <a:ext cx="9145440" cy="6857640"/>
        </p:xfrm>
        <a:graphic>
          <a:graphicData uri="http://schemas.openxmlformats.org/drawingml/2006/table">
            <a:tbl>
              <a:tblPr/>
              <a:tblGrid>
                <a:gridCol w="3276720"/>
                <a:gridCol w="1150920"/>
                <a:gridCol w="1082520"/>
                <a:gridCol w="1150920"/>
                <a:gridCol w="1225800"/>
                <a:gridCol w="1258560"/>
              </a:tblGrid>
              <a:tr h="22496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33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Личная гигиена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543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33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Красота осанки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36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Здоровые 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зубы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1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16" action="ppaction://hlinksldjump"/>
          </p:cNvPr>
          <p:cNvSpPr/>
          <p:nvPr/>
        </p:nvSpPr>
        <p:spPr>
          <a:xfrm>
            <a:off x="250920" y="6021360"/>
            <a:ext cx="576000" cy="482760"/>
          </a:xfrm>
          <a:prstGeom prst="pie">
            <a:avLst/>
          </a:prstGeom>
          <a:solidFill>
            <a:srgbClr val="aaf4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95280" y="1413000"/>
            <a:ext cx="5047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250920" y="5950080"/>
            <a:ext cx="1368360" cy="358560"/>
          </a:xfrm>
          <a:prstGeom prst="leftArrow">
            <a:avLst>
              <a:gd name="adj1" fmla="val 50000"/>
              <a:gd name="adj2" fmla="val 95407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24360" y="544500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Абрикос, персик, цитрус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19280" y="476280"/>
            <a:ext cx="712944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Именно эти фрукты  входят в десятку самых полезных для человека продук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995640" y="476280"/>
            <a:ext cx="446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Monotype Corsiva"/>
              </a:rPr>
              <a:t>Зелёный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Monotype Corsiva"/>
              </a:rPr>
              <a:t>раун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28098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0" y="0"/>
          <a:ext cx="9145440" cy="6885000"/>
        </p:xfrm>
        <a:graphic>
          <a:graphicData uri="http://schemas.openxmlformats.org/drawingml/2006/table">
            <a:tbl>
              <a:tblPr/>
              <a:tblGrid>
                <a:gridCol w="2987640"/>
                <a:gridCol w="1224000"/>
                <a:gridCol w="1225440"/>
                <a:gridCol w="1295640"/>
                <a:gridCol w="1225440"/>
                <a:gridCol w="1187280"/>
              </a:tblGrid>
              <a:tr h="22050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Verdana"/>
                        </a:rPr>
                        <a:t>Физическая культу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9999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Verdana"/>
                        </a:rPr>
                        <a:t>Здоровье человека и обще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3907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Verdana"/>
                        </a:rPr>
                        <a:t>Лекарственные раст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0" y="6093000"/>
            <a:ext cx="11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3" action="ppaction://hlinksldjump"/>
          </p:cNvPr>
          <p:cNvSpPr/>
          <p:nvPr/>
        </p:nvSpPr>
        <p:spPr>
          <a:xfrm>
            <a:off x="179280" y="6093000"/>
            <a:ext cx="611280" cy="580680"/>
          </a:xfrm>
          <a:prstGeom prst="pi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 rot="5400000">
            <a:off x="-2140200" y="3084480"/>
            <a:ext cx="5470560" cy="399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изическая культур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619280" y="220500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Где и как зажигается олимпийский огон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00360" y="544500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 Греции в Олимпии от солнечных луч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 rot="5400000">
            <a:off x="-1997280" y="2941560"/>
            <a:ext cx="5184720" cy="399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изическая культур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184464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Так называется состояние полного физического, психического и социального  благополуч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580000" y="5373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здоров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 rot="5400000">
            <a:off x="-1997280" y="2941560"/>
            <a:ext cx="5184720" cy="399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изическая культур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184464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Такое сопровождение зарядки улучшает настроение, облегчает выполнение упражнений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92360" y="5805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Музыкальное сопровож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 rot="5400000">
            <a:off x="-1997280" y="2941560"/>
            <a:ext cx="5184720" cy="399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изическая культур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63640" y="33336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63640" y="141300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от в мешк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92360" y="5805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Аэроб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21800" y="2492280"/>
            <a:ext cx="697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ак называются длительн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физические упражнени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ребующие больш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оличества кислор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659640" y="366840"/>
            <a:ext cx="2049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 rot="5400000">
            <a:off x="-1997280" y="2941560"/>
            <a:ext cx="5184720" cy="399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изическая культур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08000" y="26028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92360" y="198900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воя игр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92360" y="5805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Утом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3716280"/>
            <a:ext cx="767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Состояние мышц после тяжел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физической нагруз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17748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 rot="5400000">
            <a:off x="-2031840" y="2904840"/>
            <a:ext cx="554364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ье человека и обществ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7280" y="184464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одолжите древнее изречение: «В здоровом теле...».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2360" y="5805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здоровый ду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 rot="5400000">
            <a:off x="-2031840" y="2904840"/>
            <a:ext cx="554364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ье человека и обществ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58920" y="2349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«Счастливый случай».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22748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7840" y="568440"/>
            <a:ext cx="84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549360"/>
            <a:ext cx="72007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200" spc="-1" strike="noStrike">
                <a:solidFill>
                  <a:srgbClr val="0000ff"/>
                </a:solidFill>
                <a:latin typeface="Arial"/>
              </a:rPr>
              <a:t>10 баллов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Arial"/>
              </a:rPr>
              <a:t>Это необходимо принимать перед сном ежедневно, а в жаркую погоду - утром и вечером.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404640"/>
            <a:ext cx="43164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ична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иги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9308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у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 rot="5400000">
            <a:off x="-2031840" y="2904840"/>
            <a:ext cx="554364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ье человека и обществ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87280" y="184464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Медики утверждают, что будущее именно за такой медициной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92360" y="5805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рофилакти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 rot="5400000">
            <a:off x="-2031840" y="2904840"/>
            <a:ext cx="554364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ье человека и обществ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87280" y="184464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Это заболевание называют чумой 20 века, неизлечимым оно остаётся и сейча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92360" y="5805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СП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 rot="5400000">
            <a:off x="-2031840" y="2904840"/>
            <a:ext cx="554364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ье человека и обществ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19280" y="620640"/>
            <a:ext cx="47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2205000"/>
            <a:ext cx="6767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Своя иг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Эта наука изучает методы психологической саморегуля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92360" y="5805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сихогиги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492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 rot="5400000">
            <a:off x="-2031840" y="2904840"/>
            <a:ext cx="554364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екарственные раст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87280" y="1844640"/>
            <a:ext cx="7561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екарственное растение, используемое  в народной медицине как потогонное, антисептическое и вяжущее сред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92360" y="5805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Ромашка аптеч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 rot="5400000">
            <a:off x="-2031840" y="2904840"/>
            <a:ext cx="554364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екарственные раст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58920" y="1268280"/>
            <a:ext cx="756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екарственное растение (желчегонное, желудочное), цветки и листья используются как пряность; ядовита для крупного рогатого скота; инсектици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5640" y="5805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ижма обыкно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 rot="5400000">
            <a:off x="-2031840" y="2904840"/>
            <a:ext cx="554364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екарственные раст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619280" y="1268280"/>
            <a:ext cx="727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В переводе с китайского «корень жизни», редкое растение широко используемое в медици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 давних времен корень этого растения использовали как источник тонизирующих соединений, укрепляющих здоровье и продлевающих жизн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95640" y="5805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Женьш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 rot="5400000">
            <a:off x="-2031840" y="2904840"/>
            <a:ext cx="554364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екарственные раст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76360" y="260280"/>
            <a:ext cx="47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2000" y="134136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Кот в меш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11640" y="6021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Рисунок 4" descr="sh_107i.bmp"/>
          <p:cNvPicPr/>
          <p:nvPr/>
        </p:nvPicPr>
        <p:blipFill>
          <a:blip r:embed="rId2"/>
          <a:stretch/>
        </p:blipFill>
        <p:spPr>
          <a:xfrm>
            <a:off x="2771640" y="2421000"/>
            <a:ext cx="2872080" cy="31957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204768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 rot="5400000">
            <a:off x="-2031840" y="2904840"/>
            <a:ext cx="554364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екарственные раст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1268280"/>
            <a:ext cx="7561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стречаются вдоль дорог, на сорных местах, пустырях, в степях, на лугах, песках. Настой и сок из листьев применяются в медицине как отхаркивающее, улучшающее пищеварение средство. Молодые листья идут на супы, сала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одорож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>
            <a:hlinkClick r:id="rId1" action="ppaction://hlinksldjump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4824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Verdana"/>
              </a:rPr>
              <a:t>Своя иг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2928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Verdana"/>
              </a:rPr>
              <a:t>Назовите имя хирурга и анатома, основоположник военно – полевой хирургии. Он впервые применил эфир для наркоза, йод и спирт для предупреждения нагноений ран, создал ряд новых методов операций, носящих его имя. Его именем назван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8000"/>
                </a:solidFill>
                <a:latin typeface="Verdana"/>
              </a:rPr>
              <a:t> Московский медицинский институ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3635280" y="616572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ирогов Николай Иван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209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63640" y="907920"/>
            <a:ext cx="676908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20 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Как часто рекомендуется мыть голову?</a:t>
            </a:r>
            <a:r>
              <a:rPr b="0" lang="ru-RU" sz="1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5445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404640"/>
            <a:ext cx="57600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5373720"/>
            <a:ext cx="34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мере загрязнения, но не реже, чем раз в десять дней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16000" y="1125360"/>
            <a:ext cx="7704000" cy="33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30 балл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Для предупреждения болезней зубов рекомендуется использовать зубные пасты, содержащие этот элемент.</a:t>
            </a:r>
            <a:r>
              <a:rPr b="0" lang="ru-RU" sz="1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530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1187280" y="537372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260280"/>
            <a:ext cx="7207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59640" y="5445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то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404640"/>
            <a:ext cx="763272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Это средство может действительно служить профилактикой кариеса, однако чрезмерное его употребление приводит к перенапряжению слюнных желез, желез желудка и кишечника.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609300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404640"/>
            <a:ext cx="502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5734080"/>
            <a:ext cx="30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евательная резинк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16000" y="1989000"/>
            <a:ext cx="662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«</a:t>
            </a:r>
            <a:r>
              <a:rPr b="1" i="1" lang="ru-RU" sz="5400" spc="-1" strike="noStrike">
                <a:solidFill>
                  <a:srgbClr val="003399"/>
                </a:solidFill>
                <a:latin typeface="Arial"/>
              </a:rPr>
              <a:t>Кот в мешке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60213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324000" y="59500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35" h="21600">
                <a:moveTo>
                  <a:pt x="12973" y="14281"/>
                </a:moveTo>
                <a:lnTo>
                  <a:pt x="12973" y="12323"/>
                </a:lnTo>
                <a:cubicBezTo>
                  <a:pt x="12973" y="11496"/>
                  <a:pt x="13304" y="10800"/>
                  <a:pt x="13904" y="10800"/>
                </a:cubicBezTo>
                <a:cubicBezTo>
                  <a:pt x="15036" y="10800"/>
                  <a:pt x="15932" y="9434"/>
                  <a:pt x="15932" y="7849"/>
                </a:cubicBezTo>
                <a:cubicBezTo>
                  <a:pt x="15932" y="5534"/>
                  <a:pt x="14078" y="3794"/>
                  <a:pt x="11868" y="3794"/>
                </a:cubicBezTo>
                <a:cubicBezTo>
                  <a:pt x="9657" y="3794"/>
                  <a:pt x="7986" y="5534"/>
                  <a:pt x="7986" y="7849"/>
                </a:cubicBezTo>
                <a:lnTo>
                  <a:pt x="9840" y="7849"/>
                </a:lnTo>
                <a:cubicBezTo>
                  <a:pt x="9840" y="6709"/>
                  <a:pt x="10762" y="5821"/>
                  <a:pt x="11868" y="5821"/>
                </a:cubicBezTo>
                <a:cubicBezTo>
                  <a:pt x="12973" y="5821"/>
                  <a:pt x="13904" y="6709"/>
                  <a:pt x="13904" y="7849"/>
                </a:cubicBezTo>
                <a:cubicBezTo>
                  <a:pt x="13904" y="8589"/>
                  <a:pt x="13434" y="9320"/>
                  <a:pt x="12973" y="9320"/>
                </a:cubicBezTo>
                <a:cubicBezTo>
                  <a:pt x="11868" y="9320"/>
                  <a:pt x="10762" y="10800"/>
                  <a:pt x="10762" y="12323"/>
                </a:cubicBezTo>
                <a:lnTo>
                  <a:pt x="10762" y="142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333360"/>
            <a:ext cx="50292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88760" cy="152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1:59:52Z</dcterms:created>
  <dc:creator>JOel</dc:creator>
  <dc:description/>
  <dc:language>en-US</dc:language>
  <cp:lastModifiedBy>Директор</cp:lastModifiedBy>
  <dcterms:modified xsi:type="dcterms:W3CDTF">2012-02-29T06:41:52Z</dcterms:modified>
  <cp:revision>85</cp:revision>
  <dc:subject/>
  <dc:title>Слайд 1</dc:title>
</cp:coreProperties>
</file>