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png" ContentType="image/png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8.jpeg" ContentType="image/jpeg"/>
  <Override PartName="/ppt/media/image6.wmf" ContentType="image/x-wm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coin.wav" ContentType="audio/x-wav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FD0F-ADA5-4735-A1D8-6C3E3427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AC9-4D77-4BD8-BA1E-D2382D68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1B22-D22C-4B6A-B420-7D216BA5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429-6E7F-4A4B-BAF7-7F42061B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8AB-AC5A-4169-8FC6-D5A5A579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89D-A45A-4E74-8F37-973BB337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A3A-2611-426D-BEFD-0755590A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621C-9213-42F2-991A-122FEBE6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BD3A-78FA-478F-BC5E-8E14C2A9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5C8-4053-4B48-ADDB-173759EA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44A-7724-4519-B50E-A605E1DB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0DB-F3A6-49F2-AF23-E7D7F25E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A4F3-4079-4ABB-BC2D-E97A67B0CE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hyperlink" Target="http://coins.lave.ru/email/" TargetMode="External"/><Relationship Id="rId11" Type="http://schemas.openxmlformats.org/officeDocument/2006/relationships/hyperlink" Target="http://coins.lave.ru/forum/forum10.html" TargetMode="External"/><Relationship Id="rId12" Type="http://schemas.openxmlformats.org/officeDocument/2006/relationships/hyperlink" Target="http://coins.lave.ru/forum/forum11.html" TargetMode="External"/><Relationship Id="rId13" Type="http://schemas.openxmlformats.org/officeDocument/2006/relationships/hyperlink" Target="http://coins.lave.ru/nabor/" TargetMode="External"/><Relationship Id="rId14" Type="http://schemas.openxmlformats.org/officeDocument/2006/relationships/hyperlink" Target="http://coins.lave.ru/u1992/6001/" TargetMode="External"/><Relationship Id="rId15" Type="http://schemas.openxmlformats.org/officeDocument/2006/relationships/hyperlink" Target="http://coins.lave.ru/forum/topic441.html" TargetMode="External"/><Relationship Id="rId16" Type="http://schemas.openxmlformats.org/officeDocument/2006/relationships/hyperlink" Target="http://coins.lave.ru/forum/topic439.html" TargetMode="External"/><Relationship Id="rId17" Type="http://schemas.openxmlformats.org/officeDocument/2006/relationships/hyperlink" Target="http://coins.lave.ru/forum/topic439.html" TargetMode="External"/><Relationship Id="rId18" Type="http://schemas.openxmlformats.org/officeDocument/2006/relationships/hyperlink" Target="http://coins.lave.ru/forum/topic443.html" TargetMode="External"/><Relationship Id="rId19" Type="http://schemas.openxmlformats.org/officeDocument/2006/relationships/hyperlink" Target="http://coins.lave.ru/forum/topic442.html" TargetMode="External"/><Relationship Id="rId20" Type="http://schemas.openxmlformats.org/officeDocument/2006/relationships/hyperlink" Target="http://coins.lave.ru/forum/topic442.html" TargetMode="External"/><Relationship Id="rId21" Type="http://schemas.openxmlformats.org/officeDocument/2006/relationships/hyperlink" Target="http://coins.lave.ru/forum/topic442.html" TargetMode="External"/><Relationship Id="rId22" Type="http://schemas.openxmlformats.org/officeDocument/2006/relationships/hyperlink" Target="http://coins.lave.ru/forum/topic442.html" TargetMode="External"/><Relationship Id="rId23" Type="http://schemas.openxmlformats.org/officeDocument/2006/relationships/hyperlink" Target="http://coins.lave.ru/forum/topic440.html" TargetMode="External"/><Relationship Id="rId24" Type="http://schemas.openxmlformats.org/officeDocument/2006/relationships/hyperlink" Target="http://coins.lave.ru/forum/topic349.html" TargetMode="External"/><Relationship Id="rId25" Type="http://schemas.openxmlformats.org/officeDocument/2006/relationships/hyperlink" Target="http://coins.lave.ru/forum/topic424.html" TargetMode="External"/><Relationship Id="rId26" Type="http://schemas.openxmlformats.org/officeDocument/2006/relationships/hyperlink" Target="http://coins.lave.ru/forum/topic435.html" TargetMode="External"/><Relationship Id="rId27" Type="http://schemas.openxmlformats.org/officeDocument/2006/relationships/hyperlink" Target="http://coins.lave.ru/forum/topic429.html" TargetMode="External"/><Relationship Id="rId28" Type="http://schemas.openxmlformats.org/officeDocument/2006/relationships/hyperlink" Target="http://coins.lave.ru/forum/topic429.html" TargetMode="External"/><Relationship Id="rId29" Type="http://schemas.openxmlformats.org/officeDocument/2006/relationships/hyperlink" Target="http://coins.lave.ru/forum/topic438.html" TargetMode="External"/><Relationship Id="rId30" Type="http://schemas.openxmlformats.org/officeDocument/2006/relationships/hyperlink" Target="http://coins.lave.ru/forum/topic436.html" TargetMode="External"/><Relationship Id="rId31" Type="http://schemas.openxmlformats.org/officeDocument/2006/relationships/hyperlink" Target="http://coins.lave.ru/forum/topic436.html" TargetMode="External"/><Relationship Id="rId32" Type="http://schemas.openxmlformats.org/officeDocument/2006/relationships/hyperlink" Target="http://coins.lave.ru/forum/topic436.html" TargetMode="External"/><Relationship Id="rId33" Type="http://schemas.openxmlformats.org/officeDocument/2006/relationships/hyperlink" Target="http://coins.lave.ru/forum/topic432.html" TargetMode="External"/><Relationship Id="rId34" Type="http://schemas.openxmlformats.org/officeDocument/2006/relationships/hyperlink" Target="http://coins.lave.ru/forum/topic391.html" TargetMode="External"/><Relationship Id="rId35" Type="http://schemas.openxmlformats.org/officeDocument/2006/relationships/hyperlink" Target="http://coins.lave.ru/forum/topic430.html" TargetMode="External"/><Relationship Id="rId36" Type="http://schemas.openxmlformats.org/officeDocument/2006/relationships/hyperlink" Target="http://coins.lave.ru/forum/topic423.html" TargetMode="External"/><Relationship Id="rId37" Type="http://schemas.openxmlformats.org/officeDocument/2006/relationships/hyperlink" Target="http://coins.lave.ru/forum/topic423.html" TargetMode="External"/><Relationship Id="rId38" Type="http://schemas.openxmlformats.org/officeDocument/2006/relationships/hyperlink" Target="http://coins.lave.ru/forum/topic423.html" TargetMode="External"/><Relationship Id="rId39" Type="http://schemas.openxmlformats.org/officeDocument/2006/relationships/hyperlink" Target="http://coins.lave.ru/forum/topic341.html" TargetMode="External"/><Relationship Id="rId40" Type="http://schemas.openxmlformats.org/officeDocument/2006/relationships/hyperlink" Target="http://coins.lave.ru/forum/topic29.html" TargetMode="External"/><Relationship Id="rId41" Type="http://schemas.openxmlformats.org/officeDocument/2006/relationships/hyperlink" Target="http://coins.lave.ru/forum/topic426.html" TargetMode="External"/><Relationship Id="rId42" Type="http://schemas.openxmlformats.org/officeDocument/2006/relationships/hyperlink" Target="http://coins.lave.ru/forum/topic408.html" TargetMode="External"/><Relationship Id="rId43" Type="http://schemas.openxmlformats.org/officeDocument/2006/relationships/hyperlink" Target="http://coins.lave.ru/forum/topic50.html" TargetMode="External"/><Relationship Id="rId44" Type="http://schemas.openxmlformats.org/officeDocument/2006/relationships/hyperlink" Target="http://coins.lave.ru/txtart/text_10.html" TargetMode="External"/><Relationship Id="rId45" Type="http://schemas.openxmlformats.org/officeDocument/2006/relationships/hyperlink" Target="http://coins.lave.ru/index.php?poll_id=3" TargetMode="External"/><Relationship Id="rId46" Type="http://schemas.openxmlformats.org/officeDocument/2006/relationships/hyperlink" Target="http://coins.lave.ru/index.php?poll_id=2" TargetMode="External"/><Relationship Id="rId47" Type="http://schemas.openxmlformats.org/officeDocument/2006/relationships/hyperlink" Target="http://coins.lave.ru/index.php?poll_id=1" TargetMode="External"/><Relationship Id="rId48" Type="http://schemas.openxmlformats.org/officeDocument/2006/relationships/hyperlink" Target="http://coins.lave.ru/index.php?poll_id=1" TargetMode="External"/><Relationship Id="rId49" Type="http://schemas.openxmlformats.org/officeDocument/2006/relationships/hyperlink" Target="http://coins.lave.ru/index.php?poll_id=1" TargetMode="External"/><Relationship Id="rId50" Type="http://schemas.openxmlformats.org/officeDocument/2006/relationships/hyperlink" Target="http://www.labirint-shop.ru/?ID_Book=110991" TargetMode="External"/><Relationship Id="rId51" Type="http://schemas.openxmlformats.org/officeDocument/2006/relationships/image" Target="../media/image10.jpeg"/><Relationship Id="rId52" Type="http://schemas.openxmlformats.org/officeDocument/2006/relationships/image" Target="../media/image11.jpeg"/><Relationship Id="rId53" Type="http://schemas.openxmlformats.org/officeDocument/2006/relationships/image" Target="../media/image12.jpeg"/><Relationship Id="rId54" Type="http://schemas.openxmlformats.org/officeDocument/2006/relationships/image" Target="../media/image13.jpeg"/><Relationship Id="rId55" Type="http://schemas.openxmlformats.org/officeDocument/2006/relationships/image" Target="../media/image14.jpeg"/><Relationship Id="rId56" Type="http://schemas.openxmlformats.org/officeDocument/2006/relationships/image" Target="../media/image15.jpeg"/><Relationship Id="rId57" Type="http://schemas.openxmlformats.org/officeDocument/2006/relationships/image" Target="../media/image16.jpeg"/><Relationship Id="rId5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Цена. Количество. Стоим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0000"/>
                </a:solidFill>
                <a:latin typeface="Georgia"/>
              </a:rPr>
              <a:t>Решение задач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19632000">
            <a:off x="1042560" y="393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363800">
            <a:off x="6877080" y="3941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700360" y="4365720"/>
            <a:ext cx="3887640" cy="97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5132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eorgia"/>
              </a:rPr>
              <a:t>                   </a:t>
            </a:r>
            <a:r>
              <a:rPr b="0" i="1" lang="en-US" sz="4700" spc="-1" strike="noStrike">
                <a:solidFill>
                  <a:srgbClr val="ff0000"/>
                </a:solidFill>
                <a:latin typeface="Georgia"/>
              </a:rPr>
              <a:t>Запомни!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2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ru-RU" sz="4100" spc="-1" strike="noStrike">
                <a:solidFill>
                  <a:srgbClr val="0000ff"/>
                </a:solidFill>
                <a:latin typeface="Georgia"/>
              </a:rPr>
              <a:t>Ст.=Ц</a:t>
            </a:r>
            <a:r>
              <a:rPr b="1" lang="el-GR" sz="4100" spc="-1" strike="noStrike">
                <a:solidFill>
                  <a:srgbClr val="0000ff"/>
                </a:solidFill>
                <a:latin typeface="Georgia"/>
              </a:rPr>
              <a:t>·</a:t>
            </a:r>
            <a:r>
              <a:rPr b="1" lang="ru-RU" sz="4100" spc="-1" strike="noStrike">
                <a:solidFill>
                  <a:srgbClr val="0000ff"/>
                </a:solidFill>
                <a:latin typeface="Georgia"/>
              </a:rPr>
              <a:t>К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2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ru-RU" sz="4100" spc="-1" strike="noStrike">
                <a:solidFill>
                  <a:srgbClr val="0000ff"/>
                </a:solidFill>
                <a:latin typeface="Georgia"/>
              </a:rPr>
              <a:t>Ц=Ст:К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2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ru-RU" sz="4100" spc="-1" strike="noStrike">
                <a:solidFill>
                  <a:srgbClr val="0000ff"/>
                </a:solidFill>
                <a:latin typeface="Georgia"/>
              </a:rPr>
              <a:t>К=Ст:Ц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100" spc="-1" strike="noStrike">
                <a:solidFill>
                  <a:srgbClr val="ff0000"/>
                </a:solidFill>
                <a:latin typeface="Georgia"/>
              </a:rPr>
              <a:t>                  </a:t>
            </a:r>
            <a:r>
              <a:rPr b="1" lang="en-US" sz="5100" spc="-1" strike="noStrike">
                <a:solidFill>
                  <a:srgbClr val="ff0000"/>
                </a:solidFill>
                <a:latin typeface="Georgia"/>
              </a:rPr>
              <a:t>Запомни!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ff"/>
                </a:solidFill>
                <a:latin typeface="comic"/>
              </a:rPr>
              <a:t>1р.=100к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1686000">
            <a:off x="5292360" y="1628280"/>
            <a:ext cx="1916280" cy="1916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43280" y="4581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028000" y="393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067280" y="407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020000" y="364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6156360" y="4437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956720" y="501336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5148360" y="4005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6804000" y="551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0"/>
          <a:stretch/>
        </p:blipFill>
        <p:spPr>
          <a:xfrm>
            <a:off x="5580000" y="544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1"/>
          <a:stretch/>
        </p:blipFill>
        <p:spPr>
          <a:xfrm>
            <a:off x="4211640" y="54450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DefaultOcx" descr=""/>
          <p:cNvPicPr/>
          <p:nvPr/>
        </p:nvPicPr>
        <p:blipFill>
          <a:blip r:embed="rId1"/>
          <a:stretch/>
        </p:blipFill>
        <p:spPr>
          <a:xfrm>
            <a:off x="-5014800" y="-52877880"/>
            <a:ext cx="1371600" cy="30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HTMLOption1" descr=""/>
          <p:cNvPicPr/>
          <p:nvPr/>
        </p:nvPicPr>
        <p:blipFill>
          <a:blip r:embed="rId2"/>
          <a:stretch/>
        </p:blipFill>
        <p:spPr>
          <a:xfrm>
            <a:off x="-5014800" y="-52877880"/>
            <a:ext cx="1371600" cy="30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HTMLOption2" descr=""/>
          <p:cNvPicPr/>
          <p:nvPr/>
        </p:nvPicPr>
        <p:blipFill>
          <a:blip r:embed="rId3"/>
          <a:stretch/>
        </p:blipFill>
        <p:spPr>
          <a:xfrm>
            <a:off x="-5014800" y="-52877880"/>
            <a:ext cx="1371600" cy="30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HTMLOption3" descr=""/>
          <p:cNvPicPr/>
          <p:nvPr/>
        </p:nvPicPr>
        <p:blipFill>
          <a:blip r:embed="rId4"/>
          <a:stretch/>
        </p:blipFill>
        <p:spPr>
          <a:xfrm>
            <a:off x="-5014800" y="-52877880"/>
            <a:ext cx="1371600" cy="30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HTMLHidden1" descr=""/>
          <p:cNvPicPr/>
          <p:nvPr/>
        </p:nvPicPr>
        <p:blipFill>
          <a:blip r:embed="rId5"/>
          <a:stretch/>
        </p:blipFill>
        <p:spPr>
          <a:xfrm>
            <a:off x="-5014800" y="-528778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HTMLHidden2" descr=""/>
          <p:cNvPicPr/>
          <p:nvPr/>
        </p:nvPicPr>
        <p:blipFill>
          <a:blip r:embed="rId6"/>
          <a:stretch/>
        </p:blipFill>
        <p:spPr>
          <a:xfrm>
            <a:off x="-5014800" y="-528778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HTMLSubmit1" descr=""/>
          <p:cNvPicPr/>
          <p:nvPr/>
        </p:nvPicPr>
        <p:blipFill>
          <a:blip r:embed="rId7"/>
          <a:stretch/>
        </p:blipFill>
        <p:spPr>
          <a:xfrm>
            <a:off x="-5153040" y="-52906680"/>
            <a:ext cx="1190520" cy="3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-538200" y="-4952052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-538200" y="-49520520"/>
            <a:ext cx="19044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7248960"/>
                <a:gridCol w="98064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-5005440" y="-52868520"/>
          <a:ext cx="16881480" cy="112612320"/>
        </p:xfrm>
        <a:graphic>
          <a:graphicData uri="http://schemas.openxmlformats.org/drawingml/2006/table">
            <a:tbl>
              <a:tblPr/>
              <a:tblGrid>
                <a:gridCol w="216000"/>
                <a:gridCol w="16665480"/>
              </a:tblGrid>
              <a:tr h="1220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юди были всегда склонны к собирательству, кого-то больше интересуют марки, кого-то значки, кого-то пивные крышки, я лично предпочитаю монеты. Коллекционирование монет называется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умизматико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ей и посвещен данный сайт. Больше всего на данный момент сайт ориентирован на монеты СССР и современной России, но есть планы расширить тематику, конечно все охватить не возможно и тут без Вашей помощи не обойтись,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10"/>
                        </a:rPr>
                        <a:t>присылайт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любые материалы статьи и любую интересную информацию, буду рад любому сотрудничеству. Хочу обратить Ваше внимание на то, что сайт "Cамара нумизматика" не является электронным магазином или аукционом, если интересует покупка и продажа монет, то можно разместить объявление на форуме в соответствующем разделе (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11"/>
                        </a:rPr>
                        <a:t>куплю монеты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12"/>
                        </a:rPr>
                        <a:t>продам монеты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.</a:t>
                      </a:r>
                      <a:br>
                        <a:rPr sz="1100"/>
                      </a:b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7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ара нумизматика - Нов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7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07.2006 Сайт на реконструкции, некоторые разделы временно не работают.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3.2006 Добавлен раздел </a:t>
                      </a:r>
                      <a:r>
                        <a:rPr b="0" lang="en-US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13"/>
                        </a:rPr>
                        <a:t>НАБОРЫ МОНЕТ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, в котором описаны наборы монет СССР и России с ориентировочными рыночными ценами.</a:t>
                      </a:r>
                      <a:br>
                        <a:rPr sz="1100"/>
                      </a:b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10.03.2006 Учитывая повышенный интерес к современным юбилейным монетам России номиналом 10 рублей из биметалла, опубликован полный список этих монет. Посмотреть его можно </a:t>
                      </a:r>
                      <a:r>
                        <a:rPr b="0" lang="en-US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14"/>
                        </a:rPr>
                        <a:t>здесь</a:t>
                      </a:r>
                      <a:br>
                        <a:rPr sz="1100"/>
                      </a:b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ледние сообщения на форум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-02-2007 11:10:54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15"/>
                        </a:rPr>
                        <a:t>Цена монет 2001г, 2003г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-02-2007 10:54:35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16"/>
                        </a:rPr>
                        <a:t>Юбилейка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17"/>
                        </a:rPr>
                        <a:t> СССр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-02-2007 00:31:04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18"/>
                        </a:rPr>
                        <a:t>Орден Св. Анны I степени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-02-2007 00:27:25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19"/>
                        </a:rPr>
                        <a:t>медаль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20"/>
                        </a:rPr>
                        <a:t>марии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21"/>
                        </a:rPr>
                        <a:t>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22"/>
                        </a:rPr>
                        <a:t>федоровны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-02-2007 20:11:01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23"/>
                        </a:rPr>
                        <a:t>оцените 2коп серебром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-02-2007 19:46:41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24"/>
                        </a:rPr>
                        <a:t>1 и 5 коп. 1997-2006 г.г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-02-2007 13:10:10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25"/>
                        </a:rPr>
                        <a:t>Рубль 1727г.Исправил фотку. Помогите оценить монетку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-02-2007 08:48:44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26"/>
                        </a:rPr>
                        <a:t>Помогите опознать полушку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-02-2007 08:42:36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27"/>
                        </a:rPr>
                        <a:t>Серебрянный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28"/>
                        </a:rPr>
                        <a:t> рубль 1813 года хочу продать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-02-2007 08:37:50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29"/>
                        </a:rPr>
                        <a:t>Коллекционные монеты Казахстана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-02-2007 18:58:12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30"/>
                        </a:rPr>
                        <a:t>продам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31"/>
                        </a:rPr>
                        <a:t>серебрянные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32"/>
                        </a:rPr>
                        <a:t> монеты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-02-2007 15:36:20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33"/>
                        </a:rPr>
                        <a:t>Сколько стоят?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-02-2007 00:07:00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34"/>
                        </a:rPr>
                        <a:t>популярность интернет торговли монетами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-02-2007 00:06:33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35"/>
                        </a:rPr>
                        <a:t>ПОЛЬША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-02-2007 23:36:42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36"/>
                        </a:rPr>
                        <a:t>Медаль с изображением Ягайло и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37"/>
                        </a:rPr>
                        <a:t>Ядвиги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38"/>
                        </a:rPr>
                        <a:t> 1861 г.Сколько стоит?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-02-2007 20:36:55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39"/>
                        </a:rPr>
                        <a:t>подскажите цену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-02-2007 11:42:50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40"/>
                        </a:rPr>
                        <a:t>Куплю или обменяю Боны Острова Шпицберген и прочее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-02-2007 02:57:21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41"/>
                        </a:rPr>
                        <a:t>ПОМЕНЯЕМСЯ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-02-2007 00:36:09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42"/>
                        </a:rPr>
                        <a:t>Помогите определить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-02-2007 21:20:16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43"/>
                        </a:rPr>
                        <a:t>1 рубль 1997м с широким кантом куплю</a:t>
                      </a:r>
                      <a:br>
                        <a:rPr sz="1100"/>
                      </a:b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нонс стать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4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умизматика - наука о монетах. Это вспомогательная историческая дисциплина, изучающая историю монетной чеканки и денежного обращения. В основе слова "нумизматика" лежит греческое имя существительное "номос" - закон, законное платежное средство и производное от него "номизма" - монета. В Европе коллекционирование монет зародилось в эпоху Возрождения сначала в Италии, а затем в других странах. Тогда же стали пояляться первые труды, объясняющие изображения и надписи на монетах.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44"/>
                        </a:rPr>
                        <a:t>читать дальше</a:t>
                      </a:r>
                      <a:br>
                        <a:rPr sz="1100"/>
                      </a:b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лезные книги по нумизматик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умизматические опрос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2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-07-2006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45"/>
                        </a:rPr>
                        <a:t>Ваша жена (подруга) знает, что Ваша коллекция дороже ее шубы?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-07-2006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46"/>
                        </a:rPr>
                        <a:t>нумизматика Ваш основной вид деятельности?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-07-2006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47"/>
                        </a:rPr>
                        <a:t>Собираете ли Вы 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48"/>
                        </a:rPr>
                        <a:t>погодовку</a:t>
                      </a:r>
                      <a:r>
                        <a:rPr b="0" lang="ru-RU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49"/>
                        </a:rPr>
                        <a:t> современной России?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1876040" y="-52868520"/>
          <a:ext cx="2274840" cy="9534960"/>
        </p:xfrm>
        <a:graphic>
          <a:graphicData uri="http://schemas.openxmlformats.org/drawingml/2006/table">
            <a:tbl>
              <a:tblPr/>
              <a:tblGrid>
                <a:gridCol w="2274840"/>
              </a:tblGrid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амара нумизм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6699"/>
                    </a:solidFill>
                  </a:tcPr>
                </a:tc>
              </a:tr>
              <a:tr h="9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66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-4995720" y="57410280"/>
          <a:ext cx="16849440" cy="1295280"/>
        </p:xfrm>
        <a:graphic>
          <a:graphicData uri="http://schemas.openxmlformats.org/drawingml/2006/table">
            <a:tbl>
              <a:tblPr/>
              <a:tblGrid>
                <a:gridCol w="937800"/>
                <a:gridCol w="5843160"/>
                <a:gridCol w="5021640"/>
                <a:gridCol w="937440"/>
                <a:gridCol w="4109400"/>
              </a:tblGrid>
              <a:tr h="179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7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мятные и инвестиционные монеты России. 1921-1991: Каталог-справочни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мятные и инвестиционные монеты России. 1992-2002: Каталог-путеводител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50"/>
                        </a:rPr>
                        <a:t>  </a:t>
                      </a:r>
                      <a:r>
                        <a:rPr b="0" lang="en-US" sz="7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неты Российской империи. Платиновые, золотые, серебряные 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1885760" y="-52684200"/>
          <a:ext cx="2265120" cy="9360000"/>
        </p:xfrm>
        <a:graphic>
          <a:graphicData uri="http://schemas.openxmlformats.org/drawingml/2006/table">
            <a:tbl>
              <a:tblPr/>
              <a:tblGrid>
                <a:gridCol w="2265120"/>
              </a:tblGrid>
              <a:tr h="356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умизматика Ваш основной вид деятельности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0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1895120" y="-52327080"/>
          <a:ext cx="345960" cy="9002880"/>
        </p:xfrm>
        <a:graphic>
          <a:graphicData uri="http://schemas.openxmlformats.org/drawingml/2006/table">
            <a:tbl>
              <a:tblPr/>
              <a:tblGrid>
                <a:gridCol w="345960"/>
              </a:tblGrid>
              <a:tr h="900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1904840" y="-52317720"/>
          <a:ext cx="365040" cy="91044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лько хобб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то мой заработо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то мой основной вид рас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5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просто так зашел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зультаты </a:t>
                      </a:r>
                      <a:br>
                        <a:rPr sz="1100"/>
                      </a:br>
                      <a:br>
                        <a:rPr sz="11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Самара нумизматика - монеты России"/>
          <p:cNvPicPr/>
          <p:nvPr/>
        </p:nvPicPr>
        <p:blipFill>
          <a:blip r:embed="rId51"/>
          <a:stretch/>
        </p:blipFill>
        <p:spPr>
          <a:xfrm>
            <a:off x="1116000" y="1197000"/>
            <a:ext cx="2381400" cy="2238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2"/>
          <a:stretch/>
        </p:blipFill>
        <p:spPr>
          <a:xfrm>
            <a:off x="-4863960" y="57478680"/>
            <a:ext cx="809640" cy="1076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3"/>
          <a:stretch/>
        </p:blipFill>
        <p:spPr>
          <a:xfrm>
            <a:off x="979560" y="57456360"/>
            <a:ext cx="809640" cy="1114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4"/>
          <a:stretch/>
        </p:blipFill>
        <p:spPr>
          <a:xfrm>
            <a:off x="6939000" y="57456360"/>
            <a:ext cx="809640" cy="1123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5"/>
          <a:stretch/>
        </p:blipFill>
        <p:spPr>
          <a:xfrm>
            <a:off x="4067280" y="2924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6"/>
          <a:stretch/>
        </p:blipFill>
        <p:spPr>
          <a:xfrm rot="19877400">
            <a:off x="5724360" y="907920"/>
            <a:ext cx="2243160" cy="5185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7"/>
          <a:stretch/>
        </p:blipFill>
        <p:spPr>
          <a:xfrm>
            <a:off x="684360" y="4076640"/>
            <a:ext cx="538308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808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1. Сколько рублей в 5 купюр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2. Сколько денег у ма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3. Сколько стоят 4 пакета с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4. Сколько стоят 3 пакета мол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5. Сколько стоит вся покуп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Georgia"/>
              </a:rPr>
              <a:t>План решения задач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 rot="20631000">
            <a:off x="4859280" y="4365720"/>
            <a:ext cx="3743280" cy="1619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4535640" cy="19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0560" y="0"/>
            <a:ext cx="5051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17000" indent="-117000">
              <a:lnSpc>
                <a:spcPct val="10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Спасибо</a:t>
            </a:r>
            <a:r>
              <a:rPr b="1" lang="en-US" sz="6200" spc="-1" strike="noStrike">
                <a:solidFill>
                  <a:srgbClr val="ff0000"/>
                </a:solidFill>
                <a:latin typeface="Georgia"/>
              </a:rPr>
              <a:t>!</a:t>
            </a:r>
            <a:br>
              <a:rPr sz="6200"/>
            </a:b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2920" y="5889600"/>
            <a:ext cx="4248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0000"/>
                </a:solidFill>
                <a:latin typeface="Georgia"/>
              </a:rPr>
              <a:t>Молодцы!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rot="21037200">
            <a:off x="1695600" y="901800"/>
            <a:ext cx="6048360" cy="45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8:42:41Z</dcterms:created>
  <dc:creator>www.PHILka.RU</dc:creator>
  <dc:description/>
  <dc:language>en-US</dc:language>
  <cp:lastModifiedBy>www.PHILka.RU</cp:lastModifiedBy>
  <dcterms:modified xsi:type="dcterms:W3CDTF">2009-11-22T11:50:07Z</dcterms:modified>
  <cp:revision>60</cp:revision>
  <dc:subject/>
  <dc:title>Слайд 1</dc:title>
</cp:coreProperties>
</file>