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3CC-534F-40D9-AC78-FD62A787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A39-F27A-4DAF-9FF2-7ED0CF1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4A4-6DDF-4883-A53B-D6E08897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7A3-B5EF-494F-A04F-4DD56FBC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3B5-C759-42B2-B41C-0CD5A8F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E40-AE85-4503-B9B3-24A2A6F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DC7-643E-4C0B-9788-9D212B3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0FC-B58E-4F2A-8270-C9A02E9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BE0-1003-4A01-9A5A-2B8ACA4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747-B440-40F7-B2DB-5B7B3BE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F29-D04C-4B13-B1CB-AE4DC9D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30E-7BFF-4400-AD67-B8ED1A3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D17-9C0F-4470-ACA5-3B19E7E66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Еликовой М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11280" y="476280"/>
            <a:ext cx="2808360" cy="100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55640" y="2133720"/>
            <a:ext cx="7632720" cy="3024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йствительные причас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стояще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8360" y="189000"/>
            <a:ext cx="8207280" cy="503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тельные причастия настоящ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50920" y="2276640"/>
            <a:ext cx="2735280" cy="4248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и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лить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ма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276720" y="2276640"/>
            <a:ext cx="2663640" cy="42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_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_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_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ш_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л_т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мл_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0920" y="836640"/>
            <a:ext cx="8642160" cy="1079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Запишите глаголы в 3-м лице мн. ч. Обозначьте условия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нч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бразуйте действительные причастия настоящ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372360" y="2276640"/>
            <a:ext cx="2592360" cy="42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_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_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_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ш_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л_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мл_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189000"/>
            <a:ext cx="8207280" cy="57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тельные причастия настоящ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8360" y="2205000"/>
            <a:ext cx="4032360" cy="4248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и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и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и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а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литьс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ма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932360" y="2205000"/>
            <a:ext cx="3959280" cy="424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м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39640" y="981000"/>
            <a:ext cx="8136000" cy="719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глаголы в 3-м лице мн. ч. Обозначь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я выбора окон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95280" y="189000"/>
            <a:ext cx="8207280" cy="57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тельные причастия настоящ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8360" y="2205000"/>
            <a:ext cx="3816360" cy="4319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и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и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и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а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литьс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ма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39640" y="981000"/>
            <a:ext cx="8136000" cy="792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йте действительные прич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яще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076720" y="2205000"/>
            <a:ext cx="3672000" cy="431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м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3492360" y="981000"/>
            <a:ext cx="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427640" y="981000"/>
            <a:ext cx="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427640" y="292428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4427640" y="378936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427640" y="378936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3492360" y="378936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971640" y="292428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971640" y="37893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 flipV="1">
            <a:off x="1258920" y="1052280"/>
            <a:ext cx="223344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1042920" y="3789360"/>
            <a:ext cx="244944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708360" y="14842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1403280" y="3068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3"/>
          <p:cNvSpPr txBox="1"/>
          <p:nvPr/>
        </p:nvSpPr>
        <p:spPr>
          <a:xfrm>
            <a:off x="1692360" y="3068640"/>
            <a:ext cx="107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.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003640" y="321300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5003640" y="3141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7"/>
          <p:cNvSpPr txBox="1"/>
          <p:nvPr/>
        </p:nvSpPr>
        <p:spPr>
          <a:xfrm>
            <a:off x="5003640" y="2997360"/>
            <a:ext cx="11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7" name="WordArt 29"/>
          <p:cNvSpPr txBox="1"/>
          <p:nvPr/>
        </p:nvSpPr>
        <p:spPr>
          <a:xfrm>
            <a:off x="3708360" y="126828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" name="WordArt 31"/>
          <p:cNvSpPr txBox="1"/>
          <p:nvPr/>
        </p:nvSpPr>
        <p:spPr>
          <a:xfrm>
            <a:off x="3780000" y="4149720"/>
            <a:ext cx="43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900000" y="162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900000" y="227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 flipV="1">
            <a:off x="826920" y="1628640"/>
            <a:ext cx="50508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1332000" y="1628640"/>
            <a:ext cx="50328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V="1">
            <a:off x="826920" y="2276280"/>
            <a:ext cx="576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>
            <a:off x="1332000" y="2276640"/>
            <a:ext cx="503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2340000" y="549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0"/>
          <p:cNvSpPr/>
          <p:nvPr/>
        </p:nvSpPr>
        <p:spPr>
          <a:xfrm>
            <a:off x="2340000" y="134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2268360" y="476280"/>
            <a:ext cx="574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>
            <a:off x="2843280" y="476280"/>
            <a:ext cx="4334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3"/>
          <p:cNvSpPr/>
          <p:nvPr/>
        </p:nvSpPr>
        <p:spPr>
          <a:xfrm flipV="1">
            <a:off x="2340000" y="1267920"/>
            <a:ext cx="5032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2843280" y="1268280"/>
            <a:ext cx="43344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5"/>
          <p:cNvSpPr/>
          <p:nvPr/>
        </p:nvSpPr>
        <p:spPr>
          <a:xfrm>
            <a:off x="521964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в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6"/>
          <p:cNvSpPr/>
          <p:nvPr/>
        </p:nvSpPr>
        <p:spPr>
          <a:xfrm>
            <a:off x="5292720" y="1916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7"/>
          <p:cNvSpPr/>
          <p:nvPr/>
        </p:nvSpPr>
        <p:spPr>
          <a:xfrm flipV="1">
            <a:off x="5148360" y="981000"/>
            <a:ext cx="503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5651640" y="981000"/>
            <a:ext cx="433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9"/>
          <p:cNvSpPr/>
          <p:nvPr/>
        </p:nvSpPr>
        <p:spPr>
          <a:xfrm flipV="1">
            <a:off x="5219640" y="1916280"/>
            <a:ext cx="43200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5651640" y="191628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250920" y="4149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 (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1835280" y="5589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 flipV="1">
            <a:off x="250920" y="4149720"/>
            <a:ext cx="50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755640" y="414972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1187280" y="4149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1476360" y="4149720"/>
            <a:ext cx="287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1835280" y="5516640"/>
            <a:ext cx="5047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2340000" y="5516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500364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е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0"/>
          <p:cNvSpPr/>
          <p:nvPr/>
        </p:nvSpPr>
        <p:spPr>
          <a:xfrm>
            <a:off x="507672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1"/>
          <p:cNvSpPr/>
          <p:nvPr/>
        </p:nvSpPr>
        <p:spPr>
          <a:xfrm>
            <a:off x="5076720" y="558972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514836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3"/>
          <p:cNvSpPr/>
          <p:nvPr/>
        </p:nvSpPr>
        <p:spPr>
          <a:xfrm flipV="1">
            <a:off x="5003640" y="4005360"/>
            <a:ext cx="505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4"/>
          <p:cNvSpPr/>
          <p:nvPr/>
        </p:nvSpPr>
        <p:spPr>
          <a:xfrm>
            <a:off x="5508720" y="4005360"/>
            <a:ext cx="5032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5"/>
          <p:cNvSpPr/>
          <p:nvPr/>
        </p:nvSpPr>
        <p:spPr>
          <a:xfrm flipV="1">
            <a:off x="5003640" y="4653000"/>
            <a:ext cx="5050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6"/>
          <p:cNvSpPr/>
          <p:nvPr/>
        </p:nvSpPr>
        <p:spPr>
          <a:xfrm>
            <a:off x="5508720" y="4653000"/>
            <a:ext cx="3585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7"/>
          <p:cNvSpPr/>
          <p:nvPr/>
        </p:nvSpPr>
        <p:spPr>
          <a:xfrm flipV="1">
            <a:off x="5003640" y="5445000"/>
            <a:ext cx="432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8"/>
          <p:cNvSpPr/>
          <p:nvPr/>
        </p:nvSpPr>
        <p:spPr>
          <a:xfrm>
            <a:off x="5435640" y="544500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4000" y="333360"/>
            <a:ext cx="8569080" cy="431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зуйте действительные причастия настоящ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4000" y="981000"/>
            <a:ext cx="8640720" cy="1584360"/>
          </a:xfrm>
          <a:prstGeom prst="rect">
            <a:avLst/>
          </a:prstGeom>
          <a:solidFill>
            <a:srgbClr val="ff9900"/>
          </a:solidFill>
          <a:ln w="381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ышать, стлать, брить, ше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навидеть, след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50920" y="2781360"/>
            <a:ext cx="8640720" cy="576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бразуйте от глаголов дейст. причастия настоящего времен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с ними словосоче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50920" y="3573360"/>
            <a:ext cx="8640720" cy="3024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ff33"/>
              </a:gs>
            </a:gsLst>
            <a:lin ang="5400000"/>
          </a:gradFill>
          <a:ln w="381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ять, клеить, видеть, ненави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теть, тараторить, леле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ять, сеять, стро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11280" y="189000"/>
            <a:ext cx="7920000" cy="86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текст на тему «Таинственные образы природ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требив данные причас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0" y="1197000"/>
            <a:ext cx="4392720" cy="5472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66"/>
              </a:gs>
            </a:gsLst>
            <a:lin ang="5400000"/>
          </a:gradFill>
          <a:ln w="5724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л_щийся ту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пч_щиеся камы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мл_ща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_щий вете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_щие обл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ыш_щиеся т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104"/>
          <p:cNvPicPr/>
          <p:nvPr/>
        </p:nvPicPr>
        <p:blipFill>
          <a:blip r:embed="rId1"/>
          <a:stretch/>
        </p:blipFill>
        <p:spPr>
          <a:xfrm>
            <a:off x="179280" y="1268280"/>
            <a:ext cx="4321440" cy="5400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24000" y="260280"/>
            <a:ext cx="864072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381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116000" y="404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еделите причастия по групп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95280" y="1268280"/>
            <a:ext cx="8569440" cy="5256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54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вший, усеянный, размы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ившая, придающая, читае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шащий, увиденный, покрываем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гущий, слышимый, спя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404640"/>
            <a:ext cx="3672000" cy="3024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ющ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ш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щ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г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щ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ящ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148360" y="404640"/>
            <a:ext cx="3600360" cy="3024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и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68360" y="3789360"/>
            <a:ext cx="3672000" cy="28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т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рыв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ыш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148360" y="3789360"/>
            <a:ext cx="3600360" cy="280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е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м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8:52:41Z</dcterms:created>
  <dc:creator>1</dc:creator>
  <dc:description/>
  <dc:language>en-US</dc:language>
  <cp:lastModifiedBy>Андреева Н.Г.</cp:lastModifiedBy>
  <dcterms:modified xsi:type="dcterms:W3CDTF">2010-11-02T06:29:49Z</dcterms:modified>
  <cp:revision>10</cp:revision>
  <dc:subject/>
  <dc:title>Слайд 1</dc:title>
</cp:coreProperties>
</file>