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624E-F105-4F85-8EB6-82F3CA9EE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7582-2A7C-4721-BDA7-9C4B1E90A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48B8-F292-433A-96AA-9A2902C5A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0571-A524-4994-911F-777B2AAB8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41B1E-E0DC-48DF-9C6D-80B8F25D3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ABCE1-60F6-4E5C-9487-93C782727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0A4CB-5599-4D1E-B45C-23AE83582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54167-E30B-47A9-85D5-380783D89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5996D-C7A1-4DD5-9A81-7BBBD92F9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54E0E-7EC4-4D58-9BCC-7CADA8088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75D56-44E9-4B66-B3AE-0A5B0752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F2EF-2ED2-44D2-B27F-1AFA3EA51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C7D45-6303-4468-B657-5D793477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55952-AA04-40B4-BE65-7577EDF5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E30AD-10E6-4100-BBED-A66C4D90A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1CF87-7A47-494E-96DA-6DC4D83F3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99832-E0BC-42AF-ACC7-C34EDD466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CEB8-F6F2-4CD6-82AF-07249A306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B025-D59A-4868-9358-A4A6B1FC1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5895-C656-4018-AC8A-215A7142C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FF7A-9948-46F4-991D-BFBA20A10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3694-24AD-4524-AD91-235C7392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7298-F090-4683-83AA-746DFE97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42EB-C59E-4CDD-BCFE-699291CC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DC964-8E54-4583-A9E1-53FA34E5098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E1062-35F0-461B-9B9A-0793F420C6A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5640" y="1988640"/>
            <a:ext cx="7772400" cy="1737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dff"/>
                </a:solidFill>
                <a:latin typeface="Comic Sans MS"/>
              </a:rPr>
              <a:t>Метод проектов – как средство развития интереса к дополнительному образованию и повышению творческих способностей учащихс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Работа Николаевой Татьяны Георгиевн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Токская средняя школа, 2008</a:t>
            </a: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г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Обоснование опыт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69608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Постоянный вопрос: Как 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-   научить приемам использования знаний, умений и навыков, в жизненных ситуациях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использовать современные мультимедийные  образовательные и воспитательные комплексы комплексы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для повышения интересов учащихся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лучше развивать творческие способности учащихся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5973480" cy="7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dff"/>
                </a:solidFill>
                <a:latin typeface="Comic Sans MS"/>
              </a:rPr>
              <a:t>Актуальность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424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едагоги осознали, что жесткое регламентирование интеллектуальной деятельности, абсолютная «заданность» развития, грозят тормозящим фактором, ограничивающим инициативу и творческие возможности обучающегося.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этому необходимы новые методы обучения, основанные на активности личности, идеях «свободного воспитания». В совокупности новые методы должны развивать творческие задатки учащегося, предоставляя ему возможность на собственном опыте активно познавать мир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ектный метод в дополнительном образовании  помогает реализовать проблемное обучение как активизирующее и углубляющее познания, позволяет обучать самостоятельному мышлению и деятельности, системному подходу в самоорганизации, обучать групповому взаимодействию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Цели и задач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50920" y="1916280"/>
            <a:ext cx="3960720" cy="201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Актуальное исследование окружающей действительности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Text Box 25"/>
          <p:cNvSpPr/>
          <p:nvPr/>
        </p:nvSpPr>
        <p:spPr>
          <a:xfrm rot="20037600">
            <a:off x="3493080" y="1557000"/>
            <a:ext cx="434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 Black"/>
              </a:rPr>
              <a:t>Развитие творческих навыков учащихся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 Box 26"/>
          <p:cNvSpPr/>
          <p:nvPr/>
        </p:nvSpPr>
        <p:spPr>
          <a:xfrm>
            <a:off x="2411280" y="515772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азвитие познавательных навыков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Rectangle 27"/>
          <p:cNvSpPr/>
          <p:nvPr/>
        </p:nvSpPr>
        <p:spPr>
          <a:xfrm>
            <a:off x="4643280" y="2852640"/>
            <a:ext cx="3600720" cy="20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Rectangle 28"/>
          <p:cNvSpPr/>
          <p:nvPr/>
        </p:nvSpPr>
        <p:spPr>
          <a:xfrm>
            <a:off x="4932360" y="3284640"/>
            <a:ext cx="3600360" cy="20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Умение ориентироваться в информационном пространстве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 Box 29"/>
          <p:cNvSpPr/>
          <p:nvPr/>
        </p:nvSpPr>
        <p:spPr>
          <a:xfrm rot="19939800">
            <a:off x="324360" y="4076280"/>
            <a:ext cx="56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азвитие критического мышлени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85800" y="1412640"/>
            <a:ext cx="769608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ложительные стороны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 направленность на индивидуализацию обучения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 активизация учения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 стимулирование инициативы и роста творческих возможностей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 фундаментальные методы познания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лабые стороны метода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 недостаточность формирования теоретического мышления учащихся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 сведение роли учителя к консультационной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 невозможность выработать общие подходы к решению задач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684360" y="549360"/>
            <a:ext cx="6870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Теоретическое обоснование опыта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26560" y="152280"/>
            <a:ext cx="672948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dff"/>
                </a:solidFill>
                <a:latin typeface="Comic Sans MS"/>
              </a:rPr>
              <a:t>Топология проектов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960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Доминирующий метод: исследовательский, творческий, приключенческий, ролево-игровой, практико-ориентированный и др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Доминирующий содержательный аспект: литературное творчество, естесттвенно-научные исследования, экологические, языковые, географические, и т.д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Характер координации проекта: непосредственный или скрыты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Характер контактов (в классе, в школе, в микрорайоне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Количество участников проекта (1,2, группа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По продолжительности проведения: краткосрочные, долгосрочные, эпизодически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971640" y="4581360"/>
            <a:ext cx="43210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dff"/>
                </a:solidFill>
                <a:latin typeface="Comic Sans MS"/>
              </a:rPr>
              <a:t>Типы проектов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1835280" y="5373720"/>
            <a:ext cx="6553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Исследовательски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Творчески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Информационны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dff"/>
                </a:solidFill>
                <a:latin typeface="Comic Sans MS"/>
              </a:rPr>
              <a:t>Технология опыт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696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Этапы выполнения проекта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рганизационный (подумайте над проблемой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бор и обсуждение главной идеи будущего проекта (зачем и как будем поступать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бсуждение методических аспектов и организация работы учащихс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труктурирование проекта с выделением подзадач для определенных групп учащихся, подбор материалов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абота над проекто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дведение итогов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Заключение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6960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оектное обучение – это область научного знания, позволяющего перейти от грамотности к образованности, отражающей в себе процессы интеллектуализации, информатизации и гуманизации образования, как взаимообусловленные процессы становления нового стереотипа жизни – образования на протяжении всей жизни в информационном обществ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4T19:12:34Z</dcterms:created>
  <dc:creator>ТАТЬЯНА</dc:creator>
  <dc:description/>
  <dc:language>en-US</dc:language>
  <cp:lastModifiedBy>user</cp:lastModifiedBy>
  <dcterms:modified xsi:type="dcterms:W3CDTF">2012-02-29T16:05:38Z</dcterms:modified>
  <cp:revision>9</cp:revision>
  <dc:subject/>
  <dc:title>Что то с памятью ПК стало?  Не пора ли ею заняться?</dc:title>
</cp:coreProperties>
</file>