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55F-450F-4E7C-910E-C147058E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59C3-2BC2-48AF-BBFC-FF708E79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3AF0-D2BB-4980-A63C-A80088D2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2FE2-6C26-4832-AEE4-DF020596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6C8E7-B9C3-42F2-8EB4-A0C13CCC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F9491-EE88-4E48-8AF8-F70FE6FE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D1845-2BD3-4E48-9B1D-1792EB41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84AA4-44E0-4D3F-995D-22D2DE4F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9408D-2C02-42B5-BC8A-CB134BD1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72505-13AD-40F4-B65A-06676E3C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6A3DB-ADF6-49F3-8ACC-12AEA42E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D0F-E396-40F1-9782-38FCB8E0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A18E0-25EB-4E25-9F5D-0C0985FD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63E46-211E-4237-8B81-1552A294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2F8FE-09BA-47AF-AA0D-8677770F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9C747-3EEB-49C3-A5D9-7AF40C93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66602-40FF-4C57-AB61-9C1E8A60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0620-B451-40E4-8DBF-2F3E01AC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043D-CD9A-4920-94F8-83872498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A6A-388A-42BA-9EBE-2895C206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2FD6-5663-4078-A1BA-99F38386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D604-7046-4B1B-8B2D-90A015A3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B5FF-F515-49AC-968E-4F2696F5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EA9-CD5F-4F13-8958-E22BA486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66D2-C018-47CB-AEC9-25281B20F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956B-4BC7-4766-9B5F-184613734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2397240" y="2109960"/>
          <a:ext cx="2266920" cy="22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240" y="2109960"/>
                    <a:ext cx="2266920" cy="22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ультура движ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боту выполнила Максимова Оле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еница 9 класса Покровской шко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867280" y="1268280"/>
            <a:ext cx="2808360" cy="30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иподинам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оследние десятилетие в научной литературе и в периодической печати довольно распространено слово гиподинамия. Происходит оно от двух греческих слов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ypo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изу,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namo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ла. Следовательно, гиподинамия- это недостаточная, пониженная физическая нагрузка, причём как характерная особенность всего образа жизни. Постепенно в сознании людей сложилось представление о том, что физическая нагрузка- это плохо, а возможность жить без физических усилий- хорошо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8000" y="333360"/>
            <a:ext cx="54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76360" y="969840"/>
            <a:ext cx="727236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нако без физической нагрузки не могут нормально развиваться животные или человек. Самой природой в человеке заложена потребность к движению, в мышечном усилии, и подавление этой потребности неизбежно ведёт к тяжёлым последствия для здоровья. В последние десятилетия одной из причин преждевременной смерти  людей, стали болезни сердечно- сосудистой системы. Что происходит при гиподинамии: ослабляется деятельность сердца; нарушается обмен веществ, одним из проявлений этого является накопление избыточной массы тела; мышечная ткань без достаточных упражнений дегенерирует (дистроф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8352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79640" y="466560"/>
            <a:ext cx="64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рушается соотношения между мышечными и психическими усилиями, что приводит к излишнему возбуждению центральной нервной системы.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638520" y="2060640"/>
            <a:ext cx="43182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63640" y="7542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од деятельности и физическая нагруз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47640" y="1413000"/>
            <a:ext cx="6985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бирая время для занятий физкультурой и спортом, следует проявлять изобретательность: заниматься каждый день перед уроками или сразу по возвращении домой. В последнее время все большую популярность приобретают тренажёры и гимнастические устройства индивидуального пользования.3-5 раза в неделю 30-40 минут отводить на непрерывные физические управления( не считая ежедневной зарядки или разминки); во время этих нагрузок пульс должен возрастать минимум до 70-80% от максимально возможного для данного лица.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03640" y="5373720"/>
            <a:ext cx="2016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76360" y="1268280"/>
            <a:ext cx="736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изические упражнения улучшают состояние сердечно-сосудистой системы в целом, снижая кровяное давление и улучшая обмен веществ, в особенности глюкоз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67000" y="2924280"/>
            <a:ext cx="2610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63640" y="260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1268280"/>
            <a:ext cx="741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вижение есть условие развития молодого организма, его здоровья, характеристика и привлекательности. Движение тесно связано с эмоциональным развитием организма. Он приводит к изменению функций всех систем, органом заболевания, в особенности сердечно-сосудистой системы. Активное движение- признак здорового образа жиз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600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30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вижения необходи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вижение и эмоциональное состоя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иподинам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д деятельности и физическая нагруз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084720" y="4581360"/>
            <a:ext cx="151164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вижения необходи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волюция запрограммировала наш организм на активную, во многом аскетическую и суровую жизнь, связанную с расходованием больших физических усилий. Мы  должны твёрдо усвоить: посильная постоянная физическая нагрузка необходима и очень полезна, она не только не истощает организм, но, напротив делает его выносливее и крепче, устойчивее к болезня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огда приходится видеть, как некоторые с виду вполне здоровые и довольно молодые люди готовы долго ждать автобус или троллейбус, хотя проехать им нужно всего одну- две останов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помни: если пешком и на транспорте можно попасть в нужное место почти в одно и то же время, лучше пройти пешком. Работа любой клетки организма  осуществляется за счёт запасенной ранее энерг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2843280" cy="16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развивающемся организме клетка запасает энергии больше, чем тратит, и следующий акт её работы будет большим по величине, чем предыдущей. В этом заключается так называемое энергетическое правило скелетных мышц. Поэтому из основных фактов, вызывающих и определяющих рост и развитие организма, является двигательная активность мышц. Влияет ли мышечная активность на формирование характера человека, его способность творчески мысли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ло в том, что мышечная активность постоянно сопровождается эмоциональным напряжением и «снижает» его излишек. Это происходит благодаря тому, что движение стимулирует выработку гормонов- эндорфинов и сокращает избыток адреналина и других гормонов, способствующих возникновению стрессов. Формируется вывод: движение- важная функция организма человека, он должен овладеть культурой дви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76640" y="47592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вижение и эмоциональн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09320" y="1926720"/>
            <a:ext cx="6775560" cy="43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каждого рода деятельности существует определённый оптимум эмоционального напряжения, при котором физиологические реакции организма оказываются наиболее совершёнными, и эффективность выполнения работы достигает своего максимума. Человек, как и животное, в состоянии эмоционального аффекта( гнев, страх) может совершить такую мышечную работу и преодолеть такие препятствия, справиться с которыми в обычных условиях он не в состоян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ыли случаи, когда во время стихийных бедствий ( пожара, наводнения) человек поднимал тяжести, значительно превышающие его собственный вес. С биологической точки зрения, эмоции существуют как усиливающий механизм, позволяющий осуществлять и выдерживать значительно больше напряжения в чрезвычайных обстоятельствах  по сравнению с повседневными нагрузками нервной и мышечной систе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месте с тем эмоции при полном исключении мышечной деятельности способны также вызвать резкие энергетические и вегетативные изменения в организм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111560" y="3500280"/>
            <a:ext cx="3268800" cy="273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0:10:57Z</dcterms:created>
  <dc:creator>User</dc:creator>
  <dc:description/>
  <dc:language>en-US</dc:language>
  <cp:lastModifiedBy>1</cp:lastModifiedBy>
  <dcterms:modified xsi:type="dcterms:W3CDTF">2009-03-11T10:00:01Z</dcterms:modified>
  <cp:revision>39</cp:revision>
  <dc:subject/>
  <dc:title>Добро пожаловать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