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E248-49F2-4ABA-9E60-2C7C1646F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73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8960" y="3726360"/>
            <a:ext cx="73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C3E4-8324-4425-86B4-693D2057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360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6520" y="1218960"/>
            <a:ext cx="360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3726360"/>
            <a:ext cx="360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06520" y="3726360"/>
            <a:ext cx="360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1224-3CA2-4700-BC88-F8217D4B8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237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8080" y="1218960"/>
            <a:ext cx="237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6840" y="1218960"/>
            <a:ext cx="237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8960" y="3726360"/>
            <a:ext cx="237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8080" y="3726360"/>
            <a:ext cx="237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6840" y="3726360"/>
            <a:ext cx="237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AE73-D678-4367-8E0C-8C84E1BDF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084C-518F-4DAC-BA3F-8A306666A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8960" y="121896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E61D-A8CD-4E40-BED3-84502E47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5836-D509-4B4B-A2E2-32239CE3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3606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06520" y="1218960"/>
            <a:ext cx="3606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BA9E-C36A-4568-A4EC-154B191D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E5B00-D5FA-4352-A0A1-C1AC20F7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320" y="-36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6B51-E6DB-4FA6-A5B5-4A0E4D17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360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06520" y="1218960"/>
            <a:ext cx="3606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8960" y="3726360"/>
            <a:ext cx="360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737F-EE11-4327-BE02-73AF65D6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8960" y="121896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CB15-879E-4513-8875-E353A553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3606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06520" y="1218960"/>
            <a:ext cx="360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06520" y="3726360"/>
            <a:ext cx="360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BE36-2330-4203-B98C-75D19B3D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360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06520" y="1218960"/>
            <a:ext cx="360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8960" y="3726360"/>
            <a:ext cx="73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968D-6EDA-408F-9CE4-11D98581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73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8960" y="3726360"/>
            <a:ext cx="73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4DD4-C19F-4E44-9E4F-8C8001FC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360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06520" y="1218960"/>
            <a:ext cx="360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8960" y="3726360"/>
            <a:ext cx="360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06520" y="3726360"/>
            <a:ext cx="360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ECAE-E96C-4844-B6A1-88683422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237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8080" y="1218960"/>
            <a:ext cx="237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6840" y="1218960"/>
            <a:ext cx="237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8960" y="3726360"/>
            <a:ext cx="237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8080" y="3726360"/>
            <a:ext cx="237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6840" y="3726360"/>
            <a:ext cx="237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9AED-CC45-4A25-8C2F-ACAEC1A6C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7F02-9E0E-4CB4-B85D-204A649C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3606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06520" y="1218960"/>
            <a:ext cx="3606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B46D-22F8-4078-B269-D1D1F59D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9F84-1AD3-4681-B5A0-CAA426BF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-36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BA2E-83F5-4100-8C19-50455B35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360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6520" y="1218960"/>
            <a:ext cx="3606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8960" y="3726360"/>
            <a:ext cx="360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EEDB-DEDE-476A-A970-AC78919F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3606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6520" y="1218960"/>
            <a:ext cx="360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6520" y="3726360"/>
            <a:ext cx="360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747A-039B-4ADA-8A60-750AE939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360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6520" y="1218960"/>
            <a:ext cx="360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8960" y="3726360"/>
            <a:ext cx="73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5766-D6C3-40DF-96CB-0C3FABFE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21896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SzPct val="9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2D06-0277-4CA8-9D5E-9E0B2C116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55FC-9103-45D3-94F5-4CEE8EF16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40360" y="1268280"/>
            <a:ext cx="4419360" cy="30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3300"/>
                </a:solidFill>
                <a:latin typeface="Arial"/>
              </a:rPr>
              <a:t>Выбор подходящего учебного заведения</a:t>
            </a:r>
            <a:endParaRPr b="0" lang="en-US" sz="4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51280" y="4653000"/>
            <a:ext cx="4495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Шаг 1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767376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спользуя справочные изда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9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правочник учебных заведений Ярославской области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9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урсы профессиональной подготовки и переподготовки в Ярославле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9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клеты образовательных учрежден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берите  подходящее учебное заведение с учетом значимых для вас факторов выбора профессионального образова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227640" y="260280"/>
            <a:ext cx="291636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Шаг 2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92000" y="980640"/>
            <a:ext cx="79246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пробте охарактери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ыбранное вами подходящ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чебное заведение по следующ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арактеристик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SzPct val="9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 какому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ипу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относится учебное за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SzPct val="9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меет ли учебное заведение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ицензию и государственную аккредита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SzPct val="9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но является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сударственным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государстве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5105520"/>
            <a:ext cx="2340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8960" y="0"/>
            <a:ext cx="7924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SzPct val="9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бучение выбранной профессии ведется на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юджетной основе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 коммерче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9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ой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ровень образования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можно получить в данном учебном завед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9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ие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ормы обучения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представлены в учебном завед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9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 называется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в учебном заведении интересующая вас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пеци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9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меются ли в учебном заведении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подготовительные к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8960" y="0"/>
            <a:ext cx="7924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9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ковы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словия приема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в данное учебное за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9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кие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окументы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нужно предоставить в приемную комисс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9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какие срок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нужно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авать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я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9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какой форме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оходят вступительные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испы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9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каким предметам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оводятся экзам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9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читывает ли учебное заведение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зультаты выпускных экзаменов (или Единого государственного экзаме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9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кова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продолжительность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00000" y="188640"/>
            <a:ext cx="82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9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едполагает ли профессия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граничения по здоровью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ли требования к наличию определенных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пособ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9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сть ли у вас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льготы при поступлени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данное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чебное за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9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ысока ли вероятность трудоустройства по окончани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чебного завед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9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кая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транспортная доступность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этого учебного за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9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уществует ли возможность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живания в общежит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9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оводит ли учебное заведение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ни открытых двере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рмарки учебных ме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SzPct val="9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ла Иванова Н.А., учитель технологии МБОУ СОШ №1, г.Дани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00:25:28Z</dcterms:created>
  <dc:creator>Jennifer Rotondo</dc:creator>
  <dc:description/>
  <dc:language>en-US</dc:language>
  <cp:lastModifiedBy>Admin</cp:lastModifiedBy>
  <dcterms:modified xsi:type="dcterms:W3CDTF">2012-02-29T14:55:00Z</dcterms:modified>
  <cp:revision>8</cp:revision>
  <dc:subject/>
  <dc:title>No Slide Title</dc:title>
</cp:coreProperties>
</file>