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4E33-48E7-4A7A-931B-9F1FBE59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16AD-5A79-441B-93D8-797D80E8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EB8E04-83F3-4315-9299-EC7F8A93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32EAD8-EB60-4D52-A41B-655FB1F9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38A184-5290-46C5-99BD-9C2A490F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884BB9-095A-4984-B78C-D3BC3BAE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408508-3D7A-404A-B9D5-64C4034C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E72051-D0A9-4A0C-B1E3-404DB11A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E1E74B-737F-4F52-90BB-E0B4036B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2C8532-BF4B-4F00-954D-ED8CDA78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48FA52-F24C-4DEE-8910-33A8E740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73E37-C972-472A-A032-8B9E8C1D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16B6-0AC3-43C4-8668-4B2BC83C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7D250-E275-40AB-A365-D1D8D444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9FE8D-7215-4961-B9D8-5B3E041B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CC380-641A-458E-BD0B-C59DE480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4CD69-EDC3-42D7-BE23-58B77741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774C7-C4B1-4D70-AE45-7E3AB385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DAF56-50B4-48DF-8A46-986720AE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52E8C-575A-43A4-9201-F7AE953D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F1580-3DD6-4AE6-A97F-48767E69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66C74-39FF-472D-9855-8C5C58A9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D7162-F720-4D78-93D7-C99F6FC4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B29B-6659-4799-9983-73883B9B3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BC27E-81E0-4A7B-B9EF-2B16CF6C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9052-BC4A-4540-9166-76E0095A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4E8A-7F74-4F6F-BDC4-3B44E07C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737C-7178-4395-91FD-B167CC1E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B9C3-9B29-4295-B26C-FE8BB8F6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7905-C801-4E51-A968-8B0E97C8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9098-9F1B-4D9B-BF0E-1696B153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2A45-B0D2-43BB-94F3-6ACAA7C0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2513-7B7A-47A5-9068-C15B8D97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3B49-249B-4CF4-A912-CB572B0B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A050-F750-474A-B29E-99D413BA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DFCF-E5D5-4BFE-9C48-E8C60823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C833-C14E-4942-AD73-0F728AA6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F169-0923-44E2-9856-104C33AF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30A0B-35F5-4790-9CA3-EA325C69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B925C-A4D5-42A7-8593-DDB08F08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5A2E5-0071-4EAE-B57A-3C82B298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08B8D-1EA5-4C65-A72A-BC5A9811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A3CFA-9E27-4FE3-A33B-35E23711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CD9A-C29A-4478-838A-F867881A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63EC3-DA4B-4732-8718-8EE799CA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18C10-861F-46E9-8AF6-B4B27199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BFDA8-341A-40FF-8C1D-730F9710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56CA6-4CF6-4508-96BC-6B6357A5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51E77-F843-46EB-9AC6-BA4905C1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5944E-EC5D-4E0A-9F54-20C59A70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CF4FB-5406-4979-84FF-95FDD25B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FC148-126B-4F72-BA18-B7DA5437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AF10F-D5A6-4C92-B45C-2C7E7065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5878A-4AB4-4A61-8DAD-F366C8B9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85AA-4CD0-4D4C-98E0-CD9FA02B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F90CC-93BD-426B-8D02-033AEF67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1A671-6E36-4866-A49A-A0D33E45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77520-3D3C-4377-A954-8E1D1C25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95683-C25E-4BF6-96DC-C8FD5B4A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587A4-2434-4E41-8D76-E9864003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E6C8D-F1A1-43D1-961C-67E1F827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01813-4B6D-4F89-8E14-2366A231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0BCC5-CAF8-4BB3-A108-F170AF9F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AA195-DF63-4013-A8EE-15CA735E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D93D7-5E4A-4C2A-81D4-105A0391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C38E-821F-4112-8811-ADE5F835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D13C1-EDDE-47AB-BD32-A9A08A18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68452-407C-49CE-B435-123A0C83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FCD76-4464-47EF-AF6D-4441F8C5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B489A-F160-4F46-A494-0F9221F7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1C132-B9F8-4696-8954-5DCA75BD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2D149-6A42-411D-8E1B-150AF52C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D1ACB-5C15-41AA-BC04-2E394FDC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16587-8EE4-452B-9078-554DF908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30195-3F76-4AC9-9367-F246715C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14C97-C912-4E8F-B4D1-48FD08F6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898D-EC5A-4675-9C7F-B1E7FA30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6075C-C649-4249-B2D7-890BB74D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80DC1-EDF4-4305-A7B4-FFB6CA08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2E193-F863-41EF-954C-544EC7C2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9F892-9DBD-4597-8FBE-6A314BF7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EB57C-A674-4050-A223-F34C4AFE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A8024-016E-4D76-B95C-E911953A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A9876-761A-41C5-A126-AB969BC2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B9C66-4CDD-479A-8798-95716349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7ECB4-920D-471A-B697-D74D7DF3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37564-61F3-47C3-9F0E-13A4A4E4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8C2E-6C48-4D76-83F9-C8416135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83DC6-6E41-4D26-B4F8-F82AA8E2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1DDA1-90F8-491A-BE20-447C4CFB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01152-D5F4-4E1B-A88B-96150025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B3CA0-488D-4060-A325-2C8BAC62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F5CBD-E0F4-4A80-B44A-C594F6DA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57AF8-2BC3-465C-AAC8-2BC39E48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32174-281D-424C-9EC1-2624EC7A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F8165-4E00-49E4-AEAD-F900EBA1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E42A0-9D17-45BE-8D1B-4A61922A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9A4B0-1EEE-4B34-836A-34B5F927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1303-ED1C-4230-9EBC-D74080A2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DBB1F-F7BB-46D3-90B3-40955BD5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B1C49-CDFE-48CC-B7DE-19D404FC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13B6E-D079-4325-93F3-E52C611E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966C3-9FB7-4F95-9051-BC312CAE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F52F0-DBB0-4FF0-95C9-3DE41F9A2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39C38-5B07-4EA8-9C96-D3CE230B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DADA7-40AB-433E-ADFA-1C879D6C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F59A9-8CAB-4F71-823E-5ABBFEC7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DD112-315D-4676-90E7-305FEC0F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0E225-BABC-49FE-AED4-BD873364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16CF-6FBE-4381-85FC-4FEB45E6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6C7CA-87AD-41F6-98E2-3C835F9F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53FD3-D138-4150-82D9-57F5CC1D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1C417-3A85-4B98-A794-01535126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13D30-11F5-4057-9146-7F7785DF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039EC-88E0-413D-9448-E610DA8A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4ACDD-E160-464A-84F8-A385236F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6E136-5C8F-4F7B-8D1F-BC9D119DB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805D48-C242-4A20-98E3-89D5F7E0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8F2B8A-D865-4B13-9C60-82D96011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665BA7-3500-466F-AC70-BFDA7860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E61C-1CA5-463D-997F-658A724613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12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276E-A7B4-4FCC-B723-8FC13EDD3F5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89D4-36F5-45B2-AE52-BFA31DF8FF1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6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AD3F-096E-468F-ABB9-E4F8D1699D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A1C8-D507-441F-B65C-7808E3629D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1E54-7158-4DEB-9EE4-61338F69E3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8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D44D-576D-489F-A8D2-89B5344BC9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78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DF35-D475-4506-AED1-5BCDFF57B39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22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09B3-B297-46CB-9142-1662191337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77FD-2C78-4F21-A01A-DF500EFABC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WordArt 5"/>
          <p:cNvSpPr txBox="1"/>
          <p:nvPr/>
        </p:nvSpPr>
        <p:spPr>
          <a:xfrm>
            <a:off x="1071720" y="428760"/>
            <a:ext cx="676908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ханическая работа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диницы работы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2" name="Прямоугольник 4"/>
          <p:cNvSpPr/>
          <p:nvPr/>
        </p:nvSpPr>
        <p:spPr>
          <a:xfrm>
            <a:off x="4572000" y="43578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та Мишкиной И.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я физи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БОУ «Большеаксинская                    средняя общеобразователь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школа»  Дрожжановск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униципального района 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WordArt 4"/>
          <p:cNvSpPr txBox="1"/>
          <p:nvPr/>
        </p:nvSpPr>
        <p:spPr>
          <a:xfrm>
            <a:off x="684360" y="333360"/>
            <a:ext cx="754992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ханическая работа совершается: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4" name="WordArt 5"/>
          <p:cNvSpPr txBox="1"/>
          <p:nvPr/>
        </p:nvSpPr>
        <p:spPr>
          <a:xfrm>
            <a:off x="1042920" y="1844640"/>
            <a:ext cx="7058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гда на тело действует сил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5" name="WordArt 6"/>
          <p:cNvSpPr txBox="1"/>
          <p:nvPr/>
        </p:nvSpPr>
        <p:spPr>
          <a:xfrm>
            <a:off x="900000" y="3213000"/>
            <a:ext cx="720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гда тело движетс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384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1705"/>
                </a:solidFill>
                <a:latin typeface="Arial Black"/>
              </a:rPr>
              <a:t>Механическая работа </a:t>
            </a:r>
            <a:br>
              <a:rPr sz="3600"/>
            </a:br>
            <a:r>
              <a:rPr b="1" lang="ru-RU" sz="3600" spc="-1" strike="noStrike">
                <a:solidFill>
                  <a:srgbClr val="fd1705"/>
                </a:solidFill>
                <a:latin typeface="Arial Black"/>
              </a:rPr>
              <a:t>прямо пропорциональна приложенной силе и </a:t>
            </a:r>
            <a:br>
              <a:rPr sz="3600"/>
            </a:br>
            <a:r>
              <a:rPr b="1" lang="ru-RU" sz="3600" spc="-1" strike="noStrike">
                <a:solidFill>
                  <a:srgbClr val="fd1705"/>
                </a:solidFill>
                <a:latin typeface="Arial Black"/>
              </a:rPr>
              <a:t>прямо пропорциональна пройденному пути.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76360" y="3429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Работа = сила 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  <a:ea typeface="Times New Roman"/>
              </a:rPr>
              <a:t>×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  <a:ea typeface="Times New Roman"/>
              </a:rPr>
              <a:t> пу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WordArt 10"/>
          <p:cNvSpPr txBox="1"/>
          <p:nvPr/>
        </p:nvSpPr>
        <p:spPr>
          <a:xfrm>
            <a:off x="2268360" y="4508640"/>
            <a:ext cx="417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= F 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684360" y="5949000"/>
            <a:ext cx="69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– работа, F – сила, s – пройденный пу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89308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1da02"/>
                </a:solidFill>
                <a:latin typeface="Tahoma"/>
              </a:rPr>
              <a:t>Единица работы–</a:t>
            </a:r>
            <a:r>
              <a:rPr b="0" lang="ru-RU" sz="4800" spc="-1" strike="noStrike">
                <a:solidFill>
                  <a:srgbClr val="fd1705"/>
                </a:solidFill>
                <a:latin typeface="Tahoma"/>
              </a:rPr>
              <a:t>Дж (джоуль)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772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9900"/>
                </a:solidFill>
                <a:latin typeface="Tahoma"/>
              </a:rPr>
              <a:t>1Дж = 1 Н </a:t>
            </a:r>
            <a:r>
              <a:rPr b="0" lang="en-US" sz="6000" spc="-1" strike="noStrike">
                <a:solidFill>
                  <a:srgbClr val="ff9900"/>
                </a:solidFill>
                <a:latin typeface="Tahoma"/>
                <a:ea typeface="Arial"/>
              </a:rPr>
              <a:t>·</a:t>
            </a:r>
            <a:r>
              <a:rPr b="0" lang="ru-RU" sz="6000" spc="-1" strike="noStrike">
                <a:solidFill>
                  <a:srgbClr val="ff9900"/>
                </a:solidFill>
                <a:latin typeface="Tahoma"/>
                <a:ea typeface="Arial"/>
              </a:rPr>
              <a:t> м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  <a:ea typeface="Arial"/>
              </a:rPr>
              <a:t>1 кДж = 1000 Дж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1da02"/>
                </a:solidFill>
                <a:latin typeface="Tahoma"/>
                <a:ea typeface="Arial"/>
              </a:rPr>
              <a:t>1 Дж = 0,001 кДж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cc"/>
                </a:solidFill>
                <a:latin typeface="Tahoma"/>
                <a:ea typeface="Arial"/>
              </a:rPr>
              <a:t>1 МДж = 1000000 Дж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ffff"/>
                </a:solidFill>
                <a:latin typeface="Tahoma"/>
                <a:ea typeface="Arial"/>
              </a:rPr>
              <a:t>1 Дж = 0,000001 МДж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Выразите в джоулях работу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0,25 кДж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,2 кДж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0,15 МДж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,2 МДж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211640" y="191592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50 Д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200 Д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50000 Д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200000 Д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бота может быть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19112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Положитель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&gt; 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755640" y="3573360"/>
            <a:ext cx="39574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Отрицатель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&lt; 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; А=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F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684360" y="5084640"/>
            <a:ext cx="39574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  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6"/>
          <p:cNvSpPr/>
          <p:nvPr/>
        </p:nvSpPr>
        <p:spPr>
          <a:xfrm>
            <a:off x="5508720" y="2276640"/>
            <a:ext cx="107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7"/>
          <p:cNvSpPr/>
          <p:nvPr/>
        </p:nvSpPr>
        <p:spPr>
          <a:xfrm>
            <a:off x="5508720" y="2781360"/>
            <a:ext cx="107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WordArt 8"/>
          <p:cNvSpPr txBox="1"/>
          <p:nvPr/>
        </p:nvSpPr>
        <p:spPr>
          <a:xfrm>
            <a:off x="5796000" y="1773360"/>
            <a:ext cx="272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92" name="WordArt 9"/>
          <p:cNvSpPr txBox="1"/>
          <p:nvPr/>
        </p:nvSpPr>
        <p:spPr>
          <a:xfrm>
            <a:off x="5940360" y="249228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v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493" name="Line 10"/>
          <p:cNvSpPr/>
          <p:nvPr/>
        </p:nvSpPr>
        <p:spPr>
          <a:xfrm flipH="1">
            <a:off x="5508720" y="41497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WordArt 11"/>
          <p:cNvSpPr txBox="1"/>
          <p:nvPr/>
        </p:nvSpPr>
        <p:spPr>
          <a:xfrm>
            <a:off x="6012000" y="3645000"/>
            <a:ext cx="272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95" name="Line 12"/>
          <p:cNvSpPr/>
          <p:nvPr/>
        </p:nvSpPr>
        <p:spPr>
          <a:xfrm>
            <a:off x="5651640" y="4581360"/>
            <a:ext cx="107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WordArt 13"/>
          <p:cNvSpPr txBox="1"/>
          <p:nvPr/>
        </p:nvSpPr>
        <p:spPr>
          <a:xfrm>
            <a:off x="6084720" y="429264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v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497" name="Line 14"/>
          <p:cNvSpPr/>
          <p:nvPr/>
        </p:nvSpPr>
        <p:spPr>
          <a:xfrm flipV="1">
            <a:off x="5796000" y="4941360"/>
            <a:ext cx="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WordArt 15"/>
          <p:cNvSpPr txBox="1"/>
          <p:nvPr/>
        </p:nvSpPr>
        <p:spPr>
          <a:xfrm>
            <a:off x="5364000" y="5229360"/>
            <a:ext cx="2732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99" name="Line 16"/>
          <p:cNvSpPr/>
          <p:nvPr/>
        </p:nvSpPr>
        <p:spPr>
          <a:xfrm>
            <a:off x="5867280" y="5950080"/>
            <a:ext cx="10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WordArt 17"/>
          <p:cNvSpPr txBox="1"/>
          <p:nvPr/>
        </p:nvSpPr>
        <p:spPr>
          <a:xfrm>
            <a:off x="6227640" y="566100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v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укашик № 667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полу стоит ящик массой 20 кг. Какую работу надо произвести, чтобы поднять ящик на высоту кузова автомашины, равную 1,5 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но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20 кг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1,5 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-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98560" y="1916280"/>
            <a:ext cx="554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=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=mgh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=2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9,8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1,5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300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ж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: А=300 Дж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Line 7"/>
          <p:cNvSpPr/>
          <p:nvPr/>
        </p:nvSpPr>
        <p:spPr>
          <a:xfrm>
            <a:off x="250920" y="3068640"/>
            <a:ext cx="295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8"/>
          <p:cNvSpPr/>
          <p:nvPr/>
        </p:nvSpPr>
        <p:spPr>
          <a:xfrm>
            <a:off x="3203640" y="20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авильные 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618920" y="1483920"/>
            <a:ext cx="280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Н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Н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Н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.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.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8.Н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9.Н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0.Н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3924360" y="508284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-10 правильных ответов оценка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правильных ответов оценка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правильных ответов оценка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5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5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5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9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Домашнее     </a:t>
            </a:r>
            <a:br>
              <a:rPr sz="6000"/>
            </a:b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  задание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2340000" y="2997360"/>
            <a:ext cx="56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читать § 5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ия на карточка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по выбору 1, 2, 3 уровен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9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9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9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аида</cp:lastModifiedBy>
  <dcterms:modified xsi:type="dcterms:W3CDTF">2012-02-28T17:36:17Z</dcterms:modified>
  <cp:revision>61</cp:revision>
  <dc:subject/>
  <dc:title>PowerPoint Presentation</dc:title>
</cp:coreProperties>
</file>