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0A2-EAD4-471A-AA85-497FBD78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CB5-2600-4FD9-88E5-6B51E6FA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E51-D312-4C57-8135-578461C0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AFE-71C8-47D4-A25E-C74D082E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985-A62B-4708-8F2D-66A21D6C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2AE-C6C7-4CEF-9D00-AC2B38F4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EB9-4DA5-454E-8B71-D61F865F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C0A-FA77-4C6D-95DC-F312325C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51E-54B5-44D4-BBE9-AD22B05A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8D6-BCA3-4DA7-AD9F-A8714DBC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E4C-8A62-4F9B-9C92-74E50909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0E5-EF75-4FFE-BB19-0AAF45EE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3E7C-7EFD-4F44-9C70-8A8FF04EF2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48000" y="1268280"/>
            <a:ext cx="3517920" cy="422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585324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Работу выполнил Шорохов А.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Путешествие в царство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439128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ценный гриб.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в сосновом бору, в еловых  и смешанных           лесах. Шляпка сухая, гладкая, или светло-коричневая.  Ножка в нижней части расширенная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о-буроватая, а в верхней с белым сетчатым узором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900000" y="1916280"/>
            <a:ext cx="32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0" y="1989000"/>
            <a:ext cx="475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324000" y="333360"/>
            <a:ext cx="79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ый гри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7" descr="белый гриб"/>
          <p:cNvPicPr/>
          <p:nvPr/>
        </p:nvPicPr>
        <p:blipFill>
          <a:blip r:embed="rId1"/>
          <a:stretch/>
        </p:blipFill>
        <p:spPr>
          <a:xfrm>
            <a:off x="4843440" y="2379600"/>
            <a:ext cx="2857680" cy="3637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7480" y="294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роеж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8200" y="2327040"/>
            <a:ext cx="359892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ут в любом лесу. Их можно есть сырыми. Шляпка выпуклая или воронкообразная, различных оттенков, гладкая с тонкими кра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сыроежка"/>
          <p:cNvPicPr/>
          <p:nvPr/>
        </p:nvPicPr>
        <p:blipFill>
          <a:blip r:embed="rId1"/>
          <a:stretch/>
        </p:blipFill>
        <p:spPr>
          <a:xfrm>
            <a:off x="4645080" y="1989000"/>
            <a:ext cx="41036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ич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7" descr="лисички"/>
          <p:cNvPicPr/>
          <p:nvPr/>
        </p:nvPicPr>
        <p:blipFill>
          <a:blip r:embed="rId1"/>
          <a:stretch/>
        </p:blipFill>
        <p:spPr>
          <a:xfrm>
            <a:off x="789120" y="2138400"/>
            <a:ext cx="4871880" cy="3665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86280" y="1752480"/>
            <a:ext cx="3143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тут в лиственных и смешанных лесах. Шляпка гриба выпуклая с завернутым краем, мясистая, гладкая, желтого цвета. Ножка короткая, расширенная к верху и цвета шляпки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97040" y="639720"/>
            <a:ext cx="75564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ыж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рыжик"/>
          <p:cNvPicPr/>
          <p:nvPr/>
        </p:nvPicPr>
        <p:blipFill>
          <a:blip r:embed="rId1"/>
          <a:stretch/>
        </p:blipFill>
        <p:spPr>
          <a:xfrm>
            <a:off x="684360" y="1484280"/>
            <a:ext cx="3671640" cy="4402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0400" y="2118960"/>
            <a:ext cx="37051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жики растут большими семьями в сосновых лесах. Шляпка и ножка рыжеватого оттенка. Мякоть оранжев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7040" y="639360"/>
            <a:ext cx="7556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ерезови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560" y="1981080"/>
            <a:ext cx="434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тет в березовых лесах. Шляпка от белой до почти черной, снизу губчатая, серовато-бурая. Ножка тонкая, шероховатая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подосиновик"/>
          <p:cNvPicPr/>
          <p:nvPr/>
        </p:nvPicPr>
        <p:blipFill>
          <a:blip r:embed="rId1"/>
          <a:stretch/>
        </p:blipFill>
        <p:spPr>
          <a:xfrm>
            <a:off x="4932360" y="1557360"/>
            <a:ext cx="3672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Ядовитые 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6" descr="трутовые грибы"/>
          <p:cNvPicPr/>
          <p:nvPr/>
        </p:nvPicPr>
        <p:blipFill>
          <a:blip r:embed="rId1"/>
          <a:stretch/>
        </p:blipFill>
        <p:spPr>
          <a:xfrm>
            <a:off x="5643720" y="1285920"/>
            <a:ext cx="2058840" cy="2500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ложноопенок кирпично-красный"/>
          <p:cNvPicPr/>
          <p:nvPr/>
        </p:nvPicPr>
        <p:blipFill>
          <a:blip r:embed="rId2"/>
          <a:stretch/>
        </p:blipFill>
        <p:spPr>
          <a:xfrm>
            <a:off x="5500800" y="4071960"/>
            <a:ext cx="2808000" cy="237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красный мухомор"/>
          <p:cNvPicPr/>
          <p:nvPr/>
        </p:nvPicPr>
        <p:blipFill>
          <a:blip r:embed="rId3"/>
          <a:stretch/>
        </p:blipFill>
        <p:spPr>
          <a:xfrm>
            <a:off x="1714680" y="1285920"/>
            <a:ext cx="2143080" cy="254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сатанинский гриб"/>
          <p:cNvPicPr/>
          <p:nvPr/>
        </p:nvPicPr>
        <p:blipFill>
          <a:blip r:embed="rId4"/>
          <a:stretch/>
        </p:blipFill>
        <p:spPr>
          <a:xfrm>
            <a:off x="826920" y="3952800"/>
            <a:ext cx="303084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мухом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0400" y="2118960"/>
            <a:ext cx="37051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распространенный несъедобный гриб. Он имеет специфическую окраску и его нельзя спутать со съедобным грибом.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красный мухомор"/>
          <p:cNvPicPr/>
          <p:nvPr/>
        </p:nvPicPr>
        <p:blipFill>
          <a:blip r:embed="rId1"/>
          <a:stretch/>
        </p:blipFill>
        <p:spPr>
          <a:xfrm>
            <a:off x="900000" y="2203560"/>
            <a:ext cx="303876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1"/>
          <p:cNvSpPr/>
          <p:nvPr/>
        </p:nvSpPr>
        <p:spPr>
          <a:xfrm>
            <a:off x="0" y="1773360"/>
            <a:ext cx="349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этот гриб по соседству  с настоящей лисичкой в сосновых лесах. Отличается тем, что шляпка   кругло -воронковидная  с круглыми краями, в то время как у настоящей лисички края завернутые.Цвет шляпки красно-оранжева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324000" y="333360"/>
            <a:ext cx="79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ичка ложн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9" descr="лисичка ложная"/>
          <p:cNvPicPr/>
          <p:nvPr/>
        </p:nvPicPr>
        <p:blipFill>
          <a:blip r:embed="rId1"/>
          <a:stretch/>
        </p:blipFill>
        <p:spPr>
          <a:xfrm>
            <a:off x="3924360" y="2081160"/>
            <a:ext cx="41767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чный гриб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ожный белый гриб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0400" y="2344680"/>
            <a:ext cx="35971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 похож на боровик. Растет с ним в одинаковый период. Шляпка полушаровидная, буроватая. Гриб считается не съедобным из-за горького вкуса и  ядовит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желчный гриб"/>
          <p:cNvPicPr/>
          <p:nvPr/>
        </p:nvPicPr>
        <p:blipFill>
          <a:blip r:embed="rId1"/>
          <a:stretch/>
        </p:blipFill>
        <p:spPr>
          <a:xfrm>
            <a:off x="900000" y="2060640"/>
            <a:ext cx="3165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дная пога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981080"/>
            <a:ext cx="420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Самый опасный гриб. Растет в смешанных, березовых и дубовых лесах. Пластинки шляпки белые, широкие. Ножка вверху ровная, а у основания утолщенная.  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7" descr="бледная поганка"/>
          <p:cNvPicPr/>
          <p:nvPr/>
        </p:nvPicPr>
        <p:blipFill>
          <a:blip r:embed="rId1"/>
          <a:stretch/>
        </p:blipFill>
        <p:spPr>
          <a:xfrm>
            <a:off x="4572000" y="1844640"/>
            <a:ext cx="4176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знакомиться с ядовитыми и съедобными гриб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знакомиться с классификацией гриб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уществует множество грибов. Среди них есть съедобны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съедобные и даже плесе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бирать грибы нужно очень осторожно. Уметь отличать съедобные грибы от ядовитых, чтобы не отравиться. Существуют грибы, которые приносят вред человек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ез грибов не могло бы быть лекарств, хлебобулочных изделий, молочных продук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6" descr="грибы.bmp"/>
          <p:cNvPicPr/>
          <p:nvPr/>
        </p:nvPicPr>
        <p:blipFill>
          <a:blip r:embed="rId1"/>
          <a:stretch/>
        </p:blipFill>
        <p:spPr>
          <a:xfrm>
            <a:off x="142920" y="361800"/>
            <a:ext cx="5929200" cy="6282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7"/>
          <p:cNvSpPr/>
          <p:nvPr/>
        </p:nvSpPr>
        <p:spPr>
          <a:xfrm>
            <a:off x="6215040" y="428760"/>
            <a:ext cx="2500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ИБЫ, одно из царств живых организмов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ибы -нецветковое растени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имеющ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стьев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еблей и корн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и не содержат хлорофилла и поэтому не способны самостоятельно синтезировать необходимые им органические веще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5050"/>
                </a:solidFill>
                <a:latin typeface="Times New Roman"/>
              </a:rPr>
              <a:t>Микология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- наука о гриб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Царство включает около 100 тыс. ви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Из них наиболее известны шляпочные гриб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1527120"/>
            <a:ext cx="43434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3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3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3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Верхний слой почвы в лесу пронизан белыми нитями образующими под грибами плотные сплетения. Это грибница, которая и является собственно грибом, живущим в почв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589040"/>
            <a:ext cx="85726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пособы размножения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651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12536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11480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228600"/>
            <a:ext cx="487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5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змножение гриба спорообразовани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4724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82844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1413000"/>
            <a:ext cx="48243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мы собираем и кладем в корзину- плодовое тело, появившееся на поверхности, чтобы высыпать споры для размножения гриба. Споры-семена грибов, которые разносятся ветр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итание грибов- гетеротрофно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6696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12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1809720" cy="17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43000" y="1981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способу питания грибы явля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286000" y="251460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3352680"/>
            <a:ext cx="2743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25909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41911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рази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320040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профи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4382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68360" y="551664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553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685800" y="6019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Микориза  гри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35772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35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еснев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40000" y="380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92360" y="5445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ибницы многих грибов связаны с корнями деревьев. Поэтому грибы дружат с деревь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63547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8088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762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493092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734080"/>
            <a:ext cx="38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40720" y="189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115920"/>
            <a:ext cx="4319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ищевых продуктах и на почве поселяются плесневые грибы. Один из них пеницилл. Этот гриб разводят специально для получения антибиотика пенициллина, который применяют против бактер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25800" y="4797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4941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352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68436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581360"/>
            <a:ext cx="33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95480" y="557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08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4" descr="сыроежка"/>
          <p:cNvPicPr/>
          <p:nvPr/>
        </p:nvPicPr>
        <p:blipFill>
          <a:blip r:embed="rId1"/>
          <a:stretch/>
        </p:blipFill>
        <p:spPr>
          <a:xfrm>
            <a:off x="714240" y="1571760"/>
            <a:ext cx="2928960" cy="195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лисички"/>
          <p:cNvPicPr/>
          <p:nvPr/>
        </p:nvPicPr>
        <p:blipFill>
          <a:blip r:embed="rId2"/>
          <a:stretch/>
        </p:blipFill>
        <p:spPr>
          <a:xfrm>
            <a:off x="5000760" y="1571760"/>
            <a:ext cx="2732040" cy="207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белый гриб"/>
          <p:cNvPicPr/>
          <p:nvPr/>
        </p:nvPicPr>
        <p:blipFill>
          <a:blip r:embed="rId3"/>
          <a:stretch/>
        </p:blipFill>
        <p:spPr>
          <a:xfrm>
            <a:off x="928800" y="3643200"/>
            <a:ext cx="2735280" cy="302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рыжик"/>
          <p:cNvPicPr/>
          <p:nvPr/>
        </p:nvPicPr>
        <p:blipFill>
          <a:blip r:embed="rId4"/>
          <a:stretch/>
        </p:blipFill>
        <p:spPr>
          <a:xfrm>
            <a:off x="5000760" y="3714840"/>
            <a:ext cx="25192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09:14:39Z</dcterms:created>
  <dc:creator>Standard</dc:creator>
  <dc:description/>
  <dc:language>en-US</dc:language>
  <cp:lastModifiedBy>Admin</cp:lastModifiedBy>
  <dcterms:modified xsi:type="dcterms:W3CDTF">2012-02-29T19:04:19Z</dcterms:modified>
  <cp:revision>60</cp:revision>
  <dc:subject/>
  <dc:title>Презентация PowerPoint</dc:title>
</cp:coreProperties>
</file>