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F76-8EE4-4E29-B991-C59DA675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F9B1-2002-4FB8-B4F2-DCC0E48A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330B-BD12-48E5-85B8-A8AB0351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BC1-4542-41DE-A50F-A5E6FDBC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102-854E-4D57-916D-2031BA90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550F-6101-42C5-8BEE-99C386FD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41C-86BC-4B55-82EF-D72B404A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46B7-CE7B-4926-BC1F-C153105C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9D77-4492-4B29-A273-8D3E3903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EEE-C96D-453F-B626-47B0E8E5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D59-9103-4CC3-BE5E-B584FEC6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180-3455-4F32-8E49-B4F4D2DD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AE8E-5597-4020-A464-5DC618A77A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0" descr="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Скругленный прямоугольник 11" descr=""/>
          <p:cNvPicPr/>
          <p:nvPr/>
        </p:nvPicPr>
        <p:blipFill>
          <a:blip r:embed="rId2"/>
          <a:stretch/>
        </p:blipFill>
        <p:spPr>
          <a:xfrm>
            <a:off x="1225440" y="122400"/>
            <a:ext cx="6546960" cy="1163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12"/>
          <p:cNvSpPr/>
          <p:nvPr/>
        </p:nvSpPr>
        <p:spPr>
          <a:xfrm>
            <a:off x="214200" y="1500120"/>
            <a:ext cx="8715600" cy="1922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бщеучебные умения и навыки - это универсальные для многих школьных предметов способы получения и применения знаний, в отличие от предметных умений, которые являются специфическими для той или иной учебной дисципл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4"/>
          <p:cNvSpPr/>
          <p:nvPr/>
        </p:nvSpPr>
        <p:spPr>
          <a:xfrm>
            <a:off x="214200" y="3500280"/>
            <a:ext cx="8715600" cy="3143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едагогическая практика убедительно говорит, что отсутствие у школьников знаний о структуре и правилах мыслительных операций, о различных способах мыслительной деятельности вызывают затруднения в процессе обучения и отрицательно влияют на качество обученности. Причин неуспеваемости и низкого качества знаний несколько, но одной из главных является неумение учиться. Есть достаточно веские основания для того, чтобы акцент в школьном образовании сделать на формировании у обучаемых навыков учебной деятельности, вооружить их такими умениями и навыками, которые облегчают учебный труд, делают его привлекательным и позволяют получать радость от процесса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7" descr="4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5" descr="8б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13б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714240" y="1500120"/>
            <a:ext cx="7786800" cy="155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 научной литературе нет однозначного определения содержания и структуры общеучебных умений и навыков. Можно принять за основу такую классификац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кругленный прямоугольник 5" descr=""/>
          <p:cNvPicPr/>
          <p:nvPr/>
        </p:nvPicPr>
        <p:blipFill>
          <a:blip r:embed="rId4"/>
          <a:stretch/>
        </p:blipFill>
        <p:spPr>
          <a:xfrm>
            <a:off x="1225440" y="122400"/>
            <a:ext cx="6546960" cy="116352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8"/>
          <p:cNvSpPr/>
          <p:nvPr/>
        </p:nvSpPr>
        <p:spPr>
          <a:xfrm>
            <a:off x="571680" y="3143160"/>
            <a:ext cx="3643200" cy="1214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чебно-организаци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10"/>
          <p:cNvSpPr/>
          <p:nvPr/>
        </p:nvSpPr>
        <p:spPr>
          <a:xfrm>
            <a:off x="4786200" y="3143160"/>
            <a:ext cx="3643560" cy="1214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чебно-информаци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13"/>
          <p:cNvSpPr/>
          <p:nvPr/>
        </p:nvSpPr>
        <p:spPr>
          <a:xfrm>
            <a:off x="571680" y="4929120"/>
            <a:ext cx="3643200" cy="1214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чебно-интеллекту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14"/>
          <p:cNvSpPr/>
          <p:nvPr/>
        </p:nvSpPr>
        <p:spPr>
          <a:xfrm>
            <a:off x="4786200" y="4929120"/>
            <a:ext cx="3643560" cy="1214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чебно-коммуника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1" descr="44.GIF"/>
          <p:cNvPicPr/>
          <p:nvPr/>
        </p:nvPicPr>
        <p:blipFill>
          <a:blip r:embed="rId5"/>
          <a:stretch/>
        </p:blipFill>
        <p:spPr>
          <a:xfrm>
            <a:off x="642960" y="3214800"/>
            <a:ext cx="866880" cy="5904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3" descr="44.GIF"/>
          <p:cNvPicPr/>
          <p:nvPr/>
        </p:nvPicPr>
        <p:blipFill>
          <a:blip r:embed="rId6"/>
          <a:stretch/>
        </p:blipFill>
        <p:spPr>
          <a:xfrm>
            <a:off x="4857840" y="3214800"/>
            <a:ext cx="866520" cy="5904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4" descr="44.GIF"/>
          <p:cNvPicPr/>
          <p:nvPr/>
        </p:nvPicPr>
        <p:blipFill>
          <a:blip r:embed="rId7"/>
          <a:stretch/>
        </p:blipFill>
        <p:spPr>
          <a:xfrm>
            <a:off x="642960" y="5000760"/>
            <a:ext cx="866880" cy="5904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5" descr="44.GIF"/>
          <p:cNvPicPr/>
          <p:nvPr/>
        </p:nvPicPr>
        <p:blipFill>
          <a:blip r:embed="rId8"/>
          <a:stretch/>
        </p:blipFill>
        <p:spPr>
          <a:xfrm>
            <a:off x="4857840" y="5000760"/>
            <a:ext cx="9284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0" descr="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Скругленный прямоугольник 2"/>
          <p:cNvSpPr/>
          <p:nvPr/>
        </p:nvSpPr>
        <p:spPr>
          <a:xfrm>
            <a:off x="1857240" y="214200"/>
            <a:ext cx="5072040" cy="928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чебно-организационные ОУ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143160" y="1785960"/>
            <a:ext cx="2786040" cy="581400"/>
          </a:xfrm>
          <a:prstGeom prst="rect">
            <a:avLst/>
          </a:prstGeom>
          <a:solidFill>
            <a:srgbClr val="f38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обеспечи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6429240" y="1428840"/>
            <a:ext cx="2214720" cy="4597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6429240" y="2286000"/>
            <a:ext cx="2214720" cy="4597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гул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429000" y="2786040"/>
            <a:ext cx="2214720" cy="4597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428760" y="2286000"/>
            <a:ext cx="2214360" cy="4597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428760" y="1428840"/>
            <a:ext cx="2214360" cy="4597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42"/>
          <p:cNvCxnSpPr>
            <a:stCxn id="60" idx="1"/>
            <a:endCxn id="65" idx="3"/>
          </p:cNvCxnSpPr>
          <p:nvPr/>
        </p:nvCxnSpPr>
        <p:spPr>
          <a:xfrm flipH="1" flipV="1">
            <a:off x="2642400" y="1658520"/>
            <a:ext cx="500760" cy="4197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67" name="Прямая со стрелкой 43"/>
          <p:cNvCxnSpPr>
            <a:endCxn id="64" idx="3"/>
          </p:cNvCxnSpPr>
          <p:nvPr/>
        </p:nvCxnSpPr>
        <p:spPr>
          <a:xfrm flipH="1">
            <a:off x="2642400" y="2143080"/>
            <a:ext cx="500760" cy="3736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68" name="Прямая со стрелкой 46"/>
          <p:cNvCxnSpPr/>
          <p:nvPr/>
        </p:nvCxnSpPr>
        <p:spPr>
          <a:xfrm flipH="1">
            <a:off x="4357440" y="2356920"/>
            <a:ext cx="2160" cy="429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69" name="Прямая со стрелкой 49"/>
          <p:cNvCxnSpPr>
            <a:endCxn id="62" idx="1"/>
          </p:cNvCxnSpPr>
          <p:nvPr/>
        </p:nvCxnSpPr>
        <p:spPr>
          <a:xfrm>
            <a:off x="5928840" y="2143080"/>
            <a:ext cx="500760" cy="3736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70" name="Прямая со стрелкой 52"/>
          <p:cNvCxnSpPr>
            <a:endCxn id="61" idx="1"/>
          </p:cNvCxnSpPr>
          <p:nvPr/>
        </p:nvCxnSpPr>
        <p:spPr>
          <a:xfrm flipV="1">
            <a:off x="5928840" y="1658160"/>
            <a:ext cx="500760" cy="4136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71" name="TextBox 15"/>
          <p:cNvSpPr/>
          <p:nvPr/>
        </p:nvSpPr>
        <p:spPr>
          <a:xfrm>
            <a:off x="3071880" y="3714840"/>
            <a:ext cx="2857320" cy="520560"/>
          </a:xfrm>
          <a:prstGeom prst="rect">
            <a:avLst/>
          </a:prstGeom>
          <a:solidFill>
            <a:srgbClr val="f38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К ним относятся: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6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ение индивидуальных и коллективных учебных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17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бор наиболее рациональной последовательности действий по выполнению учебной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8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равнение полученных результатов с учебной зада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19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ценивание своей учебной деятельности и учебной деятельности однокласс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20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ладение различными формами самоконтр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21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ценивание своей учебной деятельности и учебной деятельности однокласс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22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ение проблем собственной учебной деятельности и установление их прич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23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ановка цели само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24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ение наиболее рациональной последовательности действий по осуществлению само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0" descr="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Скругленный прямоугольник 2"/>
          <p:cNvSpPr/>
          <p:nvPr/>
        </p:nvSpPr>
        <p:spPr>
          <a:xfrm>
            <a:off x="1857240" y="214200"/>
            <a:ext cx="5072040" cy="928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чебно-информационные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ОУ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143160" y="1785960"/>
            <a:ext cx="2786040" cy="581400"/>
          </a:xfrm>
          <a:prstGeom prst="rect">
            <a:avLst/>
          </a:prstGeom>
          <a:solidFill>
            <a:srgbClr val="f38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обеспечи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71680" y="2786040"/>
            <a:ext cx="2214360" cy="4597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хо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3429000" y="2786040"/>
            <a:ext cx="2214720" cy="4597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рабо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240" y="2786040"/>
            <a:ext cx="2214720" cy="4597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Прямая со стрелкой 19"/>
          <p:cNvCxnSpPr>
            <a:stCxn id="83" idx="2"/>
          </p:cNvCxnSpPr>
          <p:nvPr/>
        </p:nvCxnSpPr>
        <p:spPr>
          <a:xfrm flipH="1">
            <a:off x="1642320" y="2369880"/>
            <a:ext cx="2894760" cy="3452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88" name="Прямая со стрелкой 21"/>
          <p:cNvCxnSpPr>
            <a:stCxn id="83" idx="2"/>
            <a:endCxn id="85" idx="0"/>
          </p:cNvCxnSpPr>
          <p:nvPr/>
        </p:nvCxnSpPr>
        <p:spPr>
          <a:xfrm flipH="1">
            <a:off x="4535280" y="2369880"/>
            <a:ext cx="2160" cy="4165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89" name="Прямая со стрелкой 25"/>
          <p:cNvCxnSpPr>
            <a:stCxn id="83" idx="2"/>
          </p:cNvCxnSpPr>
          <p:nvPr/>
        </p:nvCxnSpPr>
        <p:spPr>
          <a:xfrm>
            <a:off x="4536000" y="2369880"/>
            <a:ext cx="2964600" cy="3452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90" name="TextBox 26"/>
          <p:cNvSpPr/>
          <p:nvPr/>
        </p:nvSpPr>
        <p:spPr>
          <a:xfrm>
            <a:off x="3071880" y="3714840"/>
            <a:ext cx="2857320" cy="520560"/>
          </a:xfrm>
          <a:prstGeom prst="rect">
            <a:avLst/>
          </a:prstGeom>
          <a:solidFill>
            <a:srgbClr val="f38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К ним относятся: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27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бота с основными компонентами учеб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28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пользование справочной и дополнитель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29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бор и группировка материалов по определенной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30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здание текстов различных тип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31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ладение разными формами изложения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32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ление на основе текста таблицы, схемы, граф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33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ление тезисов, конспек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34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готовка доклада, рефе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35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наблю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36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чественное и количественное описание изучаемого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37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ведение экспери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38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пользование разных видов модел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0" descr="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Скругленный прямоугольник 2"/>
          <p:cNvSpPr/>
          <p:nvPr/>
        </p:nvSpPr>
        <p:spPr>
          <a:xfrm>
            <a:off x="1857240" y="214200"/>
            <a:ext cx="5072040" cy="928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чебно-интеллектуальные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ОУ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143160" y="1785960"/>
            <a:ext cx="2786040" cy="581400"/>
          </a:xfrm>
          <a:prstGeom prst="rect">
            <a:avLst/>
          </a:prstGeom>
          <a:solidFill>
            <a:srgbClr val="f38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обеспечи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571680" y="2786040"/>
            <a:ext cx="3714480" cy="8254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руктуру содержания процесса постан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929120" y="2786040"/>
            <a:ext cx="3714840" cy="8254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ения учебны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7"/>
          <p:cNvCxnSpPr>
            <a:stCxn id="105" idx="2"/>
          </p:cNvCxnSpPr>
          <p:nvPr/>
        </p:nvCxnSpPr>
        <p:spPr>
          <a:xfrm flipH="1">
            <a:off x="2428560" y="2369880"/>
            <a:ext cx="2108880" cy="3452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09" name="Прямая со стрелкой 9"/>
          <p:cNvCxnSpPr>
            <a:stCxn id="105" idx="2"/>
          </p:cNvCxnSpPr>
          <p:nvPr/>
        </p:nvCxnSpPr>
        <p:spPr>
          <a:xfrm>
            <a:off x="4536000" y="2369880"/>
            <a:ext cx="2250360" cy="3452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10" name="Скругленный прямоугольник 10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ение объектов анализа и синтеза и их компон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3071880" y="3857760"/>
            <a:ext cx="2857320" cy="520560"/>
          </a:xfrm>
          <a:prstGeom prst="rect">
            <a:avLst/>
          </a:prstGeom>
          <a:solidFill>
            <a:srgbClr val="f38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К ним относятся: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12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явление существенных признаков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13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ение соотношения компонентов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14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ведение разных видов с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15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становление причинно-следственных свя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16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ерирование понятиями, сужд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7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ассификация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18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ладение компонентами доказ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19"/>
          <p:cNvSpPr/>
          <p:nvPr/>
        </p:nvSpPr>
        <p:spPr>
          <a:xfrm>
            <a:off x="571680" y="4714920"/>
            <a:ext cx="81435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улирование проблемы и определение способов ее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0" descr="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Скругленный прямоугольник 2"/>
          <p:cNvSpPr/>
          <p:nvPr/>
        </p:nvSpPr>
        <p:spPr>
          <a:xfrm>
            <a:off x="1857240" y="214200"/>
            <a:ext cx="5072040" cy="928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чебно-коммуникативные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ОУ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3143160" y="1428840"/>
            <a:ext cx="2786040" cy="581400"/>
          </a:xfrm>
          <a:prstGeom prst="rect">
            <a:avLst/>
          </a:prstGeom>
          <a:solidFill>
            <a:srgbClr val="f38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озвол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14200" y="2357280"/>
            <a:ext cx="4143600" cy="8254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овать сотрудничество со старшими и сверст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714920" y="2357280"/>
            <a:ext cx="4214880" cy="8254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стигать с ними взаимопо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2000160" y="3571920"/>
            <a:ext cx="5143680" cy="8254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овывать совместную деятельность с разными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 стрелкой 11"/>
          <p:cNvCxnSpPr>
            <a:stCxn id="122" idx="2"/>
          </p:cNvCxnSpPr>
          <p:nvPr/>
        </p:nvCxnSpPr>
        <p:spPr>
          <a:xfrm flipH="1">
            <a:off x="2356560" y="2013120"/>
            <a:ext cx="2179080" cy="2732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27" name="Прямая со стрелкой 13"/>
          <p:cNvCxnSpPr>
            <a:stCxn id="122" idx="2"/>
          </p:cNvCxnSpPr>
          <p:nvPr/>
        </p:nvCxnSpPr>
        <p:spPr>
          <a:xfrm>
            <a:off x="4535640" y="2013120"/>
            <a:ext cx="2180160" cy="2732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28" name="Прямая со стрелкой 15"/>
          <p:cNvCxnSpPr>
            <a:stCxn id="122" idx="2"/>
            <a:endCxn id="125" idx="0"/>
          </p:cNvCxnSpPr>
          <p:nvPr/>
        </p:nvCxnSpPr>
        <p:spPr>
          <a:xfrm>
            <a:off x="4534560" y="2013120"/>
            <a:ext cx="37080" cy="15595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29" name="TextBox 24"/>
          <p:cNvSpPr/>
          <p:nvPr/>
        </p:nvSpPr>
        <p:spPr>
          <a:xfrm>
            <a:off x="3071880" y="4643280"/>
            <a:ext cx="2857320" cy="520560"/>
          </a:xfrm>
          <a:prstGeom prst="rect">
            <a:avLst/>
          </a:prstGeom>
          <a:solidFill>
            <a:srgbClr val="f38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К ним относятся: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25"/>
          <p:cNvSpPr/>
          <p:nvPr/>
        </p:nvSpPr>
        <p:spPr>
          <a:xfrm>
            <a:off x="571680" y="5429160"/>
            <a:ext cx="814356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слушивание мнения друг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26"/>
          <p:cNvSpPr/>
          <p:nvPr/>
        </p:nvSpPr>
        <p:spPr>
          <a:xfrm>
            <a:off x="571680" y="5429160"/>
            <a:ext cx="814356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ладение различными формами устных публичных выступ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27"/>
          <p:cNvSpPr/>
          <p:nvPr/>
        </p:nvSpPr>
        <p:spPr>
          <a:xfrm>
            <a:off x="571680" y="5429160"/>
            <a:ext cx="814356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ценка разных точек з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28"/>
          <p:cNvSpPr/>
          <p:nvPr/>
        </p:nvSpPr>
        <p:spPr>
          <a:xfrm>
            <a:off x="571680" y="5429160"/>
            <a:ext cx="814356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ладение приемами рито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29"/>
          <p:cNvSpPr/>
          <p:nvPr/>
        </p:nvSpPr>
        <p:spPr>
          <a:xfrm>
            <a:off x="571680" y="5429160"/>
            <a:ext cx="814356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ганизация совмест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30"/>
          <p:cNvSpPr/>
          <p:nvPr/>
        </p:nvSpPr>
        <p:spPr>
          <a:xfrm>
            <a:off x="571680" y="5429160"/>
            <a:ext cx="814356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ладение культур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31"/>
          <p:cNvSpPr/>
          <p:nvPr/>
        </p:nvSpPr>
        <p:spPr>
          <a:xfrm>
            <a:off x="571680" y="5429160"/>
            <a:ext cx="814356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дение диску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32"/>
          <p:cNvSpPr/>
          <p:nvPr/>
        </p:nvSpPr>
        <p:spPr>
          <a:xfrm>
            <a:off x="571680" y="5429160"/>
            <a:ext cx="814356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сказывать 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0" descr="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Скругленный прямоугольник 4"/>
          <p:cNvSpPr/>
          <p:nvPr/>
        </p:nvSpPr>
        <p:spPr>
          <a:xfrm>
            <a:off x="1643040" y="214200"/>
            <a:ext cx="5500800" cy="928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какой последовательности развивать  ОУ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214200" y="1643040"/>
            <a:ext cx="8715600" cy="411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учше, если учитель в каждый отрезок времени будет договариваться с детьми, какое общеучебное умение они будут развивать. При этом ученики понимают, чему они учатся в данный момен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формирования тех или иных общеучебных умений учителю следует подбирать то предметное содержание, которое наиболее эффективно способствует развитию этих умений. На одних темах учебного плана, например, наиболее целесообразно развивать учебно-интеллектуальные умения, на других – учебно-коммуникатив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10" descr="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Скругленный прямоугольник 2"/>
          <p:cNvSpPr/>
          <p:nvPr/>
        </p:nvSpPr>
        <p:spPr>
          <a:xfrm>
            <a:off x="1500120" y="214200"/>
            <a:ext cx="5786640" cy="928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екоторые условия эффективного освоения ОУ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357120" y="1571760"/>
            <a:ext cx="8429760" cy="1008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Подготовка памятки каждому ученику по каждому учебному умению или же выбор из специальной тетради, где они собра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285840" y="2857680"/>
            <a:ext cx="8501040" cy="1008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Включение задач по формированию, использованию и развитию конкретных умений в ткань урока и внеурочную рабо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285840" y="4071960"/>
            <a:ext cx="8501040" cy="1008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Обеспечение единства действий всех учителей, воспитателей по формированию и использованию общеучебных ум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10"/>
          <p:cNvSpPr/>
          <p:nvPr/>
        </p:nvSpPr>
        <p:spPr>
          <a:xfrm>
            <a:off x="3000240" y="5715000"/>
            <a:ext cx="2857680" cy="5000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ПРИ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0:16:12Z</dcterms:created>
  <dc:creator>Aleks</dc:creator>
  <dc:description/>
  <dc:language>en-US</dc:language>
  <cp:lastModifiedBy>Admin</cp:lastModifiedBy>
  <dcterms:modified xsi:type="dcterms:W3CDTF">2010-03-14T09:10:39Z</dcterms:modified>
  <cp:revision>59</cp:revision>
  <dc:subject/>
  <dc:title>ОУУН</dc:title>
</cp:coreProperties>
</file>