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B7D-4748-4505-B335-6316C626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1B2-AB18-4671-8F1C-8DB13228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C54-B365-422D-86DF-D93D0B9F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069-E693-4489-8671-8F4D096A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B80-ADB1-4D61-869D-2F972E70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6982-42CB-4CD4-83AF-D4699D9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DF12-6095-4CA4-895E-E123C54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A59-B1EC-4083-AD1B-608A6EAD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B6AB-8D2E-4DA6-879E-3099DD5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3CB-CCA4-421F-B121-275A5EBE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619D-B2E6-4EE0-9F2E-BE2DC1F8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7AB-8896-4780-9228-6ED46BA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A16-D7C4-41E6-919E-E688B5C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F9ED-28DE-4109-A362-0C74342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BFBD-9340-46AD-B298-8CC2135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BFD5-1D0E-4817-B1EE-7ECA00DC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B08-AC19-49C7-A4DC-6CCBACD8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795-FA42-476A-AE04-4173B12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E1E-E20A-4A84-BE32-56574C1B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302-36A1-4920-BD34-F9D31B10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210-0114-4692-8581-2F0FCF4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E8C-D6EB-401E-8B72-588B3E6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548-53B2-4103-95BA-5AF6137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57C-CFA6-4693-9C3C-BB0A4D3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39F-15D7-48D8-9DE2-16EF771681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F4AC-EAB6-411E-AB6F-255360109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Times New Roman"/>
              </a:rPr>
              <a:t>Конфликт.</a:t>
            </a:r>
            <a:r>
              <a:rPr b="0" i="1" lang="en-US" sz="4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Times New Roman"/>
              </a:rPr>
              <a:t>Преодоление барьеров общени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астер –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 учитель МОУ «Апастовская средняя общеобразовательная школа» Апастовск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сибуллина Гульнур Хайд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8520" y="83664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Классный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27080" y="604044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Афориз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Только тогда станешь человеком, когда научишься видеть человека в другом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дищев А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1817640" cy="1425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835280" y="3838680"/>
            <a:ext cx="315432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Афориз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рубое и резкое обращение закрывает перед нами все двери и все  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майлс  Самюэ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2319120" cy="210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Афориз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Самая большая роскошь  на свете – это роскошь человеческого  обще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нтуан де Сент – Экзю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19280" y="3573360"/>
            <a:ext cx="2160720" cy="213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Афориз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Уважение других дает повод для уважения себя самого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ене Дека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3716280"/>
            <a:ext cx="315432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04720" y="2781360"/>
            <a:ext cx="6651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автор – учитель высшей квалифик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категории Апастовской сред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общеобразовательной 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Апастовского района Республики Татарст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ибуллина Гульнур Хайда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2292120" cy="17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ивычки челове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Человек   в  значительной   степени  сам   предопределяет   свою  судьбу,  так  как  реализует  своё   поведение   через  хорошие  или  дурные    привычки,  которые  вызывают  соответствующие  последствия.  Поведение  человека  во  многом   зависит  от  его привычек:  хороших  или  пло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1836720" cy="182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19280" y="4365720"/>
            <a:ext cx="1849320" cy="182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300720" y="3956040"/>
            <a:ext cx="2158920" cy="204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Анкета для учащихся: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я радуюсь, когда ___________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я смеюсь, когда ___________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у меня хорошее настроение, когда ___________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я плачу, когда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я злюсь, когда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чаще всего я  обижаюсь, когда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мне плохо, когда  меня  ___________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мне хорошо, когда меня 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4508640"/>
            <a:ext cx="284292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Я и класс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530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05280" y="200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5440" y="4221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9800" y="2852640"/>
            <a:ext cx="4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49640" y="1488960"/>
            <a:ext cx="5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4292640"/>
            <a:ext cx="50328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97360"/>
            <a:ext cx="57456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2349360"/>
            <a:ext cx="57600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4221000"/>
            <a:ext cx="57456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708280"/>
            <a:ext cx="71928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2862360" cy="2055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792080" cy="272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Моделирование ситу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еакция амб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лучив информацию, придающую вес другому лицу, человек  тут же старается принизить значение этой информации, стараясь подчеркнуть собственную значимость в глазах других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1881000" cy="173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Моделирование ситу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еакция зав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человек достиг успеха, другой от его успеха и достижений «заболевает». Он считает, что успех другого возможен только после успеха его са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Моделирование ситу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еакция злора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Человек радуется тому, что кому –то плохо. Часто при этом не скрывает своих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15685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Моделирование ситу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еакция а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Человек использует угрозы и грубость в достижении цели. Это характерно для людей амбициозных и нечувствительных к страданиям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551320" cy="174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Times New Roman"/>
              </a:rPr>
              <a:t>Моделирование ситу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еакция безразлич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Равнодушное отношение к физическому и душевному страданию друго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249264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56:57Z</dcterms:created>
  <dc:creator>DEMA</dc:creator>
  <dc:description/>
  <dc:language>en-US</dc:language>
  <cp:lastModifiedBy>DEMA</cp:lastModifiedBy>
  <dcterms:modified xsi:type="dcterms:W3CDTF">2009-01-15T16:43:19Z</dcterms:modified>
  <cp:revision>5</cp:revision>
  <dc:subject/>
  <dc:title>Конфликт.  Преодоление барьеров общения</dc:title>
</cp:coreProperties>
</file>