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0E0F-F3EE-4FE2-A2B2-B669D7F4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6C19-4722-4601-9755-1A95D320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1618-85C2-4D39-9FF0-FD3E5FC9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559D-4F18-4B2A-B35B-29EF56D00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39CE-3EC7-4AC7-A162-1950EDF2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B0B7-1C40-4422-8FC5-716F189B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E5CF-83F2-41D5-9B7F-7F85BFAC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0EE7-979A-42E7-BF4A-0D76ED50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F307-80AD-47F3-B7AF-76A1DF67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FD21-A50C-4F13-9B93-BFFB741F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C2B2-0DA0-4318-A2EC-DA6B3D88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66F1-141E-48ED-A10B-968AC3A3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F512-0FB7-4099-BDA6-3FE534DC0C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upilekarstva.ru/published/publicdata/ONLINEP9ONLINEPH/attachments/SC/products_pictures/aciklovir_5__10_0_maz__enl_enl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erpes.91mb.ru/pict/galereja/12905843051351075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usmedserv.com/news/vetryanka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herpes-doctor.com/image_files/herpes3.gif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erpes.91mb.ru/pict/galereja/12905843032981391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foto.medicaterra.by/foto/1235324134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jpg-lyubov.ru/photo/11-0-961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herpes.ru/her/pat/gh/foto/1.htm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erpes.91mb.ru/pict/galereja/12905843042043707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otvetin.ru/uploads/posts/2010-03/1269617969_herpes_simple_01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187280" y="981000"/>
            <a:ext cx="66978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Чума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395280" y="2205000"/>
            <a:ext cx="813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НОГОЛИКИЙ ГЕРПЕС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324000" y="11484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блуждение 6. Герпес на губах (лабиальный) и на половых органах (генитальный) – это два совершенно разных заболевания, при оральном сексе заражения не происход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68360" y="1283400"/>
            <a:ext cx="457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утверждение верно лишь отчасти. Действительно, лабиальный герпес чаще вызывается первым типом вируса простого герпеса (ВПГ-1), а генитальный – вторым (ВПГ-2). Однако оба типа вируса могут привести к высыпаниям и на губах, и на гениталиях. Особенно часто такая смена «местожительства» происходит как раз при оральном сек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330206016" descr="330206016"/>
          <p:cNvPicPr/>
          <p:nvPr/>
        </p:nvPicPr>
        <p:blipFill>
          <a:blip r:embed="rId1"/>
          <a:stretch/>
        </p:blipFill>
        <p:spPr>
          <a:xfrm>
            <a:off x="5364000" y="1700280"/>
            <a:ext cx="286236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611280" y="229320"/>
            <a:ext cx="739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блуждение 7. Презерватив полностью защищает от заражения генитальным герпе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79280" y="1047600"/>
            <a:ext cx="4626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зерватив действительно снижает риск заражения, но стопроцентной гарантии, к сожалению, не дает. Передача вируса может произойти через участки тела, не закрытые презервативом, или через определенные дефекты «резинового друга» (например, некачественный или излишне пористый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Презервативы разные (18 картинок)"/>
          <p:cNvPicPr/>
          <p:nvPr/>
        </p:nvPicPr>
        <p:blipFill>
          <a:blip r:embed="rId1"/>
          <a:stretch/>
        </p:blipFill>
        <p:spPr>
          <a:xfrm>
            <a:off x="4932360" y="2997360"/>
            <a:ext cx="303516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1187280" y="33228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блуждение 8. Самое лучшее лечение – прижигание болячек спиртом, йодом или зелен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971640" y="1442880"/>
            <a:ext cx="460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жигания не влияют на вирус герпеса и его активность, а вот обжечь поврежденную кожу и слизистую оболочку таким способом очень легко. Лучше аккуратно смазать высыпания антисепти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Картинка 2 из 9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2133720"/>
            <a:ext cx="321156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395280" y="1320480"/>
            <a:ext cx="7345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обще-то, герпес занимает второе место по смертности от вирусных инфекций, уступая только ОРВИ во главе с гриппом. Вирус простого герпеса встраивается в геном нервных клеток, поэтому высыпания возникают в местах нервных окончаний и сопровождаются сильной болью. При снижении иммунитета герпес может развиться в слизистой оболочке рта и гортани, роговице и конъюнктиве глаза, лимфатических узлах, внутренних половых органах, кишечнике, печени, почках, легких и центральной нервной системе. При поражении головного мозга подавляющее большинство больных умирает или остается инвалида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324000" y="229320"/>
            <a:ext cx="744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блуждение 9. Герпес – неопасное заболевание, и поражает только кож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1620000" y="28800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 появляется герпес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1138320" y="818280"/>
            <a:ext cx="89236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Неправильная» ди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тройство желуд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итические д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гревание либо переохлажд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р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ф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итки – Алкогольны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моциональное расстрой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льный стрес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матические болезни (грипп, ВИЧ, сахарный диабет, простуд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токсикац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щение орган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ремен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авма на губ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хорад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900000" y="333360"/>
            <a:ext cx="66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АДИИ РАЗВИТИЯ ПЕРВИЧНОГО ГЕРП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684360" y="981000"/>
            <a:ext cx="34560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ервая стад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ёгкое пощипывание. Человек чувствует боль и жжение в губах. Длиться стадия от двух часов до одного дня. Используя специальные мази, развитие герпеса можно предотврат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Герпес на губах. "/>
          <p:cNvPicPr/>
          <p:nvPr/>
        </p:nvPicPr>
        <p:blipFill>
          <a:blip r:embed="rId1"/>
          <a:stretch/>
        </p:blipFill>
        <p:spPr>
          <a:xfrm>
            <a:off x="5148360" y="105264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900000" y="4292640"/>
            <a:ext cx="31672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торая Стад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воспалительный процесс: появляется припухлось, покраснение, образуются пузырьки с жидк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Картинка 2 из 984"/>
          <p:cNvPicPr/>
          <p:nvPr/>
        </p:nvPicPr>
        <p:blipFill>
          <a:blip r:embed="rId2"/>
          <a:stretch/>
        </p:blipFill>
        <p:spPr>
          <a:xfrm>
            <a:off x="4932360" y="4344840"/>
            <a:ext cx="27543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539640" y="448920"/>
            <a:ext cx="3745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ретья стад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ние язвочек. Эта стадия – самая заразная. Человек испытывает боль и жжение в области г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95280" y="4012920"/>
            <a:ext cx="3600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ключительная стад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ние коричневой корочки. Она засыхает и, вскоре, отпад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Картинка 31 из 984"/>
          <p:cNvPicPr/>
          <p:nvPr/>
        </p:nvPicPr>
        <p:blipFill>
          <a:blip r:embed="rId1"/>
          <a:stretch/>
        </p:blipFill>
        <p:spPr>
          <a:xfrm>
            <a:off x="4788000" y="549360"/>
            <a:ext cx="3114720" cy="2338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Картинка 128 из 984"/>
          <p:cNvPicPr/>
          <p:nvPr/>
        </p:nvPicPr>
        <p:blipFill>
          <a:blip r:embed="rId2"/>
          <a:stretch/>
        </p:blipFill>
        <p:spPr>
          <a:xfrm>
            <a:off x="5003640" y="3284640"/>
            <a:ext cx="28576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719280" y="83556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ры, которые снижают риск передачи инфекции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1042920" y="1381680"/>
            <a:ext cx="61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ди, страдающие герпесом на губах, должны уделять особое внимание гигие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116000" y="3283560"/>
            <a:ext cx="559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льзя дотрагиваться до пузырьков - при этом могут инфицироваться ру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1116000" y="422028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обходимо использовать противовирусные мази : Ацикловир, Зовиракс, Вектави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1042920" y="2132640"/>
            <a:ext cx="70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следует вскрывать пузырьки, удалять корочки (чтобы не распространять вирус на другие участки кожи и на глаз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755640" y="476280"/>
            <a:ext cx="388764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цвела девчон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 на глаз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убки раскраснелись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ли в волдыр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сные пузырики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ут они и т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ни, не целуйте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такой по вечера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дь герпес - заразны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отри, не подхват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убы свои ю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ы поберег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5" descr="Картинка 148 из 84000"/>
          <p:cNvPicPr/>
          <p:nvPr/>
        </p:nvPicPr>
        <p:blipFill>
          <a:blip r:embed="rId1"/>
          <a:stretch/>
        </p:blipFill>
        <p:spPr>
          <a:xfrm>
            <a:off x="4067280" y="1225440"/>
            <a:ext cx="486072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1116000" y="1628640"/>
            <a:ext cx="38876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зентацию подготовила Симоненкова Н.С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валификационной категор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 СОШ п. Валдай, Карел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P1030625 copy"/>
          <p:cNvPicPr/>
          <p:nvPr/>
        </p:nvPicPr>
        <p:blipFill>
          <a:blip r:embed="rId1"/>
          <a:stretch/>
        </p:blipFill>
        <p:spPr>
          <a:xfrm>
            <a:off x="5651640" y="1700280"/>
            <a:ext cx="26240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186920" y="333000"/>
            <a:ext cx="75106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герпесе писал еще Геродот за сто лет до нашей эры: именно «отец истории» дал герпесу современное название (от греческого herpein – ползать) – из-за способности герпетических язвочек «расползаться» в стороны от первичного пузырька на ко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1290584305135107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3573360"/>
            <a:ext cx="367164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179280" y="333360"/>
            <a:ext cx="489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йство герпесвирусов не ограничивается лишь вирусами простого герпеса. К примеру, третий тип вируса герпеса, известный также как Варицелла-Зостер, вызывает всем известную ветряную оспу, или «ветрянку» у де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-main-pic" descr="Картинка 7 из 66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56536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4716360" y="1989000"/>
            <a:ext cx="39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опоясывающий лишай – у взросл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-main-pic" descr="Картинка 8 из 661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2637000"/>
            <a:ext cx="2819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4968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Четвертый тип – вирус Эпштейна-Барр – является возбудителем инфекционного мононуклеоза, поражающего ротоглотку, лимфоузлы, печень и кровь, а иногда приводит к злокачественным новообразования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129058430329813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3500280"/>
            <a:ext cx="3672000" cy="2976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5003640" y="257400"/>
            <a:ext cx="3865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ятый тип – цитомегаловирус – как правило, проявляется при тяжелых иммунодефицитных состояниях, поражая сразу множество орган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1235324134_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76720" y="3487680"/>
            <a:ext cx="35276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4"/>
          <p:cNvSpPr txBox="1"/>
          <p:nvPr/>
        </p:nvSpPr>
        <p:spPr>
          <a:xfrm>
            <a:off x="971640" y="549360"/>
            <a:ext cx="72295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ЫСЛЫ И ЗАБЛУЖДЕНИЯ О ГЕРПЕСЕ</a:t>
            </a:r>
            <a:endParaRPr b="0" lang="en-US" sz="1800" spc="1" strike="noStrike">
              <a:ln w="3816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611280" y="1627920"/>
            <a:ext cx="45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блуждение 1.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ерпес не зараз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24000" y="2058120"/>
            <a:ext cx="766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точностью до наоборот. Герпес передается воздушно-капельным (при кашле, чихании, разговоре), контактным (при поцелуях, пользовании общей посудой, помадой, мундштуком) и половым пут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919556658"/>
          <p:cNvPicPr/>
          <p:nvPr/>
        </p:nvPicPr>
        <p:blipFill>
          <a:blip r:embed="rId1"/>
          <a:stretch/>
        </p:blipFill>
        <p:spPr>
          <a:xfrm>
            <a:off x="1547640" y="4145040"/>
            <a:ext cx="2035440" cy="2712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20234788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77080" y="3068640"/>
            <a:ext cx="1728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181080" y="259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блуждение 2. Герпес – проявление «простуд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971640" y="1263240"/>
            <a:ext cx="4103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амом деле герпес – это самостоятельное заболевание, вызываемое вирусом простого герпеса (ВПГ). Обычно он активируется при переохлаждении, но может проявиться и при стрессе, переутомлении, обострении хронических заболеваний или любом снижении общего иммунит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увеличить!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628640"/>
            <a:ext cx="27370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395280" y="37368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блуждение 3. Если появились высыпания на губах, простуда пошла    на убы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95280" y="1336680"/>
            <a:ext cx="417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пространенная точка зрения, однако, не имеющая ничего общего с действительностью. На самом деле высыпания означают, что перенесенная респираторная инфекция ослабила иммунитет, и это дало вирусу герпеса возможность активно действо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129058430420437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1916280"/>
            <a:ext cx="421164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532800" y="605520"/>
            <a:ext cx="77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блуждение 4. Если высыпания прошли – герпес вылеч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468360" y="1336680"/>
            <a:ext cx="5492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было бы очень здорово, но, к сожалению, удалить вирус из организма невозможно. Он остается с человеком на всю жизнь, и можно лишь заставить его пребывать в «спящем» состоянии, никак себя не проявляя. Поэтому вирус герпеса есть у 95% людей, причем большинство приобретает его в возрасте 3-4 лет, но ощущают его «работу» лишь около 20%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i-main-pic" descr="Картинка 4 из 66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60960" y="3068640"/>
            <a:ext cx="29275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468360" y="475200"/>
            <a:ext cx="753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блуждение 5. Заразиться герпесом можно только при наличии высып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24000" y="1769400"/>
            <a:ext cx="4895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йствительно, в активной фазе болезни выделяется большее количество вирусных частиц и вероятность заражения выше. Но передача инфекции может произойти в любой момент через невидимые микротравмы кожи и слизистых оболо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Опоясывающий герпес, фото"/>
          <p:cNvPicPr/>
          <p:nvPr/>
        </p:nvPicPr>
        <p:blipFill>
          <a:blip r:embed="rId1"/>
          <a:stretch/>
        </p:blipFill>
        <p:spPr>
          <a:xfrm>
            <a:off x="5580000" y="184464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09:18:23Z</dcterms:created>
  <dc:creator>костя</dc:creator>
  <dc:description/>
  <dc:language>en-US</dc:language>
  <cp:lastModifiedBy>Наталья</cp:lastModifiedBy>
  <dcterms:modified xsi:type="dcterms:W3CDTF">2012-02-29T15:06:45Z</dcterms:modified>
  <cp:revision>11</cp:revision>
  <dc:subject/>
  <dc:title>Слайд 1</dc:title>
</cp:coreProperties>
</file>