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572-D454-41C4-BE43-16B362BD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EDF-FAB8-470F-9A68-8D03DBB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F27-0BA0-4626-8C98-1CE807E7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A75-685B-487F-AFDC-2629D63F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98B3-CDCD-4744-ABEF-34C6BF3D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794D-AA41-4011-B909-22EF3BCB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3DC8-D7BF-4630-943B-CEA2F1D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77FB-77CF-44C8-ACCC-0304CF4B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ACEF-37EF-45A9-BCB9-8537426E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5D5-5536-411B-8C3C-D97119C2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5ADF-7775-49C9-BC9B-D5E950F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531-E5D8-4599-87EB-1B675FF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CCD6-A789-44C3-8FE0-37B683F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BCDA-D4BB-42DC-BA0A-C43C294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B6D-6A57-43D5-B085-7A4BBCBA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2168-8C48-4CDF-90A4-24771B1D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D96-992D-44E7-A559-C6A3BA79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25B-6D57-4E70-90E3-D6F63FB5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0B9-266A-41F4-B7CF-A751D17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1AA-7AC1-49D3-B1D2-B09A651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1A0-6CAE-4517-891B-788A9D2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014-8B87-4658-B4C9-4125782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3FC-174F-49B7-B793-57BCD23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940-88F7-4751-9D2A-9D9F403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248A-EC02-4EBA-9294-A19B5ACBDD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5167800" y="108000"/>
            <a:ext cx="2243520" cy="2649960"/>
            <a:chOff x="5167800" y="108000"/>
            <a:chExt cx="2243520" cy="2649960"/>
          </a:xfrm>
        </p:grpSpPr>
        <p:grpSp>
          <p:nvGrpSpPr>
            <p:cNvPr id="39" name=""/>
            <p:cNvGrpSpPr/>
            <p:nvPr/>
          </p:nvGrpSpPr>
          <p:grpSpPr>
            <a:xfrm>
              <a:off x="5167800" y="108000"/>
              <a:ext cx="2243520" cy="2649960"/>
              <a:chOff x="5167800" y="108000"/>
              <a:chExt cx="2243520" cy="26499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5167800" y="108000"/>
                <a:ext cx="2243520" cy="2395440"/>
                <a:chOff x="5167800" y="108000"/>
                <a:chExt cx="2243520" cy="2395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5842440" y="207360"/>
                  <a:ext cx="32364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5886720" y="903240"/>
                  <a:ext cx="569160" cy="5212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5551560" y="798480"/>
                  <a:ext cx="1068120" cy="10692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5487840" y="581040"/>
                  <a:ext cx="160344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6229440" y="1952640"/>
                  <a:ext cx="35712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6171480" y="177048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5852520" y="511560"/>
                  <a:ext cx="38268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5809680" y="362880"/>
                  <a:ext cx="37836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8520" y="2014200"/>
            <a:ext cx="4800600" cy="303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B6F9-D574-4D42-8E77-3CBA04A3E8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93" name="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7" name="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5684400" y="5833440"/>
            <a:ext cx="1062720" cy="1393920"/>
            <a:chOff x="5684400" y="5833440"/>
            <a:chExt cx="1062720" cy="1393920"/>
          </a:xfrm>
        </p:grpSpPr>
        <p:sp>
          <p:nvSpPr>
            <p:cNvPr id="103" name="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5759640" y="6286680"/>
              <a:ext cx="88128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684400" y="5833440"/>
              <a:ext cx="1062720" cy="1393920"/>
              <a:chOff x="5684400" y="5833440"/>
              <a:chExt cx="1062720" cy="13939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5509440" y="6345000"/>
                <a:ext cx="1412280" cy="3704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5808240" y="6424200"/>
                <a:ext cx="999720" cy="209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6357240" y="6135840"/>
                <a:ext cx="132840" cy="1404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6026040" y="6396480"/>
                <a:ext cx="408600" cy="1234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520" y="2014200"/>
            <a:ext cx="4800600" cy="303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естоимения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62080" y="5401800"/>
            <a:ext cx="452448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9000" y="1332000"/>
            <a:ext cx="3384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0280" y="5940360"/>
            <a:ext cx="6400800" cy="2857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0640" y="6012000"/>
            <a:ext cx="49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560" y="207360"/>
            <a:ext cx="448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7280" y="1077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5920" y="1332000"/>
          <a:ext cx="6557760" cy="4005000"/>
        </p:xfrm>
        <a:graphic>
          <a:graphicData uri="http://schemas.openxmlformats.org/drawingml/2006/table">
            <a:tbl>
              <a:tblPr/>
              <a:tblGrid>
                <a:gridCol w="3462480"/>
                <a:gridCol w="974520"/>
                <a:gridCol w="1108080"/>
                <a:gridCol w="1012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85840" y="589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5840" y="5892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8480" y="589284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38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Г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38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ИМЕНИЯМИ П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38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ТД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38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НЕ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38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436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клонение местоимений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 лиц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9000" y="1835280"/>
          <a:ext cx="6408360" cy="6049440"/>
        </p:xfrm>
        <a:graphic>
          <a:graphicData uri="http://schemas.openxmlformats.org/drawingml/2006/table">
            <a:tbl>
              <a:tblPr/>
              <a:tblGrid>
                <a:gridCol w="2135880"/>
                <a:gridCol w="2136600"/>
                <a:gridCol w="21358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де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д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Д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бо м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 н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731664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клонение местоимений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2 лиц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60280" y="1908000"/>
          <a:ext cx="6597360" cy="5905440"/>
        </p:xfrm>
        <a:graphic>
          <a:graphicData uri="http://schemas.openxmlformats.org/drawingml/2006/table">
            <a:tbl>
              <a:tblPr/>
              <a:tblGrid>
                <a:gridCol w="2198880"/>
                <a:gridCol w="2199600"/>
                <a:gridCol w="219888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де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д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еб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Д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еб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о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 т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 в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68580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клонение местоимений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3 лиц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692360"/>
          <a:ext cx="6857640" cy="6335280"/>
        </p:xfrm>
        <a:graphic>
          <a:graphicData uri="http://schemas.openxmlformats.org/drawingml/2006/table">
            <a:tbl>
              <a:tblPr/>
              <a:tblGrid>
                <a:gridCol w="1505520"/>
                <a:gridCol w="1337400"/>
                <a:gridCol w="1338480"/>
                <a:gridCol w="1337400"/>
                <a:gridCol w="133884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де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Ср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Д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Т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Е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И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 н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 н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 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 н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5:30:04Z</dcterms:created>
  <dc:creator>User</dc:creator>
  <dc:description/>
  <dc:language>en-US</dc:language>
  <cp:lastModifiedBy>User</cp:lastModifiedBy>
  <dcterms:modified xsi:type="dcterms:W3CDTF">2008-11-16T15:57:24Z</dcterms:modified>
  <cp:revision>2</cp:revision>
  <dc:subject/>
  <dc:title>Слайд 1</dc:title>
</cp:coreProperties>
</file>