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EBE-A817-48AA-A37E-93AE5E75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5E-7FAE-405B-B4A2-3160320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712-5F24-4154-BCE6-3A70FF79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F8A-C71F-4A4A-8E9F-B764E792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635-B71B-4763-93B4-F68F5AB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305-919D-4BD4-9091-0854947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664-4DC4-4D48-9FFB-A886D319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B40-88AB-475A-B26B-79EA7960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B53-9A63-4739-9D7B-C2B79B1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0B4-B608-4968-AF95-7D61003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777-FF80-4AF6-AC36-8DB3F06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812-DAFE-4AC6-B126-05AB463A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6D0D-1527-4D32-9B97-328087ABF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МПЬЮТЕРНОЕ МОДЕЛ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g10"/>
          <p:cNvPicPr/>
          <p:nvPr/>
        </p:nvPicPr>
        <p:blipFill>
          <a:blip r:embed="rId1"/>
          <a:stretch/>
        </p:blipFill>
        <p:spPr>
          <a:xfrm>
            <a:off x="2556000" y="2521080"/>
            <a:ext cx="388908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Нижний колонтитул 3"/>
          <p:cNvSpPr/>
          <p:nvPr/>
        </p:nvSpPr>
        <p:spPr>
          <a:xfrm>
            <a:off x="1476360" y="6245280"/>
            <a:ext cx="655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kompa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2"/>
          <p:cNvSpPr/>
          <p:nvPr/>
        </p:nvSpPr>
        <p:spPr>
          <a:xfrm>
            <a:off x="1116000" y="6245280"/>
            <a:ext cx="720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952640" y="210960"/>
            <a:ext cx="52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Autodesk May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aya09_Flexshot_17277"/>
          <p:cNvPicPr/>
          <p:nvPr/>
        </p:nvPicPr>
        <p:blipFill>
          <a:blip r:embed="rId1"/>
          <a:stretch/>
        </p:blipFill>
        <p:spPr>
          <a:xfrm>
            <a:off x="324000" y="1320840"/>
            <a:ext cx="2863800" cy="4700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457440" y="1557360"/>
            <a:ext cx="5507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значени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спецэффектов в кино и на телевидении, разработка компьютерных игр, графический диза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румент работника телевидения, аниматора, программиста, дизай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4"/>
          <p:cNvSpPr/>
          <p:nvPr/>
        </p:nvSpPr>
        <p:spPr>
          <a:xfrm>
            <a:off x="1116000" y="6245280"/>
            <a:ext cx="691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1908000" y="0"/>
            <a:ext cx="521028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2"/>
          <p:cNvSpPr/>
          <p:nvPr/>
        </p:nvSpPr>
        <p:spPr>
          <a:xfrm>
            <a:off x="1116000" y="624528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6a00d8341bf7f753ef010536dd1335970b-800wi"/>
          <p:cNvPicPr/>
          <p:nvPr/>
        </p:nvPicPr>
        <p:blipFill>
          <a:blip r:embed="rId1"/>
          <a:stretch/>
        </p:blipFill>
        <p:spPr>
          <a:xfrm>
            <a:off x="-108000" y="736560"/>
            <a:ext cx="950436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2"/>
          <p:cNvSpPr/>
          <p:nvPr/>
        </p:nvSpPr>
        <p:spPr>
          <a:xfrm>
            <a:off x="1476360" y="6245280"/>
            <a:ext cx="655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ya2009"/>
          <p:cNvPicPr/>
          <p:nvPr/>
        </p:nvPicPr>
        <p:blipFill>
          <a:blip r:embed="rId1"/>
          <a:stretch/>
        </p:blipFill>
        <p:spPr>
          <a:xfrm>
            <a:off x="-36360" y="404640"/>
            <a:ext cx="9467640" cy="59216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2"/>
          <p:cNvSpPr/>
          <p:nvPr/>
        </p:nvSpPr>
        <p:spPr>
          <a:xfrm>
            <a:off x="900000" y="6245280"/>
            <a:ext cx="7417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67280" y="692280"/>
            <a:ext cx="48448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значени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визуализация дизайн- интерьеров и архитектурных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Подготовка рекламных и научно-популярных проектов для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Компьютерная графика и спецэффекты (в том числе и в кинематограф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Компьютерн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Компьютер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румент работника телевидения, аниматора, программиста, дизайнера, архите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06560" y="-100080"/>
            <a:ext cx="44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DMax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33a9da61ee1"/>
          <p:cNvPicPr/>
          <p:nvPr/>
        </p:nvPicPr>
        <p:blipFill>
          <a:blip r:embed="rId1"/>
          <a:stretch/>
        </p:blipFill>
        <p:spPr>
          <a:xfrm>
            <a:off x="179280" y="1628640"/>
            <a:ext cx="3743280" cy="34624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4"/>
          <p:cNvSpPr/>
          <p:nvPr/>
        </p:nvSpPr>
        <p:spPr>
          <a:xfrm>
            <a:off x="0" y="6245280"/>
            <a:ext cx="421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hair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2"/>
          <p:cNvSpPr/>
          <p:nvPr/>
        </p:nvSpPr>
        <p:spPr>
          <a:xfrm>
            <a:off x="755640" y="6245280"/>
            <a:ext cx="7777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ba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2"/>
          <p:cNvSpPr/>
          <p:nvPr/>
        </p:nvSpPr>
        <p:spPr>
          <a:xfrm>
            <a:off x="1042920" y="6245280"/>
            <a:ext cx="741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8CCDE6D56D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2"/>
          <p:cNvSpPr/>
          <p:nvPr/>
        </p:nvSpPr>
        <p:spPr>
          <a:xfrm>
            <a:off x="826920" y="6245280"/>
            <a:ext cx="7417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_1_16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2"/>
          <p:cNvSpPr/>
          <p:nvPr/>
        </p:nvSpPr>
        <p:spPr>
          <a:xfrm>
            <a:off x="1116000" y="6245280"/>
            <a:ext cx="73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4360" y="44593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Компьютерная мод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модель, реализованная средствами программной сре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60" y="115920"/>
            <a:ext cx="867564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Компьютерное модел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то процесс создания модели изучаемого объекта с помощью прикладного программного обесп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356000" y="2492280"/>
            <a:ext cx="0" cy="1728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g12"/>
          <p:cNvPicPr/>
          <p:nvPr/>
        </p:nvPicPr>
        <p:blipFill>
          <a:blip r:embed="rId1"/>
          <a:stretch/>
        </p:blipFill>
        <p:spPr>
          <a:xfrm>
            <a:off x="1979640" y="2349360"/>
            <a:ext cx="1252440" cy="215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g12"/>
          <p:cNvPicPr/>
          <p:nvPr/>
        </p:nvPicPr>
        <p:blipFill>
          <a:blip r:embed="rId2"/>
          <a:stretch/>
        </p:blipFill>
        <p:spPr>
          <a:xfrm flipH="1">
            <a:off x="5651280" y="2421000"/>
            <a:ext cx="1368360" cy="215892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6"/>
          <p:cNvSpPr/>
          <p:nvPr/>
        </p:nvSpPr>
        <p:spPr>
          <a:xfrm>
            <a:off x="1332000" y="624528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2050920" y="473760"/>
            <a:ext cx="540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  <a:ea typeface="Times New Roman"/>
              </a:rPr>
              <a:t>Компас – 3</a:t>
            </a:r>
            <a:r>
              <a:rPr b="1" lang="en-US" sz="6600" spc="-1" strike="noStrike">
                <a:solidFill>
                  <a:srgbClr val="cc0000"/>
                </a:solidFill>
                <a:latin typeface="Arial"/>
                <a:ea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551960" y="2342880"/>
            <a:ext cx="633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  <a:ea typeface="Times New Roman"/>
              </a:rPr>
              <a:t>Autodesk May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035160" y="3714480"/>
            <a:ext cx="3121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3DMax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258920" y="213372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971640" y="624528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ompas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du.ascon.ru/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utodesk.ru/adsk/servlet/pc/index?siteID=871736&amp;id=146267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sg.spb.ru/software?developer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3dma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wishsite.ru/3dsmax-9-2009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1"/>
          <p:cNvSpPr/>
          <p:nvPr/>
        </p:nvSpPr>
        <p:spPr>
          <a:xfrm>
            <a:off x="61128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11640" y="1341360"/>
            <a:ext cx="475308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значени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чертежей для проектов различных механизмов (чертежи самолетов полной сборки, начиная с простейших болтов и гаек), а также разработки электрических схем-мак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румент архитектора и проектировщ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0920" y="44280"/>
            <a:ext cx="46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Auto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3387"/>
          <p:cNvPicPr/>
          <p:nvPr/>
        </p:nvPicPr>
        <p:blipFill>
          <a:blip r:embed="rId1"/>
          <a:stretch/>
        </p:blipFill>
        <p:spPr>
          <a:xfrm>
            <a:off x="324000" y="954000"/>
            <a:ext cx="360972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1476360" y="6245280"/>
            <a:ext cx="655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adbe5ad0e02d227acd58d19a29_prev"/>
          <p:cNvPicPr/>
          <p:nvPr/>
        </p:nvPicPr>
        <p:blipFill>
          <a:blip r:embed="rId1"/>
          <a:stretch/>
        </p:blipFill>
        <p:spPr>
          <a:xfrm>
            <a:off x="468360" y="90360"/>
            <a:ext cx="8351640" cy="679464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2"/>
          <p:cNvSpPr/>
          <p:nvPr/>
        </p:nvSpPr>
        <p:spPr>
          <a:xfrm>
            <a:off x="1116000" y="6245280"/>
            <a:ext cx="727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02f29a4d036432d3b2ba2c1afdc946f"/>
          <p:cNvPicPr/>
          <p:nvPr/>
        </p:nvPicPr>
        <p:blipFill>
          <a:blip r:embed="rId1"/>
          <a:stretch/>
        </p:blipFill>
        <p:spPr>
          <a:xfrm>
            <a:off x="144360" y="115920"/>
            <a:ext cx="8964720" cy="664200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2"/>
          <p:cNvSpPr/>
          <p:nvPr/>
        </p:nvSpPr>
        <p:spPr>
          <a:xfrm>
            <a:off x="1403280" y="6093000"/>
            <a:ext cx="7056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2"/>
          <p:cNvSpPr/>
          <p:nvPr/>
        </p:nvSpPr>
        <p:spPr>
          <a:xfrm>
            <a:off x="1042920" y="6245280"/>
            <a:ext cx="655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18900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050920" y="44280"/>
            <a:ext cx="46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мпас – 3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140360" y="1557360"/>
            <a:ext cx="5003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значени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ирование изделий с целью существенного сокращения периода проектирования и скорейшего их запуска в 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румент инженера, конструктора и проектировщ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837764276"/>
          <p:cNvPicPr/>
          <p:nvPr/>
        </p:nvPicPr>
        <p:blipFill>
          <a:blip r:embed="rId1"/>
          <a:stretch/>
        </p:blipFill>
        <p:spPr>
          <a:xfrm>
            <a:off x="250920" y="1525680"/>
            <a:ext cx="3816360" cy="3919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5"/>
          <p:cNvSpPr/>
          <p:nvPr/>
        </p:nvSpPr>
        <p:spPr>
          <a:xfrm>
            <a:off x="1476360" y="6245280"/>
            <a:ext cx="676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47321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2"/>
          <p:cNvSpPr/>
          <p:nvPr/>
        </p:nvSpPr>
        <p:spPr>
          <a:xfrm>
            <a:off x="1116000" y="6245280"/>
            <a:ext cx="720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Associated_draft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2"/>
          <p:cNvSpPr/>
          <p:nvPr/>
        </p:nvSpPr>
        <p:spPr>
          <a:xfrm>
            <a:off x="147636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умкина Н.С. "Компьютерное моделирование офисных помещений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6:14Z</dcterms:created>
  <dc:creator>Шумкины</dc:creator>
  <dc:description/>
  <dc:language>en-US</dc:language>
  <cp:lastModifiedBy>Ольга</cp:lastModifiedBy>
  <dcterms:modified xsi:type="dcterms:W3CDTF">2011-11-26T16:13:47Z</dcterms:modified>
  <cp:revision>9</cp:revision>
  <dc:subject/>
  <dc:title>Слайд 1</dc:title>
</cp:coreProperties>
</file>