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3F2-58E3-40E0-8E15-C06FC8D4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AA0-8858-4737-9718-228AE02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FAE5A-DC21-4AEA-8D03-4C36FE7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731E-B511-4AB0-BDFF-727A6CC3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C8AD0-0947-4015-9C6F-545F1FA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7897C-88FC-4D2F-B3CF-4F322E5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9173F-78CE-4E83-8FC8-F21FA89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88CE-B975-4FA0-AFDE-AFB7491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15318-3C87-4EBA-AE71-17AAEB0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1C98F-3103-4032-B48E-AC48A60D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C94E-1FD9-40EB-82FB-808CF16E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E3A5BA-E44C-4447-9974-EE449501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4C5-9776-42FB-931E-0AD41CB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7C91ED-1DBA-4B73-AB66-7ED004D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4C938-CB64-4587-A830-23B8EE70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70813-4526-4E1D-A1B3-1075FC7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EA05A-51B0-4B21-AD88-78C43D8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9736E-3BB9-4E17-8B01-699251D0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0EEC86-9666-41F0-9C78-BF7CDDD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80569E-9FE6-42E8-A19E-DB12813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F6EE40-E122-42BE-9222-A1D7977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BDBE2D-9B80-401D-87C0-52B66ED5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9593AB-FD5E-4786-840B-4C0A4D75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AD6-D732-4717-A907-7FF244DD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30968-2F4D-4652-B8C2-AEC1DDF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1A74C-A283-445E-A649-5D5E5E85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A1045-BDEF-4DEE-9F73-4970A72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55B6E-171B-4428-9672-C95F46B7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F08F0-7B2F-4324-833D-FE5E2E34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45E2-FEC5-4992-9A77-0CD8BCB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F356F-1F14-47AC-9632-C915E2F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067EF-54E5-426C-B70A-C39B0AE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FCBA-7287-46B7-9180-E19ADA5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5450-E349-4E1D-8283-19D895EC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B40E-347B-482C-BB31-2E795153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C3FB-6CAA-466F-9AC9-582A015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02D1F-60FF-412B-84CA-7101EF05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73788-682B-4B0F-86BD-9C8B3506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A6BA7-C9D6-4A2A-8373-5DCBD495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A1B7A-76E6-4E23-8A24-9C3E610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2E5E6-A0C8-4C53-A786-EC80F30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BC767-6C1A-4438-8343-8077B350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2E72D-2C4A-4CBC-B9AA-1685FDB8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0AC93-E793-4F6E-BE32-978708D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58073-DC26-4022-A935-93B1D8A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A474-3BFC-43EF-A06F-2900EBB7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C8F43-AEBD-42B1-AB5E-FF597B70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95629-C7DB-4A08-8F13-F66D924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A9CB9-F2BA-4340-A296-DA7201C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C8B4C-3E5A-403F-B405-20C6202D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1B2CC-38CF-472D-9986-15E43C21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470BD-B536-4C09-8C16-03F7FAB6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54FB5-6D5F-4ECC-949E-3AD5509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38C07-1D36-4E51-9646-A8C4AD4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7AC69-A373-4397-9A1D-5CD2D25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E23ED-3431-4B29-BE28-3FEC3ED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82D-5892-4BF5-9814-2F4E133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27725-0249-4953-802A-7E45025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2C0D2-F3FA-4843-8987-94F75E2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851ED-3A0A-4111-8F87-4042B0B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01C7D-D109-45B4-8C7C-DB04BCA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F2851-0B93-4C7C-9601-29F2867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CB7A3-5C0D-49A1-AB95-E9CFA0D2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2CCB5-9982-40B8-9F33-15A73361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B2912-4727-4DFD-9E61-69122F5A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54B68-C359-409D-912D-FCC1696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72D2F-458F-4B6F-902C-3B4B95C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0C2-EE37-424D-97E0-4DCC338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1709E-BB6C-4247-BE1A-5EA8C35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F6E9F-388F-45E2-AA5C-0DB999C8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F2183-0C67-48CD-8497-906EEA6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012CB-3BD7-4B94-908E-4776016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93950-441B-41E6-B1E6-98A88C4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58497-886D-4FE9-AC54-B0DDA17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4A1FE-BFFF-41C1-8124-4294A8B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63D17-129F-4F61-9EC3-90146E8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3A9A0-140E-402E-B7C7-8675291B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45B42-AC64-41D2-9431-6F5747C2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4EBA-C921-4A48-B90A-818FA06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6D2FC-41F3-440D-A8D5-01317FE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4635A-4FA0-41C9-BDD6-4097A9B0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8BCC6-84CD-4ABD-8D88-6477DFA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39539-5126-4DE6-B20A-7DE7AC32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39C26-9570-4F7B-AC76-C8957D00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B04F8-4203-440C-A352-5BB4E687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5A90B-AA18-46B0-9EAA-50AD83D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93351-A247-4F8F-A990-86938CF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704A2-3B84-40D3-B49C-F48AD85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F4599-CA18-435A-A9F1-86818CA4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9D2-21F5-491B-890C-85E254D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C3379-EBA7-4BC3-A1A0-A146F076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200A4-2878-4B11-ABDE-ACDDA538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9649A-5EAE-4FBE-80E5-AC13126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0F3AD-BC83-49B5-8D46-292C064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0A159-111C-40A5-A4F0-3EC7AD6A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D8D6A-57C8-49E4-9850-2F616A3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ABEB3-5A68-4E18-A5EB-5DA9001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F3422-4F60-4557-A001-E6D75097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910C7-33FC-46B4-A050-374C5E9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041EC-DADC-422C-806F-9B70DA7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9F2-E6B7-49E9-8D9A-082C83F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6B65C-C05F-41DC-BA4A-DD6BDEC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C279B-EC11-48B1-8D8B-C283E618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5CC67-FE8E-490F-B23D-68D1328F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CA5-2220-4780-9BEF-6ACEC75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53B-1DBA-40EB-B9B7-71E4AC2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910-95AE-4F70-80B8-092B45B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44F-A796-42DE-8B31-121405F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5CE-FE91-4311-96EA-5BBFFA3A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B37-DEED-4C2C-9671-435C6B16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F3D4-4B7B-4DB7-B81D-B49E10EC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4C0C-3C8B-4ADF-BA2C-E9EF89E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B465-2087-4301-AB0E-B24DF64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02C3-8714-4DA7-A598-13A7598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2A17-1828-4D39-8E17-4CC9B409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4BA-4E5B-4A85-9591-00EEB22A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4F42-CD99-466A-B2E5-C09FE11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695E-8883-448B-A453-DE90D2E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1F4E-9723-43EA-A58A-B20AF0C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39D2-9BB1-4589-9CFB-9A6AE57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CC23-F450-4A24-B71B-1DA7AA0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EFD8-A5F4-4E0F-B92C-74DB9273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CC38-928B-4AF8-9B0D-087775C5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2D72-C1E6-41CA-83F8-4E5DE4B8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CFE9-02ED-4B62-BA0B-F9F678FC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15B9-9042-427F-B185-8B0FB64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660-AF96-4B0C-AE60-3DCCE81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4B64-D15F-4F2B-A596-C15EEC50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23A1-3E7B-408A-9829-69B1B1E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04EC-C11F-417F-8130-5B2D801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DF4F-57BF-43A3-A92F-D63385A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0195-1648-4F04-A2B5-BCA1D58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6A58-09FF-4F1C-87B5-9BCB573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AE93-BAF6-4AA0-A530-8DE44BC6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9152-F29F-45F7-828F-D0383E50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A04D-8959-4C23-9442-38143637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805E-9CD1-4262-A586-5B451751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88C-B095-4BBF-AC4D-EF00D70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300C-43E5-45E9-879C-56A75880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2E24-AF4E-4B6F-9C8E-0B439C1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34A3-33A9-41F2-A860-81508D92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F9A7D-67E8-41FE-81A3-F3A5A51E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B3A3-711C-4AAF-A284-D7D20F2F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5FADF-7F83-4661-84BA-93424D2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B5464-8786-4AD6-850B-E09EB34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A17D-E5D5-4C40-980E-6549B3E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0FA5-4E30-4F05-A3AB-6B75434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6458-E6CF-4A13-BEB3-9D48CF70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DE3-AC81-47D1-9882-2A2D23F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74D64-7577-428A-B4C0-BB1CA789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BDEB-F935-427D-B648-06F14B4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89D1-60EA-479F-A3E8-A1D6B78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6BF5F-34A3-4B86-96F9-A45135B1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5396-9558-4DD8-9D46-3D7A56E2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4EFD-15A4-4182-9D8E-EA81911E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12851-C6CA-4A76-99F2-97DAA58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8801-D412-45EA-803A-93326CA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D321-A0F1-4C44-B0FB-A8D62AA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2902-CBD9-4F92-88BC-6D8C6BD3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8FF-FFAB-43B7-AC57-339E4A5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F3EF-E043-4902-89A9-95A5BA5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4ACB-46DE-415A-8D65-9F33F9F6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188C-8CE4-4F12-AB7A-C9E64C53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88B2-0A36-4A2A-9C70-E4D30CBE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FF48-C43F-424C-8C19-7AA3C80F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ABAF8-B203-4346-B97E-75D11F1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474D-743A-436D-98FF-08AAE3B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60A6-D425-4C6F-A4DC-EE9B4AE9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9F0F-ECC3-4426-B70E-CB5327EE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518C-EEAF-4730-B383-2D7179D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7F0-317F-40E5-B409-1434CC8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6FD5-F58B-4CED-BF73-27039A74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2681-2CF6-4088-B97A-9ACE4BF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848B-A7C5-4C27-9174-94E9B72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AD35B-1FBF-4540-A2C7-A618F1C3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DC58-20A6-47A3-A68D-23DF637A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7FC18-9C45-4E45-B6FC-16B03F27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50E9-454B-4B55-BFC0-E8CCBF1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4DAC-2729-44CD-8536-00419845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00EA-982C-4B78-8DDE-43DCD66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3BFD4-9455-4A60-904D-617DFB8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413-E8CB-4D7F-A930-0E4AC38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23630-EF99-4839-B0BB-CF35639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223CB-6149-4732-BD32-D1246EF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050F5-01D3-4384-8E0B-D98927B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A49AD-8976-440E-AB63-D2026F92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CC228-31CD-471D-AE92-6D3C071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8BDB3-2C30-431B-91EF-F18DBE5B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B8A43-51FA-474D-900B-E9E538AA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881CE-FD23-49EB-A0D2-057DB63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CE5F7-2D39-4A99-BAB0-07A4A2D9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F18B-B74C-4CAE-86D9-3642E518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99EB-1807-45D4-B31C-3ABA98981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5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9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6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8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B07D-9949-47EF-89BA-9C5AC1046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BB1-2778-4319-80EC-B416639231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22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A8D-4251-4DF4-A1BF-7096CEA06D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4C6A-41B4-4C1A-AC57-947B9EC475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1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3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73A-9F54-4E02-BA1A-55E5116CB9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9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9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16C-66AA-4A1B-BF59-50BF6D9DE7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8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3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9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3A6-E263-48C6-BE53-19C997ED00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BD36-3920-4EF9-8C3F-8AE9D3488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4C1-6684-4182-A9EB-47A6FCE58E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88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A67-69AB-4C0B-B12B-B4024E6D2B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5B18-603F-48E9-A10C-DFFBB22AA5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6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0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257F-87BB-4D03-A48B-69FD9468335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6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6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7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3101-5BA0-4DE5-8639-1072771B71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EADE-A901-4C6A-A461-AC344426FB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58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6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6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5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8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8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9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BA3-D43E-4D69-8313-8DFD86433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WordArt 4"/>
          <p:cNvSpPr txBox="1"/>
          <p:nvPr/>
        </p:nvSpPr>
        <p:spPr>
          <a:xfrm>
            <a:off x="611280" y="1125360"/>
            <a:ext cx="4567320" cy="360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ИНФОРМАЦИОНН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И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WordArt 5"/>
          <p:cNvSpPr txBox="1"/>
          <p:nvPr/>
        </p:nvSpPr>
        <p:spPr>
          <a:xfrm>
            <a:off x="6095880" y="4724280"/>
            <a:ext cx="3048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готовила учтиельница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и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WordArt 7"/>
          <p:cNvSpPr txBox="1"/>
          <p:nvPr/>
        </p:nvSpPr>
        <p:spPr>
          <a:xfrm>
            <a:off x="5508720" y="5950080"/>
            <a:ext cx="30477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ШКИНА ИРАИДА ЮРЬЕВНА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 – э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версальное программно управляемое устройство для обработки, хранения и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сставьте команды алгоритма «Посадка дерева» в нужной последова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Засыпь ям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Поставь лейку на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Выкопай ям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Поставь лопату на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Возьми лейку и полей саженец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Возьми лопату и саженец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7e5"/>
                </a:solidFill>
                <a:latin typeface="Arial"/>
              </a:rPr>
              <a:t>Посади саженец в ям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9" name="WordArt 4"/>
          <p:cNvSpPr txBox="1"/>
          <p:nvPr/>
        </p:nvSpPr>
        <p:spPr>
          <a:xfrm rot="5400000">
            <a:off x="5584320" y="3208320"/>
            <a:ext cx="5112000" cy="657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ЭТА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Возьми лопату и саженец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Выкопай ям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Посади саженец в ям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Засыпь ям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Поставь лопату на мест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Возьми лейку и полей саженец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e107"/>
                </a:solidFill>
                <a:latin typeface="Arial"/>
              </a:rPr>
              <a:t>Поставь лейку на мест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1" name="WordArt 4"/>
          <p:cNvSpPr txBox="1"/>
          <p:nvPr/>
        </p:nvSpPr>
        <p:spPr>
          <a:xfrm>
            <a:off x="1908000" y="260280"/>
            <a:ext cx="47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й отв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Замените слова цифр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 простого сторо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епросторный д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Часто в нем стонож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родит под стол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орожит стонож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Чистотою 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 столичной вакс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Чистит сто сап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WordArt 6"/>
          <p:cNvSpPr txBox="1"/>
          <p:nvPr/>
        </p:nvSpPr>
        <p:spPr>
          <a:xfrm>
            <a:off x="5651640" y="4076640"/>
            <a:ext cx="30574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 Э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l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21449"/>
                </a:solidFill>
                <a:latin typeface="Comic Sans MS"/>
              </a:rPr>
              <a:t>Отв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У про100го 100рожа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Непро100рный  дом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Ча100 в нем 100нож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Бродит  под  100л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Дорожит  100нож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Чи100тою   но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И 100личной ваксо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Чистит 100 сапо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400" fill="hold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00" fill="hold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400" fill="hold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400" fill="hold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400" fill="hold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"/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400" fill="hold"/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 fill="hold"/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"/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400" fill="hold"/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400" fill="hold"/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Подведение итогов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WordArt 4"/>
          <p:cNvSpPr txBox="1"/>
          <p:nvPr/>
        </p:nvSpPr>
        <p:spPr>
          <a:xfrm>
            <a:off x="5364000" y="404640"/>
            <a:ext cx="316872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 эта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WordArt 5"/>
          <p:cNvSpPr txBox="1"/>
          <p:nvPr/>
        </p:nvSpPr>
        <p:spPr>
          <a:xfrm>
            <a:off x="900000" y="4076640"/>
            <a:ext cx="748836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Comic Sans MS"/>
              </a:rPr>
              <a:t>Анаграмм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1" name="Rectangle 5"/>
          <p:cNvSpPr/>
          <p:nvPr/>
        </p:nvSpPr>
        <p:spPr>
          <a:xfrm>
            <a:off x="373680" y="1735920"/>
            <a:ext cx="840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«Насекомы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cc00"/>
                </a:solidFill>
                <a:latin typeface="Arial"/>
              </a:rPr>
              <a:t>УКЖ    САО     ЩЕЛК       ПОЛ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cc00"/>
                </a:solidFill>
                <a:latin typeface="Arial"/>
              </a:rPr>
              <a:t>ЛОМЬ    УМАХ     ВОДО   ОХБ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cc00"/>
                </a:solidFill>
                <a:latin typeface="Arial"/>
              </a:rPr>
              <a:t>МАКРО     ПЕЛАЧ      КЧАОБА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cc00"/>
                </a:solidFill>
                <a:latin typeface="Arial"/>
              </a:rPr>
              <a:t>ВЕЙМУРА      РАКНАТА      ЧИКЗУН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cc00"/>
                </a:solidFill>
                <a:latin typeface="Arial"/>
              </a:rPr>
              <a:t>РЕКАСТ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Comic Sans MS"/>
              </a:rPr>
              <a:t>Правильные 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Verdana"/>
              </a:rPr>
              <a:t>«Насекомы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ЖУК    ОСА     КЛЕЩ       КЛО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МОЛЬ    МУХА     ОВОД   БЛОХ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КОМАР     ПЧЕЛА      БАБОЧ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МУРАВЕЙ      ТАРАКАН      КУЗНЕЧ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       </a:t>
            </a:r>
            <a:r>
              <a:rPr b="0" i="1" lang="ru-RU" sz="3200" spc="-1" strike="noStrike">
                <a:solidFill>
                  <a:srgbClr val="00cc00"/>
                </a:solidFill>
                <a:latin typeface="Verdana"/>
              </a:rPr>
              <a:t>СТРЕКО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4"/>
          <p:cNvSpPr txBox="1"/>
          <p:nvPr/>
        </p:nvSpPr>
        <p:spPr>
          <a:xfrm>
            <a:off x="1547640" y="404640"/>
            <a:ext cx="36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эта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5" name="WordArt 5"/>
          <p:cNvSpPr txBox="1"/>
          <p:nvPr/>
        </p:nvSpPr>
        <p:spPr>
          <a:xfrm>
            <a:off x="1332000" y="3789360"/>
            <a:ext cx="583236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Правильный путь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становите соответствие</a:t>
            </a:r>
            <a:br>
              <a:rPr sz="48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устические коло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ботка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вод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Line 7"/>
          <p:cNvSpPr/>
          <p:nvPr/>
        </p:nvSpPr>
        <p:spPr>
          <a:xfrm>
            <a:off x="2484360" y="1844640"/>
            <a:ext cx="180036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Line 8"/>
          <p:cNvSpPr/>
          <p:nvPr/>
        </p:nvSpPr>
        <p:spPr>
          <a:xfrm flipV="1">
            <a:off x="2771640" y="2204640"/>
            <a:ext cx="144000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9"/>
          <p:cNvSpPr/>
          <p:nvPr/>
        </p:nvSpPr>
        <p:spPr>
          <a:xfrm flipV="1">
            <a:off x="2050920" y="2205000"/>
            <a:ext cx="22338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10"/>
          <p:cNvSpPr/>
          <p:nvPr/>
        </p:nvSpPr>
        <p:spPr>
          <a:xfrm>
            <a:off x="2700360" y="3141720"/>
            <a:ext cx="20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11"/>
          <p:cNvSpPr/>
          <p:nvPr/>
        </p:nvSpPr>
        <p:spPr>
          <a:xfrm flipV="1">
            <a:off x="4067280" y="321264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12"/>
          <p:cNvSpPr/>
          <p:nvPr/>
        </p:nvSpPr>
        <p:spPr>
          <a:xfrm flipV="1">
            <a:off x="3132000" y="3284640"/>
            <a:ext cx="1871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13"/>
          <p:cNvSpPr/>
          <p:nvPr/>
        </p:nvSpPr>
        <p:spPr>
          <a:xfrm>
            <a:off x="2411280" y="4437000"/>
            <a:ext cx="237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14"/>
          <p:cNvSpPr/>
          <p:nvPr/>
        </p:nvSpPr>
        <p:spPr>
          <a:xfrm>
            <a:off x="4140360" y="4941720"/>
            <a:ext cx="8632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15"/>
          <p:cNvSpPr/>
          <p:nvPr/>
        </p:nvSpPr>
        <p:spPr>
          <a:xfrm flipV="1">
            <a:off x="2195640" y="2349000"/>
            <a:ext cx="252072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5"/>
          <p:cNvSpPr/>
          <p:nvPr/>
        </p:nvSpPr>
        <p:spPr>
          <a:xfrm>
            <a:off x="2268360" y="-171360"/>
            <a:ext cx="47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 каждом столбике справа найди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ходящее к словам левого столб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4" descr="http://nsc.1september.ru/2002/21/17.gif"/>
          <p:cNvPicPr/>
          <p:nvPr/>
        </p:nvPicPr>
        <p:blipFill>
          <a:blip r:embed="rId1"/>
          <a:stretch/>
        </p:blipFill>
        <p:spPr>
          <a:xfrm>
            <a:off x="2556000" y="765000"/>
            <a:ext cx="4498920" cy="5616720"/>
          </a:xfrm>
          <a:prstGeom prst="rect">
            <a:avLst/>
          </a:prstGeom>
          <a:ln w="0">
            <a:noFill/>
          </a:ln>
        </p:spPr>
      </p:pic>
      <p:sp>
        <p:nvSpPr>
          <p:cNvPr id="1070" name="WordArt 6"/>
          <p:cNvSpPr txBox="1"/>
          <p:nvPr/>
        </p:nvSpPr>
        <p:spPr>
          <a:xfrm rot="5400000">
            <a:off x="5757480" y="2890800"/>
            <a:ext cx="496872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ЭТА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58bf9"/>
                </a:solidFill>
                <a:latin typeface="Comic Sans MS"/>
              </a:rPr>
              <a:t>Правильные отве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КЕФ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КА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чите предлож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ьютер –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ый прибор с клавиатурой и экра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ройство для выполнения вычис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версальное программно управляемое устройство для обработки, хранения и передачи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ое устройство для создания текстовых и графических док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WordArt 4"/>
          <p:cNvSpPr txBox="1"/>
          <p:nvPr/>
        </p:nvSpPr>
        <p:spPr>
          <a:xfrm>
            <a:off x="2484360" y="2602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ЭТАП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0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6:38:32Z</dcterms:created>
  <dc:creator>LG</dc:creator>
  <dc:description/>
  <dc:language>en-US</dc:language>
  <cp:lastModifiedBy>ираида</cp:lastModifiedBy>
  <dcterms:modified xsi:type="dcterms:W3CDTF">2012-02-29T17:25:44Z</dcterms:modified>
  <cp:revision>23</cp:revision>
  <dc:subject/>
  <dc:title>Слайд 1</dc:title>
</cp:coreProperties>
</file>