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AA66-CEF1-45F2-902F-7C7CF71B8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655B-7A6A-4E94-9F71-CDF17B827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1075-CB0F-47D5-B2F8-B23555EC1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17F7-BD51-4DC6-9393-46DB9E36A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3564-07DD-4074-9496-1CE61E89F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3FA5-9C53-4F4B-BC8E-223D7FC67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2D15-6EB1-4C84-85D5-4BCE57BF2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9B0C-8050-4156-A2CA-1D56A792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65F7-6897-4165-8A97-6169F3515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3BF1-1D5F-49FA-A9A7-8B208C98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0682-C1CC-4AFA-9CAD-3D4AFE18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69D7-B772-4202-866C-95F1F9D2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9F2CC-44D0-4153-A02A-976BD2363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92360" y="620640"/>
            <a:ext cx="50004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овый год в кругу семьи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5003640" y="4581360"/>
            <a:ext cx="3961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боту выполн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еница 7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У Покровской шко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ишкина Натал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5280" y="3141720"/>
            <a:ext cx="304956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4360" y="476280"/>
            <a:ext cx="547200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держание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1557360"/>
            <a:ext cx="6193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то такое праздни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мейный празд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лесу родилась ело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арки – самодел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глашаем к сто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вогодний сто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924360" y="1341360"/>
            <a:ext cx="488628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95280" y="1413000"/>
            <a:ext cx="76327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нь торжества, установленного в честь какого-либо выдающего собы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йствительно- рядом со словом «праздник» в нашем сознании чаще стоит слово «радость». Радость ребенка, получившего долгожданную игрушку из рук живого Деда Мороза. Радость взрослого от встречи с давними друзьям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187280" y="620640"/>
            <a:ext cx="5761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Что такое праздник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443640" y="4724280"/>
            <a:ext cx="1789200" cy="1698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11280" y="4292640"/>
            <a:ext cx="23050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042920" y="476280"/>
            <a:ext cx="561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емейный праздник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9280" y="1628640"/>
            <a:ext cx="8569440" cy="28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и подготовке к празднику дела хватит вс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 подарках стоит позаботиться заранее. Пусть они будут скромными , совсем недорогими. Может быть, и даже скорее всего- самодельны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вот наступает вечер 31 декабря. Все готовы и все готово к празднику. Бабушка положит под елку собственноручно связанные носки и варежки – ведь все любят лыжные прогул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ама свои маленькие сувениры положит прямо на праздничный стол, под красиво сложенные салфет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мая сложная задача- у папы. С помощью «подручных средств» он должен превратиться в Деда Мороза, извлечь из укромного места мешок с подарками и раздать и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о это еще не все .Дегустация  новогодних лакомств, веселье конкурсы и игр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040520" y="4221000"/>
            <a:ext cx="1781280" cy="2637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900000" y="4941720"/>
            <a:ext cx="331164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826920" y="333360"/>
            <a:ext cx="63327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 В лесу родилась елочка..."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341360"/>
            <a:ext cx="82803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уществует множество способов сохранить жизнь елоч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ногие семьи уже давно обзавелись искусственными елками и не знают забот: собрал-разобрал, и все. Но как быть с неповторимым, праздничным запахом свежей хвои, ведь его-то ничем не замениш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ут на помощь придет лапник - еловые веточки. Из лапника можно сплести вен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4360" y="3429000"/>
            <a:ext cx="2125440" cy="2746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203640" y="3213000"/>
            <a:ext cx="393840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971640" y="333360"/>
            <a:ext cx="6048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дарки- самоделки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1268280"/>
            <a:ext cx="784836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коративные прихва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оскут плотной ткани(сукно, махровая ткань) сложить пополам, чтобы получится квадрат. Края отстрочить, вшив при этом петельку из тесьмы. На середину приметать аппликацию из хлопка, а затем пришить ее на машинке»зигзагом» или вручную обметочным швом, захватывая оба слоя тка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акие прихватки могут быть и фигурными, напоминающими, например, по форме яблока или ягоду клубн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 rot="1058400">
            <a:off x="6097680" y="4133520"/>
            <a:ext cx="2590560" cy="2016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11280" y="4149720"/>
            <a:ext cx="381636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95280" y="333360"/>
            <a:ext cx="705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иглашаем к столу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1268280"/>
            <a:ext cx="8569080" cy="39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ожно устроить традиционный праздничный стол. Понадобится белая скатер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сставим мелкие столовые тарелки, а на них- закусочные. Вилка кладется слева от тарелки, рожками вверх; нож- справа, отточенной стороной к тарелке. Если приборов несколько, они раскладываются в порядке подачи блюд: чем раньше подается блюдо, тем дальше от тарелки прибо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расиво сложенные салфетки кладут на закусочную тарелку, бокалы ставятся впереди закусочной тарел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Фрукты подаются в вазах. Виноград нужно разделить на мелкие кисточки, а апельсины можно нарезать кружочк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инеральную воду, лимонад в бутылках, соки и напитки в кувшинах размещают с двух сторо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следний штрих праздничной сервировки- зимние букеты в центре или по краям стола.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059280" y="5062680"/>
            <a:ext cx="338436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1116000" y="333360"/>
            <a:ext cx="5184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овогодний стол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1268280"/>
            <a:ext cx="8137440" cy="56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алат из куриного мя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уриное мясо отделить от Костей. Очищенные огурцы, картофель, мясо, яйца мелко нарезать. В майонез добавить сахар, перец, лимонный сок ,взбитые сливки, посолить. В соус в первую очередь положить огурцы, мясо, горошек, яйца и затем только картофель. Все слегка размешать, положить в салатницу, украсить горошком, яйцом и зеленью. В салат можно добавить немного отваренного корня сельдерея и грецких орех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00г. Отварного куриного мяса, 2 вареные картофелины, 2 консервированных огурца, 1 стакан  консервированного зеленого горошка, 3 круто сваренных яйц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соуса: 1 стакан майонеза, треть стакана сливок, 8 столовых ложек лимонного сока, 2 столовых ложки острого томатного соуса, соль, сахар, молотый перец, зелен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Жареный гусь с яблоками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жаркого желательно взять молодого гуся. Гуся обработать, натереть солью. Яблоки разрезать пополам, вянуть сердцевину, немного посыпать сахаром. Одной частью яблок начинить гуся и места разрезов заколоть палочками. Ножки, крылышки и шейку привязать шпагатом к тушке гуся. Положить на противень спиной вниз на лучинки и немного полить водой. Добавить зелень. Жарить в духовке и периодически поливать образовавшимся на противне соком. Вторую часть яблок печь вместе с гус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жареного гуся снять палочки и шпагат, вынуть из него яблоки. Сперва отрезать ножки и крылышки, затем разрезать бока и ребрышки и отделить переднюю часть от спинки. С грудки с двух сторон срезать филе. Косточки положить на блюбо, а наверх положить куски филе, ножки, крылышки, создавая» фигуры» гуся. Вокруг гуся положить испеченные яблоки.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79280" y="189000"/>
            <a:ext cx="878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260280"/>
            <a:ext cx="8353440" cy="34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Яблочный самбук со слив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Яблоки испечь в духовке, протереть через сито, добавить сахар, размешать. В остывшую массу добавить яичный белок и хорошо взбить. Положить в посуду для мороженого, подать со взбитыми сливк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0г яблок,0,5 стакана сахара,2 яйц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Томатный напит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оматный сок довести до кипения, посолить, добавить перец и мяту. Закрыть крышкой, охладить, процеди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рая стаканов или бокалов обмакнуть в яичный белок, а затем в мелко нарезанную зелень. Осторожно, чтобы не смыть украшенные края, налить напиток в стака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литр томатного сока, соль, молотый перец,1-2 столовые ложки сушеной мяты, зелень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050920" y="3933720"/>
            <a:ext cx="48261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5T10:18:51Z</dcterms:created>
  <dc:creator>User</dc:creator>
  <dc:description/>
  <dc:language>en-US</dc:language>
  <cp:lastModifiedBy>1</cp:lastModifiedBy>
  <dcterms:modified xsi:type="dcterms:W3CDTF">2009-03-11T19:09:23Z</dcterms:modified>
  <cp:revision>11</cp:revision>
  <dc:subject/>
  <dc:title>Слайд 1</dc:title>
</cp:coreProperties>
</file>