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11.wmf" ContentType="image/x-wmf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2E57A-948C-486A-85B7-A72E4469B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3AA4F-D4A2-43B7-96C4-9BC2CDFF4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D9AE0-99ED-4E9E-B8C3-438325413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8481E-3858-4660-857F-83660AA68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11EAA-7D81-4E42-97F9-766DFF588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9F1B0-1ABF-464D-BB7E-3218F2E52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589BD-62D1-48AF-83DC-1AD653BFA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88CE0-8A17-427A-9EFE-A75345F5D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57200-B98F-4DBB-8039-6B6E3FBEA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6C0CC-6C3F-4C10-BCAE-4311C8D42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A8D4A-FAF0-46BE-8D66-FC5FD9401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F5CDE-BCB3-41D0-BB98-7F0ABFE5E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9694"/>
            </a:gs>
            <a:gs pos="100000">
              <a:srgbClr val="d1c39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BC032-A250-4359-9EE1-9B178F8E247C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Проводилова О.В. "Компьютерное моделирование офисных помещений"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269FE-786B-438C-AC55-71014F96E05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H:\Мастер - класс 02.2010\Деловые игры - 9 класс\Фото-офис\ofis0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Box 4"/>
          <p:cNvSpPr/>
          <p:nvPr/>
        </p:nvSpPr>
        <p:spPr>
          <a:xfrm>
            <a:off x="3429000" y="500040"/>
            <a:ext cx="2214720" cy="825120"/>
          </a:xfrm>
          <a:prstGeom prst="rect">
            <a:avLst/>
          </a:prstGeom>
          <a:solidFill>
            <a:srgbClr val="fdeada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32523"/>
                </a:solidFill>
                <a:latin typeface="Calibri"/>
              </a:rPr>
              <a:t>Офи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Нижний колонтитул 3"/>
          <p:cNvSpPr/>
          <p:nvPr/>
        </p:nvSpPr>
        <p:spPr>
          <a:xfrm>
            <a:off x="1619280" y="6356520"/>
            <a:ext cx="5761080" cy="365040"/>
          </a:xfrm>
          <a:prstGeom prst="rect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оводилова О.В. "Компьютерное моделирование офисных помещений"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Источники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ts val="3835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ипы офисов 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ttp://repairestate.com/office.ph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ts val="3835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ипы организации офисов 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ttp://www.review.uz/ru/article/169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ts val="3835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ttp://www.office-media.ru/forum/3/44.htm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ts val="3835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тили в интерьере 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ttp://www.eremont.ru/enc/design/style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ts val="3835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Цветовая гамма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ttp://www.myvista.ru/color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ttp://interior095.narod.ru/color/color.htm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http://www.archicad.ru/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IKEA Home Planner- простая программа для дизайна интерьера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http://kitchen.rutxt.ru/node/322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ts val="383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Нижний колонтитул 3"/>
          <p:cNvSpPr/>
          <p:nvPr/>
        </p:nvSpPr>
        <p:spPr>
          <a:xfrm>
            <a:off x="1403280" y="6356520"/>
            <a:ext cx="6913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оводилова О.В. "Компьютерное моделирование офисных помещений"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85480" y="428760"/>
            <a:ext cx="4429080" cy="78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Типы планировки офиса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600080" y="272520"/>
            <a:ext cx="4543560" cy="61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000000"/>
                </a:solidFill>
                <a:uFillTx/>
                <a:latin typeface="Calibri"/>
              </a:rPr>
              <a:t>закрытый,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внешне это представляет разделенные между собой комнаты для выполнения определенных функций компании – бухгалтерия и т.д. Такой вариант ограничивает коллективное общение, что подходит далеко не для каждой фирмы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000000"/>
                </a:solidFill>
                <a:uFillTx/>
                <a:latin typeface="Calibri"/>
              </a:rPr>
              <a:t>открытый,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представляет собой достаточно большое пространство, не разделенное капитальными стенами, здесь существуют специальные зоны функционального значения.                Такой тип прекрасно подходит для совместной работы сотрудников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H:\Мастер - класс 02.2010\Деловые игры - 9 класс\Фото-офис\6.jpg"/>
          <p:cNvPicPr/>
          <p:nvPr/>
        </p:nvPicPr>
        <p:blipFill>
          <a:blip r:embed="rId1"/>
          <a:stretch/>
        </p:blipFill>
        <p:spPr>
          <a:xfrm>
            <a:off x="353880" y="1994040"/>
            <a:ext cx="4010040" cy="3016080"/>
          </a:xfrm>
          <a:prstGeom prst="rect">
            <a:avLst/>
          </a:prstGeom>
          <a:ln w="0">
            <a:noFill/>
          </a:ln>
        </p:spPr>
      </p:pic>
      <p:sp>
        <p:nvSpPr>
          <p:cNvPr id="47" name="Нижний колонтитул 4"/>
          <p:cNvSpPr/>
          <p:nvPr/>
        </p:nvSpPr>
        <p:spPr>
          <a:xfrm>
            <a:off x="1258920" y="6356520"/>
            <a:ext cx="6697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оводилова О.В. "Компьютерное моделирование офисных помещений"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98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Типы организации офисов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"Американский офис"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предполагает наличие нескольких огромных комнат и отдельных кабинетов с приемными для руководства. Комнаты, где размещаются менеджеры низшего и среднего звеньев, поделены на отдельные рабочие места тонкими перегородками, по высоте не доходящими до потолка - таким образом, получается, что у каждого работника как будто свой отдельный кабинет, где он сможет сосредоточиться на работе и не мешать другим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3" descr="H:\Мастер - класс 02.2010\Деловые игры - 9 класс\Фото-офис\511de15aa89c56da8be1e6b44c0431db.jpg"/>
          <p:cNvPicPr/>
          <p:nvPr/>
        </p:nvPicPr>
        <p:blipFill>
          <a:blip r:embed="rId1"/>
          <a:stretch/>
        </p:blipFill>
        <p:spPr>
          <a:xfrm>
            <a:off x="420840" y="2139840"/>
            <a:ext cx="4054320" cy="3194280"/>
          </a:xfrm>
          <a:prstGeom prst="rect">
            <a:avLst/>
          </a:prstGeom>
          <a:ln w="0">
            <a:noFill/>
          </a:ln>
        </p:spPr>
      </p:pic>
      <p:sp>
        <p:nvSpPr>
          <p:cNvPr id="51" name="Нижний колонтитул 4"/>
          <p:cNvSpPr/>
          <p:nvPr/>
        </p:nvSpPr>
        <p:spPr>
          <a:xfrm>
            <a:off x="1692360" y="6356520"/>
            <a:ext cx="6048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оводилова О.В. "Компьютерное моделирование офисных помещений"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Типы организации офисов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648320" y="1785960"/>
            <a:ext cx="4038480" cy="43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"Азиатский офис"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- отличается изысканным интерьером, в нем обязательно есть специальные комнаты для переговоров с круглым столом, который, по мнению психологов, облегчает общение. «Азиатский офис» строится на принципах          фэн - шуй – науки о наиболее целесообразной и благоприятной для человека организации помещения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3" descr="H:\Мастер - класс 02.2010\Деловые игры - 9 класс\Фото-офис\5.jpg"/>
          <p:cNvPicPr/>
          <p:nvPr/>
        </p:nvPicPr>
        <p:blipFill>
          <a:blip r:embed="rId1"/>
          <a:stretch/>
        </p:blipFill>
        <p:spPr>
          <a:xfrm>
            <a:off x="493560" y="2352600"/>
            <a:ext cx="4054680" cy="2755800"/>
          </a:xfrm>
          <a:prstGeom prst="rect">
            <a:avLst/>
          </a:prstGeom>
          <a:ln w="0">
            <a:noFill/>
          </a:ln>
        </p:spPr>
      </p:pic>
      <p:sp>
        <p:nvSpPr>
          <p:cNvPr id="55" name="Нижний колонтитул 4"/>
          <p:cNvSpPr/>
          <p:nvPr/>
        </p:nvSpPr>
        <p:spPr>
          <a:xfrm>
            <a:off x="1692360" y="6356520"/>
            <a:ext cx="58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оводилова О.В. "Компьютерное моделирование офисных помещений"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Типы организации офисов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786200" y="1600200"/>
            <a:ext cx="3857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"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оветский вариант"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          6-8 человек в одной маленькой комнате, расположенные в произвольном порядке, и руководитель в кабинете за огромным столом, к которому приставлен еще один таким образом, что вместе они образуют букву «Т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3" descr="H:\Мастер - класс 02.2010\Деловые игры - 9 класс\Фото-офис\core14130.jpg"/>
          <p:cNvPicPr/>
          <p:nvPr/>
        </p:nvPicPr>
        <p:blipFill>
          <a:blip r:embed="rId1"/>
          <a:stretch/>
        </p:blipFill>
        <p:spPr>
          <a:xfrm>
            <a:off x="420840" y="1279440"/>
            <a:ext cx="3365280" cy="24386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" descr="H:\Мастер - класс 02.2010\Деловые игры - 9 класс\Фото-офис\71fd4cb1727e.jpg"/>
          <p:cNvPicPr/>
          <p:nvPr/>
        </p:nvPicPr>
        <p:blipFill>
          <a:blip r:embed="rId2"/>
          <a:stretch/>
        </p:blipFill>
        <p:spPr>
          <a:xfrm>
            <a:off x="1352520" y="3780000"/>
            <a:ext cx="3627360" cy="2724120"/>
          </a:xfrm>
          <a:prstGeom prst="rect">
            <a:avLst/>
          </a:prstGeom>
          <a:ln w="0">
            <a:noFill/>
          </a:ln>
        </p:spPr>
      </p:pic>
      <p:sp>
        <p:nvSpPr>
          <p:cNvPr id="60" name="Нижний колонтитул 5"/>
          <p:cNvSpPr/>
          <p:nvPr/>
        </p:nvSpPr>
        <p:spPr>
          <a:xfrm>
            <a:off x="1476360" y="6356520"/>
            <a:ext cx="6551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оводилова О.В. "Компьютерное моделирование офисных помещений"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Зонирование офис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фис  традиционно делится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а три зоны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– конечно, если за дизайн его интерьера берутся специалисты: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рабочая, представительская и рекреационная.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                 И каждая зона офисного интерьера должна быть одновременна не похожа на другие и логически               с ними связан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3" descr="H:\Мастер - класс 02.2010\Деловые игры - 9 класс\Фото-офис\2.jpg"/>
          <p:cNvPicPr/>
          <p:nvPr/>
        </p:nvPicPr>
        <p:blipFill>
          <a:blip r:embed="rId1"/>
          <a:stretch/>
        </p:blipFill>
        <p:spPr>
          <a:xfrm>
            <a:off x="993600" y="3852720"/>
            <a:ext cx="3627720" cy="25117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" descr="H:\Мастер - класс 02.2010\Деловые игры - 9 класс\Фото-офис\office1.jpg"/>
          <p:cNvPicPr/>
          <p:nvPr/>
        </p:nvPicPr>
        <p:blipFill>
          <a:blip r:embed="rId2"/>
          <a:stretch/>
        </p:blipFill>
        <p:spPr>
          <a:xfrm>
            <a:off x="281160" y="1262160"/>
            <a:ext cx="3174840" cy="2388960"/>
          </a:xfrm>
          <a:prstGeom prst="rect">
            <a:avLst/>
          </a:prstGeom>
          <a:ln w="0">
            <a:noFill/>
          </a:ln>
        </p:spPr>
      </p:pic>
      <p:sp>
        <p:nvSpPr>
          <p:cNvPr id="65" name="Нижний колонтитул 5"/>
          <p:cNvSpPr/>
          <p:nvPr/>
        </p:nvSpPr>
        <p:spPr>
          <a:xfrm>
            <a:off x="1332000" y="6356520"/>
            <a:ext cx="6480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оводилова О.В. "Компьютерное моделирование офисных помещений"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Горизонтальный свиток 4"/>
          <p:cNvSpPr/>
          <p:nvPr/>
        </p:nvSpPr>
        <p:spPr>
          <a:xfrm>
            <a:off x="214200" y="357120"/>
            <a:ext cx="8643960" cy="650088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Стили в интерьер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755280" y="980640"/>
            <a:ext cx="800100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      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000000"/>
                </a:solidFill>
                <a:latin typeface="Verdana"/>
                <a:ea typeface="Times New Roman"/>
              </a:rPr>
              <a:t>Конструктивизм </a:t>
            </a:r>
            <a:r>
              <a:rPr b="1" lang="ru-RU" sz="1700" spc="-1" strike="noStrike">
                <a:solidFill>
                  <a:srgbClr val="000000"/>
                </a:solidFill>
                <a:latin typeface="Verdana"/>
                <a:ea typeface="Times New Roman"/>
              </a:rPr>
              <a:t>- </a:t>
            </a:r>
            <a:r>
              <a:rPr b="0" lang="ru-RU" sz="1700" spc="-1" strike="noStrike">
                <a:solidFill>
                  <a:srgbClr val="000000"/>
                </a:solidFill>
                <a:latin typeface="Verdana"/>
                <a:ea typeface="Times New Roman"/>
              </a:rPr>
              <a:t>функциональные решения,  компактные 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Verdana"/>
                <a:ea typeface="Times New Roman"/>
              </a:rPr>
              <a:t>объемы 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Verdana"/>
                <a:ea typeface="Times New Roman"/>
              </a:rPr>
              <a:t>с четко выявленным каркасом, техническая ясность форм, встроенные ниши, подсветки.   Мебель отличается 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Verdana"/>
                <a:ea typeface="Times New Roman"/>
              </a:rPr>
              <a:t>мобильностью и функциональностью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000000"/>
                </a:solidFill>
                <a:latin typeface="Verdana"/>
                <a:ea typeface="Times New Roman"/>
              </a:rPr>
              <a:t>        </a:t>
            </a:r>
            <a:r>
              <a:rPr b="1" i="1" lang="ru-RU" sz="1700" spc="-1" strike="noStrike">
                <a:solidFill>
                  <a:srgbClr val="000000"/>
                </a:solidFill>
                <a:latin typeface="Verdana"/>
                <a:ea typeface="Times New Roman"/>
              </a:rPr>
              <a:t>Минимализм</a:t>
            </a:r>
            <a:r>
              <a:rPr b="0" i="1" lang="ru-RU" sz="1700" spc="-1" strike="noStrike">
                <a:solidFill>
                  <a:srgbClr val="000000"/>
                </a:solidFill>
                <a:latin typeface="Verdana"/>
                <a:ea typeface="Times New Roman"/>
              </a:rPr>
              <a:t> - </a:t>
            </a:r>
            <a:r>
              <a:rPr b="0" lang="ru-RU" sz="1700" spc="-1" strike="noStrike">
                <a:solidFill>
                  <a:srgbClr val="000000"/>
                </a:solidFill>
                <a:latin typeface="Verdana"/>
                <a:ea typeface="Times New Roman"/>
              </a:rPr>
              <a:t>подчеркивание естественности фактур,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Verdana"/>
                <a:ea typeface="Times New Roman"/>
              </a:rPr>
              <a:t> работа большими плоскостями, графичность.                                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Verdana"/>
                <a:ea typeface="Times New Roman"/>
              </a:rPr>
              <a:t>Облик жилища определяют большие светлые                              объемы, не загроможденные мебелью.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000000"/>
                </a:solidFill>
                <a:latin typeface="Verdana"/>
                <a:ea typeface="Times New Roman"/>
              </a:rPr>
              <a:t>Техно - </a:t>
            </a:r>
            <a:r>
              <a:rPr b="0" lang="ru-RU" sz="1700" spc="-1" strike="noStrike">
                <a:solidFill>
                  <a:srgbClr val="000000"/>
                </a:solidFill>
                <a:latin typeface="Verdana"/>
                <a:ea typeface="Times New Roman"/>
              </a:rPr>
              <a:t>сочетает в себе все возможности современных 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  <a:ea typeface="Times New Roman"/>
              </a:rPr>
              <a:t>              </a:t>
            </a:r>
            <a:r>
              <a:rPr b="0" lang="ru-RU" sz="1700" spc="-1" strike="noStrike">
                <a:solidFill>
                  <a:srgbClr val="000000"/>
                </a:solidFill>
                <a:latin typeface="Verdana"/>
                <a:ea typeface="Times New Roman"/>
              </a:rPr>
              <a:t>технологий и особую атмосферу светопредставления,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  <a:ea typeface="Times New Roman"/>
              </a:rPr>
              <a:t>                  </a:t>
            </a:r>
            <a:r>
              <a:rPr b="0" lang="ru-RU" sz="1700" spc="-1" strike="noStrike">
                <a:solidFill>
                  <a:srgbClr val="000000"/>
                </a:solidFill>
                <a:latin typeface="Verdana"/>
                <a:ea typeface="Times New Roman"/>
              </a:rPr>
              <a:t> иногда даже в ущерб функциональности.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  <a:ea typeface="Times New Roman"/>
              </a:rPr>
              <a:t>                                                                           </a:t>
            </a:r>
            <a:r>
              <a:rPr b="0" lang="ru-RU" sz="1700" spc="-1" strike="noStrike">
                <a:solidFill>
                  <a:srgbClr val="000000"/>
                </a:solidFill>
                <a:latin typeface="Verdana"/>
                <a:ea typeface="Times New Roman"/>
              </a:rPr>
              <a:t> В отделке обязательно присутствует металл, стекло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000000"/>
                </a:solidFill>
                <a:latin typeface="Tahoma"/>
                <a:ea typeface="Times New Roman"/>
              </a:rPr>
              <a:t>Хай – тек - </a:t>
            </a:r>
            <a:r>
              <a:rPr b="0" lang="ru-RU" sz="1700" spc="-1" strike="noStrike">
                <a:solidFill>
                  <a:srgbClr val="000000"/>
                </a:solidFill>
                <a:latin typeface="Verdana"/>
                <a:ea typeface="Times New Roman"/>
              </a:rPr>
              <a:t>конструкционная открытость, включение 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  <a:ea typeface="Times New Roman"/>
              </a:rPr>
              <a:t>                      </a:t>
            </a:r>
            <a:r>
              <a:rPr b="0" lang="ru-RU" sz="1700" spc="-1" strike="noStrike">
                <a:solidFill>
                  <a:srgbClr val="000000"/>
                </a:solidFill>
                <a:latin typeface="Verdana"/>
                <a:ea typeface="Times New Roman"/>
              </a:rPr>
              <a:t>в визуальный ряд труб, арматуры, воздуховодов,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  <a:ea typeface="Times New Roman"/>
              </a:rPr>
              <a:t>                     </a:t>
            </a:r>
            <a:r>
              <a:rPr b="0" lang="ru-RU" sz="1700" spc="-1" strike="noStrike">
                <a:solidFill>
                  <a:srgbClr val="000000"/>
                </a:solidFill>
                <a:latin typeface="Verdana"/>
                <a:ea typeface="Times New Roman"/>
              </a:rPr>
              <a:t> сложное структурирование пространства, 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  <a:ea typeface="Times New Roman"/>
              </a:rPr>
              <a:t>                         </a:t>
            </a:r>
            <a:r>
              <a:rPr b="0" lang="ru-RU" sz="1700" spc="-1" strike="noStrike">
                <a:solidFill>
                  <a:srgbClr val="000000"/>
                </a:solidFill>
                <a:latin typeface="Verdana"/>
                <a:ea typeface="Times New Roman"/>
              </a:rPr>
              <a:t>излюбленные материалы: металл,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Verdana"/>
                <a:ea typeface="Times New Roman"/>
              </a:rPr>
              <a:t>стекло,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Verdana"/>
                <a:ea typeface="Times New Roman"/>
              </a:rPr>
              <a:t>бетон – 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  <a:ea typeface="Times New Roman"/>
              </a:rPr>
              <a:t>                             </a:t>
            </a:r>
            <a:r>
              <a:rPr b="0" lang="ru-RU" sz="1700" spc="-1" strike="noStrike">
                <a:solidFill>
                  <a:srgbClr val="000000"/>
                </a:solidFill>
                <a:latin typeface="Verdana"/>
                <a:ea typeface="Times New Roman"/>
              </a:rPr>
              <a:t>все это характерные черты стиля хай-тек.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Нижний колонтитул 5"/>
          <p:cNvSpPr/>
          <p:nvPr/>
        </p:nvSpPr>
        <p:spPr>
          <a:xfrm>
            <a:off x="1619280" y="6356520"/>
            <a:ext cx="619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оводилова О.В. "Компьютерное моделирование офисных помещений"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2920" y="274320"/>
            <a:ext cx="8858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Цветовая гамма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не должна Вас как-либо напрягать или нервировать,                             а, наоборот возвращать потраченную в течение дня гармонию. Выбор цветовой               гаммы начинается с решения, чего же Вы все-таки хотите от дизайна цвета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2" descr="H:\Мастер - класс 02.2010\Деловые игры - 9 класс\Цветовой круг\4.gif"/>
          <p:cNvPicPr/>
          <p:nvPr/>
        </p:nvPicPr>
        <p:blipFill>
          <a:blip r:embed="rId1"/>
          <a:stretch/>
        </p:blipFill>
        <p:spPr>
          <a:xfrm>
            <a:off x="142920" y="1500120"/>
            <a:ext cx="3809880" cy="2952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72" name=""/>
          <p:cNvSpPr txBox="1"/>
          <p:nvPr/>
        </p:nvSpPr>
        <p:spPr>
          <a:xfrm>
            <a:off x="4648320" y="1600200"/>
            <a:ext cx="4209840" cy="50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 все же именно теплая или холодная палитры способны преображать помещение.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ак, например, для того, чтобы расширить стены небольшой комнаты, желательно использовать не просто светлые, а светлые холодные тона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 наоборот, сделать слишком просторное и оттого пустое помещение более уютным помогут теплые оттенки.                    Они же добавят  в немного солнечного настроения, если в ней не хватает естественного освещения.  Тогда как обильно освещенную залу с большими окнами можно «нарядить» в холодные тона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4" descr="H:\Мастер - класс 02.2010\Деловые игры - 9 класс\Цветовой круг\1.jpg"/>
          <p:cNvPicPr/>
          <p:nvPr/>
        </p:nvPicPr>
        <p:blipFill>
          <a:blip r:embed="rId2"/>
          <a:stretch/>
        </p:blipFill>
        <p:spPr>
          <a:xfrm>
            <a:off x="2139840" y="3852720"/>
            <a:ext cx="2797200" cy="2797200"/>
          </a:xfrm>
          <a:prstGeom prst="rect">
            <a:avLst/>
          </a:prstGeom>
          <a:ln w="0">
            <a:noFill/>
          </a:ln>
        </p:spPr>
      </p:pic>
      <p:sp>
        <p:nvSpPr>
          <p:cNvPr id="74" name="Нижний колонтитул 5"/>
          <p:cNvSpPr/>
          <p:nvPr/>
        </p:nvSpPr>
        <p:spPr>
          <a:xfrm>
            <a:off x="1763640" y="6356520"/>
            <a:ext cx="6048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оводилова О.В. "Компьютерное моделирование офисных помещений"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Горизонтальный свиток 4"/>
          <p:cNvSpPr/>
          <p:nvPr/>
        </p:nvSpPr>
        <p:spPr>
          <a:xfrm>
            <a:off x="285840" y="142920"/>
            <a:ext cx="8572320" cy="671508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42920"/>
            <a:ext cx="91440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Деловая игра – дизайн-проект «Офис»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714240" y="1600200"/>
            <a:ext cx="8072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Задания деловой игры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азработать дизайнерский проект кабинета руководителя фирмы, используя программу 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IKEA Home 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лощадь помещения 50 – 60 кв.м., форма помещения произвольна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абинет условно разделён на три зоны: кабинетная,                                                      зона для совещания на 7 – 10 человек, зона для отдых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одумать форму  окна, их количество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Желательно продумать оформление окна, место для цветов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дготовить 3 – 4 вопроса конкурентам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пределить стоимость затрат на мебель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ремя на работу – 30 минут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Защита проекта 3 минуты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2" descr=""/>
          <p:cNvPicPr/>
          <p:nvPr/>
        </p:nvPicPr>
        <p:blipFill>
          <a:blip r:embed="rId1"/>
          <a:stretch/>
        </p:blipFill>
        <p:spPr>
          <a:xfrm>
            <a:off x="6429240" y="4714920"/>
            <a:ext cx="1835280" cy="1741320"/>
          </a:xfrm>
          <a:prstGeom prst="rect">
            <a:avLst/>
          </a:prstGeom>
          <a:ln w="0">
            <a:noFill/>
          </a:ln>
        </p:spPr>
      </p:pic>
      <p:sp>
        <p:nvSpPr>
          <p:cNvPr id="79" name="Нижний колонтитул 5"/>
          <p:cNvSpPr/>
          <p:nvPr/>
        </p:nvSpPr>
        <p:spPr>
          <a:xfrm>
            <a:off x="1547640" y="6356520"/>
            <a:ext cx="6264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оводилова О.В. "Компьютерное моделирование офисных помещений"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2T17:09:24Z</dcterms:created>
  <dc:creator>Ольга</dc:creator>
  <dc:description/>
  <dc:language>en-US</dc:language>
  <cp:lastModifiedBy>Ольга</cp:lastModifiedBy>
  <dcterms:modified xsi:type="dcterms:W3CDTF">2011-11-26T16:34:33Z</dcterms:modified>
  <cp:revision>43</cp:revision>
  <dc:subject/>
  <dc:title>Офис</dc:title>
</cp:coreProperties>
</file>