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ADF-F3C0-4CFD-8F1F-881D98B4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9E4-B2A4-413C-8345-018C60AE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C9D-2CD2-471E-A153-C1C429AC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790-6C1D-425B-B716-594BEF46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82F7-D9B4-4512-A5B4-95983296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B9B6-8A3B-4029-812D-FB9CE1CB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66A8-3C09-4C21-BCCF-29839A42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09FB-3338-440B-B013-84E58F86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6B50-0F72-4162-9004-6929F0BC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2FEB-2C87-492E-B0C1-5B9DE232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8DBA-26FE-49D8-BF30-B660E714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061-F7BF-4588-BF69-4CDEBC0B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5794-E899-4A52-9290-64337354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2961-821A-4259-AA3C-96235E9F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CD7D-4609-4E87-9172-769967E5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F43B-C08A-4529-B4AE-2D45FCA7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7391-BF57-4F1C-B464-C81C7E3B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F44-B504-4C83-BC26-59702AAD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BE2-820C-4BE5-B68D-1EF35E97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C33-2B45-4244-973B-BFF4922F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ADE-C419-437D-A280-316A24CC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72A-3256-4442-B57E-602960A0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A31-D7B0-49DF-9398-1ED3EED7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861-85DD-401E-834C-D60A51D5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A367-D9AC-4F43-8C0E-F8D5B286A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0726-4DC8-4182-9FC4-74FF036D9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b7"/>
                </a:solidFill>
                <a:latin typeface="Arial Black"/>
              </a:rPr>
              <a:t>Особенности лингвистического образования младших школьников в условиях двуязычия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5018040"/>
            <a:ext cx="67816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Ошибки в словоупотреблении, возникающие  под  влиянием  родного  язык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265480"/>
            <a:ext cx="800748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Несовпадение объема  значений  отдельных  слов в русском и татарском  язык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При работе с орфограммой «Безударная  гласная  в корне слова и  ее проверка» вызывает затруднение   нахождение проверочного  слова (однокоренного  слов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Работа со  словарями и таблиц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ff"/>
                </a:solidFill>
                <a:latin typeface="Arial Black"/>
              </a:rPr>
              <a:t>Орфографическая  заряд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одготовительно-ознакомительный  этап ( чтение слов  и      словосочетаний с  выделенными орфограммами по  признакам и их  объяснени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Тренировочный этап (запоминание трудных  орфограмм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Закрепительный этап (нахождение  ошибкоопасного  места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Контрольно-диагностический этап (самостоятельная проверка  своих  знаний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0/ 1 / 2 / 3 / 4 / 5 / 6 / 7 / 8 / 9 /10  -  количество ошиб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/ 9 / 8 / 7 / 6 / 5 / 4 / 3 / 2 / 1 / 0   - бал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о  системе Л.А.Ахременково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35080" y="820440"/>
            <a:ext cx="84578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Тема:  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«</a:t>
            </a:r>
            <a:r>
              <a:rPr b="1" i="1" lang="ru-RU" sz="3600" spc="-1" strike="noStrike">
                <a:solidFill>
                  <a:srgbClr val="ffff00"/>
                </a:solidFill>
                <a:latin typeface="Arial Black"/>
              </a:rPr>
              <a:t>Формирование  орфографической зоркости   у   детей - билингвов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2360160"/>
            <a:ext cx="8424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, КАК ХОРОШ РОДНОЙ ЯЗЫ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ЦА    И     МАТЕРИ    ЯЗЫ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Я В МИРЕ МНОЖЕСТВА ВЕЩ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РЕЗ ТЕБЯ НАВЕК ПОСТИГ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АБДУЛЛА ТУК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еты родителя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1280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общения с малышом выберите один язы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нимательно следите за своей речью, не вставляйте в неё «чужеродные» сло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здайте для малыша языковую сред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43640" y="4653000"/>
            <a:ext cx="190332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МОУ Уразовская средняя общеобразовательная школ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3384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75% - тата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0% - русск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0% - морд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5% - друг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216320" y="2349360"/>
          <a:ext cx="4388040" cy="37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6320" y="2349360"/>
                    <a:ext cx="4388040" cy="37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педагог</a:t>
            </a:r>
            <a:br>
              <a:rPr sz="44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95280" y="260280"/>
            <a:ext cx="3096720" cy="6047640"/>
            <a:chOff x="395280" y="260280"/>
            <a:chExt cx="3096720" cy="6047640"/>
          </a:xfrm>
        </p:grpSpPr>
        <p:cxnSp>
          <p:nvCxnSpPr>
            <p:cNvPr id="111" name="_s108558"/>
            <p:cNvCxnSpPr>
              <a:stCxn id="112" idx="3"/>
              <a:endCxn id="113" idx="2"/>
            </p:cNvCxnSpPr>
            <p:nvPr/>
          </p:nvCxnSpPr>
          <p:spPr>
            <a:xfrm flipV="1">
              <a:off x="2253240" y="1359000"/>
              <a:ext cx="310320" cy="439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8557"/>
            <p:cNvCxnSpPr>
              <a:stCxn id="115" idx="3"/>
              <a:endCxn id="113" idx="2"/>
            </p:cNvCxnSpPr>
            <p:nvPr/>
          </p:nvCxnSpPr>
          <p:spPr>
            <a:xfrm flipV="1">
              <a:off x="2253240" y="1359360"/>
              <a:ext cx="310320" cy="2749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8556"/>
            <p:cNvCxnSpPr>
              <a:stCxn id="117" idx="3"/>
              <a:endCxn id="113" idx="2"/>
            </p:cNvCxnSpPr>
            <p:nvPr/>
          </p:nvCxnSpPr>
          <p:spPr>
            <a:xfrm flipV="1">
              <a:off x="2253240" y="1359360"/>
              <a:ext cx="310320" cy="1100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108552"/>
            <p:cNvSpPr/>
            <p:nvPr/>
          </p:nvSpPr>
          <p:spPr>
            <a:xfrm>
              <a:off x="1634040" y="260280"/>
              <a:ext cx="1857960" cy="10994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усски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язы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08553"/>
            <p:cNvSpPr/>
            <p:nvPr/>
          </p:nvSpPr>
          <p:spPr>
            <a:xfrm>
              <a:off x="395280" y="1909440"/>
              <a:ext cx="1857960" cy="10994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авила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усского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литературного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изнош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8554"/>
            <p:cNvSpPr/>
            <p:nvPr/>
          </p:nvSpPr>
          <p:spPr>
            <a:xfrm>
              <a:off x="395280" y="3558960"/>
              <a:ext cx="1857960" cy="10994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Грамматически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ро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08555"/>
            <p:cNvSpPr/>
            <p:nvPr/>
          </p:nvSpPr>
          <p:spPr>
            <a:xfrm>
              <a:off x="395280" y="5208480"/>
              <a:ext cx="1857960" cy="10994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нтонационны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уклад сл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 предложе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867280" y="260280"/>
            <a:ext cx="2881080" cy="6192000"/>
            <a:chOff x="5867280" y="260280"/>
            <a:chExt cx="2881080" cy="6192000"/>
          </a:xfrm>
        </p:grpSpPr>
        <p:cxnSp>
          <p:nvCxnSpPr>
            <p:cNvPr id="119" name="_s108569"/>
            <p:cNvCxnSpPr>
              <a:stCxn id="120" idx="1"/>
              <a:endCxn id="121" idx="2"/>
            </p:cNvCxnSpPr>
            <p:nvPr/>
          </p:nvCxnSpPr>
          <p:spPr>
            <a:xfrm rot="10800000">
              <a:off x="6730920" y="1385280"/>
              <a:ext cx="288720" cy="4504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08568"/>
            <p:cNvCxnSpPr>
              <a:stCxn id="123" idx="1"/>
              <a:endCxn id="121" idx="2"/>
            </p:cNvCxnSpPr>
            <p:nvPr/>
          </p:nvCxnSpPr>
          <p:spPr>
            <a:xfrm rot="10800000">
              <a:off x="6730920" y="1385280"/>
              <a:ext cx="288720" cy="2815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108567"/>
            <p:cNvCxnSpPr>
              <a:stCxn id="125" idx="1"/>
              <a:endCxn id="121" idx="2"/>
            </p:cNvCxnSpPr>
            <p:nvPr/>
          </p:nvCxnSpPr>
          <p:spPr>
            <a:xfrm rot="10800000">
              <a:off x="6730920" y="1385280"/>
              <a:ext cx="288720" cy="1126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1" name="_s108563"/>
            <p:cNvSpPr/>
            <p:nvPr/>
          </p:nvSpPr>
          <p:spPr>
            <a:xfrm>
              <a:off x="5867280" y="260280"/>
              <a:ext cx="1728720" cy="1125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одно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язы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08564"/>
            <p:cNvSpPr/>
            <p:nvPr/>
          </p:nvSpPr>
          <p:spPr>
            <a:xfrm>
              <a:off x="7019640" y="1949040"/>
              <a:ext cx="1728720" cy="1125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собенност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оизношени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одног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язык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08565"/>
            <p:cNvSpPr/>
            <p:nvPr/>
          </p:nvSpPr>
          <p:spPr>
            <a:xfrm>
              <a:off x="7019640" y="3637800"/>
              <a:ext cx="1728720" cy="1125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обенност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рамматического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ро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08566"/>
            <p:cNvSpPr/>
            <p:nvPr/>
          </p:nvSpPr>
          <p:spPr>
            <a:xfrm>
              <a:off x="7019640" y="5326560"/>
              <a:ext cx="1728720" cy="1125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собенност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нтонационног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уклада сл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 предложе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Ошибки можно разделить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на три групп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Ошибки, отражающие особенности  фонетической  системы татарского язы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1.    Отсутствие  полного  соответствия  между  графикой и звуковой систем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   [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ә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    [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ү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    [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җ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   [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ң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  [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һ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.    Несоответствие  количества  букв в русском  алфавите количеству  звуков   в родной  ре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3.    Наличие  позиционных изменений  зву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Arial Black"/>
              </a:rPr>
              <a:t>Методы и приемы предупреждения и  исправления ошибок  фонетического  характер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Фонетические заряд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Артикуляционные  упражнения  с зеркальце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Игры «Узнайте звук», «Кто  больше?», «Договори  последний  слог», потешки , пословицы, чистоговорки для  дифференциации  звуков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Ошибки, обусловленные  грамматическими  нормами татарского язык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5946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"/>
              </a:rPr>
              <a:t>Трудность  при усвоении категории р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"/>
              </a:rPr>
              <a:t>Неправильное написание падежных окончаний существительных  разного  р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"/>
              </a:rPr>
              <a:t>Неправильное  написание  окончания  зависимых  от  существительных  частей  ре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"/>
              </a:rPr>
              <a:t>Пропуск  предлог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"/>
              </a:rPr>
              <a:t>Неправильная  замена  одного  предлога  друг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"/>
              </a:rPr>
              <a:t>Употребление   лишнего  предло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"/>
              </a:rPr>
              <a:t>Ошибки в употреблении возвратных и невозвратных глагол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6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6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6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6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6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6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6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6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6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6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6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6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6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6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33ccff"/>
                </a:solidFill>
                <a:latin typeface="Arial Black"/>
              </a:rPr>
              <a:t>Методы и приемы предупреждения и  исправления ошибок  грамматического  характер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2065320"/>
            <a:ext cx="80074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Таблиц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Схемы-опо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«Рифмовки - запоминалки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Иг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7:03:57Z</dcterms:created>
  <dc:creator>User</dc:creator>
  <dc:description/>
  <dc:language>en-US</dc:language>
  <cp:lastModifiedBy>User</cp:lastModifiedBy>
  <dcterms:modified xsi:type="dcterms:W3CDTF">2009-04-22T16:20:40Z</dcterms:modified>
  <cp:revision>8</cp:revision>
  <dc:subject/>
  <dc:title>Особенности лингвистического образования младших школьников в условиях двуязычия</dc:title>
</cp:coreProperties>
</file>