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8B8-A888-44D4-9409-E13967E3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605-02B4-4451-9F9B-85FAF4A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565-D689-4964-8CEF-9BD1530A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C4F-531B-4BCE-A758-5442A3A7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C56-14B0-49D1-9C6D-23A4607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581-5EDC-4D08-846F-6FAEF27B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DAA-C433-4159-8382-AC893CCD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605-E63D-48C1-9D0C-A2DACC2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D2F-51E1-421B-8B91-C9D7303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8AC-567A-4192-8F60-61B6AD6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5B6-C7BC-40EF-8D68-1E60783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69D-0700-4D09-BCD0-966662C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91E3-A324-4CB1-93D9-D9627063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33600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849920" y="4967280"/>
            <a:ext cx="4284720" cy="25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260280"/>
            <a:ext cx="56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метрия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2133720"/>
            <a:ext cx="8281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ь многоугольн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292720" y="5516640"/>
            <a:ext cx="331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6461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:  Жилин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9640" y="476280"/>
            <a:ext cx="2087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4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26828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933720"/>
            <a:ext cx="43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268280"/>
            <a:ext cx="26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1268280"/>
            <a:ext cx="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213372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364000" y="213372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3716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187280" y="3716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3716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419640" y="1268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1484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1484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87280" y="1268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851280" y="19159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1916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148360" y="21333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2349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48360" y="3716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4437000"/>
            <a:ext cx="8136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Дано: АВ = ВС = 3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F = 5, EF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371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2560" y="1844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989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1052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836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364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476280"/>
            <a:ext cx="828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1484280"/>
            <a:ext cx="794556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получить представление об измерени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ей многоугольнико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2637000"/>
            <a:ext cx="7777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рассмотреть основные свойства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ей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716280"/>
            <a:ext cx="7705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Научиться использовать изученный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ретический материал в ход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я задач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2347920" cy="357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8360" y="549360"/>
            <a:ext cx="639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ицы измерения площаде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1916280"/>
            <a:ext cx="790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см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76360" y="1844640"/>
            <a:ext cx="1332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32000" y="3500280"/>
            <a:ext cx="1332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64000" y="1844640"/>
            <a:ext cx="1332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67280" y="177336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32000" y="3573360"/>
            <a:ext cx="1335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64360" y="2492280"/>
            <a:ext cx="1332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92720" y="3500280"/>
            <a:ext cx="1332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3640" y="4365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219640" y="5084640"/>
            <a:ext cx="1335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47640" y="2565360"/>
            <a:ext cx="1335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86080" y="263700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651640" y="2565360"/>
            <a:ext cx="1332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63640" y="1916280"/>
            <a:ext cx="165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  100 м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60760" y="3578400"/>
            <a:ext cx="158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   10000 с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92360" y="3649680"/>
            <a:ext cx="1371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  100 д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835280" y="2637000"/>
            <a:ext cx="1371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  100 с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92360" y="443700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 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1280" y="1916280"/>
            <a:ext cx="187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  0,01 д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1280" y="2708280"/>
            <a:ext cx="84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д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635280" y="2637000"/>
            <a:ext cx="186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  10000 м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40360" y="2641680"/>
            <a:ext cx="113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  0,01 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11280" y="3573360"/>
            <a:ext cx="56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360" y="4437000"/>
            <a:ext cx="2533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ар (сотка) =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640" y="530064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га (гектар) =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64000" y="5229360"/>
            <a:ext cx="155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00 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270828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340000" y="476280"/>
            <a:ext cx="639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ь многоугольника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765000"/>
            <a:ext cx="1942920" cy="2089440"/>
          </a:xfrm>
          <a:prstGeom prst="octagon">
            <a:avLst>
              <a:gd name="adj" fmla="val 29287"/>
            </a:avLst>
          </a:prstGeom>
          <a:solidFill>
            <a:srgbClr val="cc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16360" y="1484280"/>
            <a:ext cx="5832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это величина той части плоскости,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орую занимает многоугольник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3429000"/>
            <a:ext cx="7343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ь многоугольника выражается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ожительным числом, которое показывает, 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раз единица измерения и ее части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ладываются в данном многоугольнике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588000" y="270828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47640" y="476280"/>
            <a:ext cx="639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собы измерения площадей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1484280"/>
            <a:ext cx="74170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Разбиение фигуры на квадраты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71640" y="2133360"/>
            <a:ext cx="3600360" cy="2016000"/>
          </a:xfrm>
          <a:custGeom>
            <a:avLst/>
            <a:gdLst>
              <a:gd name="textAreaLeft" fmla="*/ 791640 w 3600360"/>
              <a:gd name="textAreaRight" fmla="*/ 2808720 w 3600360"/>
              <a:gd name="textAreaTop" fmla="*/ 443160 h 2016000"/>
              <a:gd name="textAreaBottom" fmla="*/ 15728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9162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1917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19162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1917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917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19162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149720"/>
            <a:ext cx="46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429000"/>
            <a:ext cx="46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133720"/>
            <a:ext cx="46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708280"/>
            <a:ext cx="46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31417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6920" y="400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92520" y="38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9396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9252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92520" y="364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92520" y="3573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93960" y="3500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6920" y="407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5013360"/>
            <a:ext cx="65530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По готовым формулам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88000" y="270828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26920" y="189000"/>
            <a:ext cx="639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лощадей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981000"/>
            <a:ext cx="7920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Равные многоугольники имеют равные площади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413000"/>
            <a:ext cx="1440000" cy="863640"/>
          </a:xfrm>
          <a:prstGeom prst="pentag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1413000"/>
            <a:ext cx="1439640" cy="863640"/>
          </a:xfrm>
          <a:prstGeom prst="pentag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14172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2421000"/>
            <a:ext cx="7272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Если многоугольник составлен из нескольких 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угольников,то его площадь равна сумме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ей этих многоугольников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 rot="8854200">
            <a:off x="250200" y="3716280"/>
            <a:ext cx="1439640" cy="503280"/>
          </a:xfrm>
          <a:custGeom>
            <a:avLst/>
            <a:gdLst>
              <a:gd name="textAreaLeft" fmla="*/ 316440 w 1439640"/>
              <a:gd name="textAreaRight" fmla="*/ 1123200 w 1439640"/>
              <a:gd name="textAreaTop" fmla="*/ 110520 h 503280"/>
              <a:gd name="textAreaBottom" fmla="*/ 3927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21576600">
            <a:off x="479880" y="3789000"/>
            <a:ext cx="1224000" cy="78912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3995280" y="3789360"/>
            <a:ext cx="2521080" cy="792000"/>
          </a:xfrm>
          <a:custGeom>
            <a:avLst/>
            <a:gdLst>
              <a:gd name="textAreaLeft" fmla="*/ 554400 w 2521080"/>
              <a:gd name="textAreaRight" fmla="*/ 1966680 w 252108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869000"/>
            <a:ext cx="28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Arial"/>
              </a:rPr>
              <a:t>ABCD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= S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+ S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486900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Arial"/>
              </a:rPr>
              <a:t>MNPQ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= S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+ S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+ S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5481720"/>
            <a:ext cx="68407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 Площадь квадрата равна квадрату его стороны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32000" y="5950080"/>
            <a:ext cx="1368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 = a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0" y="587700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704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476280"/>
            <a:ext cx="2087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1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484280"/>
            <a:ext cx="4032360" cy="1944720"/>
          </a:xfrm>
          <a:prstGeom prst="parallelogram">
            <a:avLst>
              <a:gd name="adj" fmla="val 5183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1484280"/>
            <a:ext cx="201636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28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98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3500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125360"/>
            <a:ext cx="49323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Дано: АВС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–параллелограм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ABCD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= 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ABD</a:t>
            </a:r>
            <a:r>
              <a:rPr b="1" lang="ru-RU" sz="2400" spc="-1" strike="noStrike" baseline="-25000">
                <a:solidFill>
                  <a:srgbClr val="0066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29242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0" y="3429000"/>
            <a:ext cx="50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ассмотрим </a:t>
            </a:r>
            <a:r>
              <a:rPr b="1" lang="ru-RU" sz="2000" spc="-1" strike="noStrike">
                <a:solidFill>
                  <a:srgbClr val="0066ff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BD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66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DB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78936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АВ = С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, ВС = А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т.к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DCD -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4149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- об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3860640"/>
            <a:ext cx="0" cy="6480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93372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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05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BD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DB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797360"/>
            <a:ext cx="8497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авные треугольники имеют равные площади, зна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ABD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BCD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= 12 : 2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640" y="476280"/>
            <a:ext cx="2087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2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1125360"/>
            <a:ext cx="59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1125360"/>
            <a:ext cx="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84360" y="1125360"/>
            <a:ext cx="597528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125360"/>
            <a:ext cx="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306864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9200" y="1628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4520" y="256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9200" y="2492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97120" y="16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32720" y="9079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2924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20239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765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83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573360"/>
            <a:ext cx="8351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Дано: АВС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– прямоугольник, СЕ =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Е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ABCD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=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A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9640" y="476280"/>
            <a:ext cx="2087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3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2924280"/>
            <a:ext cx="576360" cy="5745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50028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050560" y="177336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899640" y="1773360"/>
            <a:ext cx="1150920" cy="172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1773360"/>
            <a:ext cx="576000" cy="172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900000" y="292428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900000" y="2349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00000" y="177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33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134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137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3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933720"/>
            <a:ext cx="8209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лощадь заштрихованного квадрата равн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ABCD</a:t>
            </a:r>
            <a:r>
              <a:rPr b="1" lang="ru-RU" sz="24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6:52:32Z</dcterms:created>
  <dc:creator>Zver</dc:creator>
  <dc:description/>
  <dc:language>en-US</dc:language>
  <cp:lastModifiedBy>Zver</cp:lastModifiedBy>
  <dcterms:modified xsi:type="dcterms:W3CDTF">2009-10-25T14:44:27Z</dcterms:modified>
  <cp:revision>5</cp:revision>
  <dc:subject/>
  <dc:title>Слайд 1</dc:title>
</cp:coreProperties>
</file>