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59D-C31A-4327-BF70-24967EC9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8C0-4761-4DEA-8A43-F87811B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E36-CA17-4DDE-8FF7-514847FD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774-925B-4992-9672-30D9E8CD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DD0-F043-4CF0-B739-7B16055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DD3-7E2F-48E0-A4BE-6F0125AB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5F3-0260-4F69-BC63-D6BA643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67A-25D0-4D20-9F2B-239FCF5E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76B-B4F8-4C30-B161-F1A3CF6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F3F-7A03-47FC-A665-6BEA95A4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4EB-F49E-4D54-9D60-2BB741F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D6A-CBD8-4421-A27D-8836104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54C-1E7B-45D1-AF98-3946C21DF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36400" y="-55440"/>
            <a:ext cx="8217000" cy="2627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0"/>
          <p:cNvSpPr txBox="1"/>
          <p:nvPr/>
        </p:nvSpPr>
        <p:spPr>
          <a:xfrm>
            <a:off x="395280" y="2205000"/>
            <a:ext cx="46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272916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6108840" y="4581360"/>
            <a:ext cx="3035160" cy="22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2336760" cy="20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t us try to be polite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member always to say “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Ple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nd don’t forget “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Thank you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15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s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p assis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sto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Hello! I’d like to buy a kilo of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mea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hop assistant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O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sto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How much does it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hop assis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t costs 2 pound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stom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Here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hop assis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ank yo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Goodby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sto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Goodbye.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60280"/>
            <a:ext cx="40402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Bis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n a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ump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comm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259920"/>
            <a:ext cx="404172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27280" y="260280"/>
            <a:ext cx="4259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Ана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еч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ди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Горбуш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ры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екомендо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диалог 1.wmv" descr=""/>
          <p:cNvPicPr/>
          <p:nvPr/>
        </p:nvPicPr>
        <p:blipFill>
          <a:blip r:embed="rId1"/>
          <a:stretch/>
        </p:blipFill>
        <p:spPr>
          <a:xfrm>
            <a:off x="468360" y="119160"/>
            <a:ext cx="8675640" cy="63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8515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диалог 1.wmv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8515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. How ar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Fine, and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, thanks. Can I help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.      Have you got    ………..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ainly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e tin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  fresh bisc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No, thanks. I’m on………. . I prefer ….. and  ….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Maybe som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sh: sazan or hump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684360" y="836640"/>
            <a:ext cx="165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82560" y="1482840"/>
            <a:ext cx="1008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5292720" y="1989000"/>
            <a:ext cx="208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eap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 flipH="1">
            <a:off x="853920" y="2492280"/>
            <a:ext cx="46080" cy="7308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3080"/>
              <a:gd name="textAreaBottom" fmla="*/ 70920 h 73080"/>
            </a:gdLst>
            <a:ahLst/>
            <a:rect l="textAreaLeft" t="textAreaTop" r="textAreaRight" b="textAreaBottom"/>
            <a:pathLst>
              <a:path w="21600" h="34158">
                <a:moveTo>
                  <a:pt x="3600" y="0"/>
                </a:moveTo>
                <a:arcTo wR="3600" hR="3600" stAng="16200000" swAng="-5400000"/>
                <a:lnTo>
                  <a:pt x="0" y="30558"/>
                </a:lnTo>
                <a:arcTo wR="3600" hR="3600" stAng="10800000" swAng="-5400000"/>
                <a:lnTo>
                  <a:pt x="18000" y="34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987640" y="3573360"/>
            <a:ext cx="46080" cy="7164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640"/>
              <a:gd name="textAreaBottom" fmla="*/ 69480 h 71640"/>
            </a:gdLst>
            <a:ahLst/>
            <a:rect l="textAreaLeft" t="textAreaTop" r="textAreaRight" b="textAreaBottom"/>
            <a:pathLst>
              <a:path w="21600" h="33488">
                <a:moveTo>
                  <a:pt x="3600" y="0"/>
                </a:moveTo>
                <a:arcTo wR="3600" hR="3600" stAng="16200000" swAng="-5400000"/>
                <a:lnTo>
                  <a:pt x="0" y="29888"/>
                </a:lnTo>
                <a:arcTo wR="3600" hR="3600" stAng="10800000" swAng="-5400000"/>
                <a:lnTo>
                  <a:pt x="18000" y="33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4211640" y="4005360"/>
            <a:ext cx="1440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7380360" y="4005360"/>
            <a:ext cx="1439640" cy="43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692360" y="458136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 flipH="1">
            <a:off x="9144000" y="5516640"/>
            <a:ext cx="4608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trongly     …….         you to b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pba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O.K. Give me one  fish. How much does i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……….. .    Oh, just a minute. Do you  lik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agn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, it’s not bad . But I don’t like Italia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e is 150 ……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hank you. Your ………   is 17 rubles.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re always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2124000" y="404640"/>
            <a:ext cx="215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flipV="1">
            <a:off x="6659640" y="358200"/>
            <a:ext cx="46080" cy="4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flipH="1">
            <a:off x="3662280" y="981000"/>
            <a:ext cx="46080" cy="7164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640"/>
              <a:gd name="textAreaBottom" fmla="*/ 69480 h 71640"/>
            </a:gdLst>
            <a:ahLst/>
            <a:rect l="textAreaLeft" t="textAreaTop" r="textAreaRight" b="textAreaBottom"/>
            <a:pathLst>
              <a:path w="21600" h="33488">
                <a:moveTo>
                  <a:pt x="3600" y="0"/>
                </a:moveTo>
                <a:arcTo wR="3600" hR="3600" stAng="16200000" swAng="-5400000"/>
                <a:lnTo>
                  <a:pt x="0" y="29888"/>
                </a:lnTo>
                <a:arcTo wR="3600" hR="3600" stAng="10800000" swAng="-5400000"/>
                <a:lnTo>
                  <a:pt x="18000" y="33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250920" y="1989000"/>
            <a:ext cx="2089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3 rou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flipH="1">
            <a:off x="3058560" y="2492280"/>
            <a:ext cx="45720" cy="144720"/>
          </a:xfrm>
          <a:custGeom>
            <a:avLst/>
            <a:gdLst>
              <a:gd name="textAreaLeft" fmla="*/ 2160 w 45720"/>
              <a:gd name="textAreaRight" fmla="*/ 43560 w 45720"/>
              <a:gd name="textAreaTop" fmla="*/ 2160 h 144720"/>
              <a:gd name="textAreaBottom" fmla="*/ 142560 h 144720"/>
            </a:gdLst>
            <a:ahLst/>
            <a:rect l="textAreaLeft" t="textAreaTop" r="textAreaRight" b="textAreaBottom"/>
            <a:pathLst>
              <a:path w="21600" h="68006">
                <a:moveTo>
                  <a:pt x="3600" y="0"/>
                </a:moveTo>
                <a:arcTo wR="3600" hR="3600" stAng="16200000" swAng="-5400000"/>
                <a:lnTo>
                  <a:pt x="0" y="64406"/>
                </a:lnTo>
                <a:arcTo wR="3600" hR="3600" stAng="10800000" swAng="-5400000"/>
                <a:lnTo>
                  <a:pt x="18000" y="680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6443640" y="3068640"/>
            <a:ext cx="73080" cy="144360"/>
          </a:xfrm>
          <a:custGeom>
            <a:avLst/>
            <a:gdLst>
              <a:gd name="textAreaLeft" fmla="*/ 3240 w 73080"/>
              <a:gd name="textAreaRight" fmla="*/ 69840 w 73080"/>
              <a:gd name="textAreaTop" fmla="*/ 3240 h 144360"/>
              <a:gd name="textAreaBottom" fmla="*/ 141120 h 144360"/>
            </a:gdLst>
            <a:ahLst/>
            <a:rect l="textAreaLeft" t="textAreaTop" r="textAreaRight" b="textAreaBottom"/>
            <a:pathLst>
              <a:path w="21600" h="42565">
                <a:moveTo>
                  <a:pt x="3600" y="0"/>
                </a:moveTo>
                <a:arcTo wR="3600" hR="3600" stAng="16200000" swAng="-5400000"/>
                <a:lnTo>
                  <a:pt x="0" y="38965"/>
                </a:lnTo>
                <a:arcTo wR="3600" hR="3600" stAng="10800000" swAng="-5400000"/>
                <a:lnTo>
                  <a:pt x="18000" y="425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2340000" y="3645000"/>
            <a:ext cx="1655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3564000" y="4292640"/>
            <a:ext cx="1439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lesson w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Interest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Coo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pe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- Not very inter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809280" cy="87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084720" y="3886200"/>
            <a:ext cx="574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earn  new word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Create your own dialog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2"/>
          <a:stretch/>
        </p:blipFill>
        <p:spPr>
          <a:xfrm>
            <a:off x="1968480" y="328680"/>
            <a:ext cx="520704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4" descr=""/>
          <p:cNvPicPr/>
          <p:nvPr/>
        </p:nvPicPr>
        <p:blipFill>
          <a:blip r:embed="rId3"/>
          <a:stretch/>
        </p:blipFill>
        <p:spPr>
          <a:xfrm>
            <a:off x="3565440" y="-66600"/>
            <a:ext cx="27194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Arial"/>
              </a:rPr>
              <a:t>Poe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 like eating lots and lot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read and jam, and meat, an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kes and biscuits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ans and mustard, eggs and ch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utton steaks, potatoes, p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nd salted mushrooms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Arial"/>
              </a:rPr>
              <a:t>Poe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 like eating lots and lot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ea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a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k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scuit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an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star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gg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ip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tton steak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tato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a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lted mushroom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62673"/>
                </a:solidFill>
                <a:uFillTx/>
                <a:latin typeface="Arial"/>
              </a:rPr>
              <a:t>Kind of shops</a:t>
            </a: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1" lang="en-US" sz="4000" spc="-1" strike="noStrike" u="sng">
                <a:solidFill>
                  <a:srgbClr val="262673"/>
                </a:solidFill>
                <a:uFillTx/>
                <a:latin typeface="Arial"/>
              </a:rPr>
              <a:t>Name of the   foods</a:t>
            </a: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packet of t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butcher’s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loaf of b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box of sweets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grocer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baker’s        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bar of choco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greengrocer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47778 0.00116 E">
                                      <p:cBhvr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0019 -0.08588 E">
                                      <p:cBhvr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C 0.12431 -0.04514 0.24914 -0.09005 0.33073 -0.11065 C 0.41233 -0.13125 0.45747 -0.12223 0.48889 -0.12385 C 0.52032 -0.12547 0.51702 -0.12037 0.51823 -0.12014 C 0.51928 -0.11991 0.50782 -0.12107 0.49636 -0.12199 E">
                                      <p:cBhvr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18 0.01597 C 0.13507 -0.04468 0.19913 -0.10533 0.26979 -0.13403 C 0.34045 -0.16273 0.45729 -0.15255 0.49479 -0.15625 E">
                                      <p:cBhvr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18519E-006 C 0.00695 -0.12361 0.01389 -0.24699 0.01667 -0.29629 E">
                                      <p:cBhvr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6512E-006 L -3.33333E-006 -0.33326 E">
                                      <p:cBhvr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3149 C 0.0783 -0.14607 0.15695 -0.26042 0.24497 -0.31644 C 0.33281 -0.37223 0.48038 -0.36019 0.52795 -0.36922 E">
                                      <p:cBhvr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00799 -0.45949 E">
                                      <p:cBhvr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        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he baker’s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1577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e can buy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…….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t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the baker’s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861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The grocer’s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e can buy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t the grocer’s s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770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The 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greengrocer’s 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181440" y="5373360"/>
            <a:ext cx="93250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e can buy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t the greengrocer’s  s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3578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Customers usually s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599840"/>
            <a:ext cx="4316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’d like to buy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ow much does it cost?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ere you are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4720" y="1599840"/>
            <a:ext cx="44020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Я бы хотел ку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колько это сто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от, пожалуй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40021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Shop assistant usually s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k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much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t will co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our change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316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олько Вы хот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ещ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сто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а сдач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j0185152"/>
          <p:cNvPicPr/>
          <p:nvPr/>
        </p:nvPicPr>
        <p:blipFill>
          <a:blip r:embed="rId1"/>
          <a:stretch/>
        </p:blipFill>
        <p:spPr>
          <a:xfrm>
            <a:off x="2556000" y="4724280"/>
            <a:ext cx="3182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2:24:43Z</dcterms:created>
  <dc:creator>школа</dc:creator>
  <dc:description/>
  <dc:language>en-US</dc:language>
  <cp:lastModifiedBy>dar</cp:lastModifiedBy>
  <dcterms:modified xsi:type="dcterms:W3CDTF">2011-12-15T16:13:37Z</dcterms:modified>
  <cp:revision>134</cp:revision>
  <dc:subject/>
  <dc:title>Слайд 1</dc:title>
</cp:coreProperties>
</file>