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9B3-6662-4497-8135-115F2A7E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39C-E463-47D9-AC4F-B68D5FD6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AFD-1F42-440C-8030-8F7E32A8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B4C-1E2E-4F54-91B0-60154F29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4DE0-4EDB-4C95-A6EF-BEE2B769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3913-52CF-4A26-AFC4-BC19286F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D521-8A80-4E64-A99F-277C02AE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8BCC-1D18-42DC-97C4-59197505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DDB2-4BF8-429A-927C-7205A769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203C-C5DF-48CF-8DC2-BD5DFE52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D161-3C57-47C8-B8F1-D3D5338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C46-2F21-4437-A2AD-51E14772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5A8D-76FB-4625-8B74-2A4802E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44E2-0038-46A5-8FE7-36BAFAE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766E-45EF-4E50-85BC-9BD14C9D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529-9D16-40F4-BB27-48B23EEB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31AD-2BE1-4EF3-A1CE-39489195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FD0-14DC-43A8-9FF0-3C4A8727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6FC-AAFD-475D-86C7-C77AF9F7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891-1372-439B-943C-DE0CAD03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BA3-25B8-4429-AF51-91FED29A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814-6D96-4F64-9C6A-94A7A634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50D-DDAF-462F-B6F9-62038B7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3C3-E09E-4C1A-ADFC-EEA55E0C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46F7-4BC4-4D2C-83D8-934945A12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00F6-5EBB-4478-9980-B4A481C2B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689760"/>
            <a:ext cx="807732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00"/>
                </a:solidFill>
                <a:latin typeface="Times New Roman"/>
              </a:rPr>
              <a:t>Права человека.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000" y="2420640"/>
            <a:ext cx="7543800" cy="410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Урок  по  обществозна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 9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читель 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пастовской средней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пастов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сибуллина Гульнур Хайда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пастово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560880"/>
            <a:ext cx="746748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Международные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равовые документы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сеобщая декларация прав  человека (1948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Декларация  прав  ребёнка (1959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онвенция  о  правах  ребёнка (1989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070000" cy="25909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04920"/>
            <a:ext cx="7238880" cy="990360"/>
          </a:xfrm>
          <a:prstGeom prst="flowChartMultidocumen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Международное  гуманитарное  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286000"/>
            <a:ext cx="6781680" cy="3200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819520"/>
            <a:ext cx="1752840" cy="1828800"/>
          </a:xfrm>
          <a:prstGeom prst="plus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895480"/>
            <a:ext cx="129564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6019920"/>
            <a:ext cx="67820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енева.  МККК. 1863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667800"/>
            <a:ext cx="7467480" cy="703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Жестокое  лицо  войны.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1981080"/>
          <a:ext cx="7543800" cy="350532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полеонов-ские войны – 1805-1812гг.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бито око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млн.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мир. война-10мл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мер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 военных-1граждан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лове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мир.войн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о 62мл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битых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енных и граждански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к 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380880" y="5791320"/>
            <a:ext cx="739152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современной  войне  на 1 военного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 гражданских ли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776520"/>
            <a:ext cx="7467480" cy="4786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«Теперь,  когда  мы  умеем летать  по  небу, как  птицы,  плавать  по воде, как  рыбы, нам осталось одно –научиться  жить на  Земле, как  люди.»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                    Б. Шоу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653760"/>
            <a:ext cx="746748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Автор урок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учитель  истории высшей квалификационной категории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 Апастовской средней  школы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Апастовского  район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Республики Татарстан</a:t>
            </a:r>
            <a:r>
              <a:rPr b="0" lang="ru-RU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Насибуллина Гульнур Хайдаровна.</a:t>
            </a:r>
            <a:r>
              <a:rPr b="1" lang="ru-RU" sz="4000" spc="-1" strike="noStrike">
                <a:solidFill>
                  <a:srgbClr val="003300"/>
                </a:solidFill>
                <a:latin typeface="Arial Black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2004  - 2005 уч. год.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518040"/>
            <a:ext cx="746748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Право  от  лат. «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justitia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» - правда, справедливость, ибо  понималось в древности как  искусство  творить  доброе  и  справедливо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раво – система  обязательных  правил  поведения, санкционированных  государством и  выраженных  в  определённых  нормах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transition advTm="5000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609480"/>
            <a:ext cx="2971800" cy="990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905120" y="1676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16765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362320"/>
            <a:ext cx="3352680" cy="31240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зможност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уп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ённы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особ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438280"/>
            <a:ext cx="2971800" cy="304812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Юридически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рм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раже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 нормах  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609480"/>
            <a:ext cx="342900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904760" y="1447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447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590920"/>
            <a:ext cx="2743200" cy="2666880"/>
          </a:xfrm>
          <a:prstGeom prst="cube">
            <a:avLst>
              <a:gd name="adj" fmla="val 965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но  от  прир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ловек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 е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жд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590920"/>
            <a:ext cx="2514600" cy="2743200"/>
          </a:xfrm>
          <a:prstGeom prst="cube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зитив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здаётс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дь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зна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685800"/>
            <a:ext cx="365760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0720" y="20574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1337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590920"/>
            <a:ext cx="2361960" cy="1904760"/>
          </a:xfrm>
          <a:custGeom>
            <a:avLst/>
            <a:gdLst>
              <a:gd name="textAreaLeft" fmla="*/ 0 w 2361960"/>
              <a:gd name="textAreaRight" fmla="*/ 2362320 w 2361960"/>
              <a:gd name="textAreaTop" fmla="*/ 246960 h 1904760"/>
              <a:gd name="textAreaBottom" fmla="*/ 16581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блич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743200"/>
            <a:ext cx="2514600" cy="1828800"/>
          </a:xfrm>
          <a:custGeom>
            <a:avLst/>
            <a:gdLst>
              <a:gd name="textAreaLeft" fmla="*/ 0 w 2514600"/>
              <a:gd name="textAreaRight" fmla="*/ 2514960 w 2514600"/>
              <a:gd name="textAreaTop" fmla="*/ 236880 h 1828800"/>
              <a:gd name="textAreaBottom" fmla="*/ 1591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457200"/>
            <a:ext cx="358164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99840" y="11430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1905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905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1143000"/>
            <a:ext cx="9903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057400"/>
            <a:ext cx="2057400" cy="1371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ном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3962520"/>
            <a:ext cx="19814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962520"/>
            <a:ext cx="1828800" cy="1218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ждан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2057400"/>
            <a:ext cx="2057400" cy="1371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5867280"/>
            <a:ext cx="3505320" cy="762120"/>
          </a:xfrm>
          <a:custGeom>
            <a:avLst/>
            <a:gdLst>
              <a:gd name="textAreaLeft" fmla="*/ 43812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ыча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5029200"/>
            <a:ext cx="3733560" cy="838080"/>
          </a:xfrm>
          <a:custGeom>
            <a:avLst/>
            <a:gdLst>
              <a:gd name="textAreaLeft" fmla="*/ 466560 w 3733560"/>
              <a:gd name="textAreaRight" fmla="*/ 3267000 w 3733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ади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4114800"/>
            <a:ext cx="3809880" cy="914400"/>
          </a:xfrm>
          <a:custGeom>
            <a:avLst/>
            <a:gdLst>
              <a:gd name="textAreaLeft" fmla="*/ 476280 w 3809880"/>
              <a:gd name="textAreaRight" fmla="*/ 3333960 w 38098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пис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200400"/>
            <a:ext cx="3886200" cy="990720"/>
          </a:xfrm>
          <a:custGeom>
            <a:avLst/>
            <a:gdLst>
              <a:gd name="textAreaLeft" fmla="*/ 485640 w 3886200"/>
              <a:gd name="textAreaRight" fmla="*/ 3400560 w 3886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пр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438280"/>
            <a:ext cx="3276720" cy="838440"/>
          </a:xfrm>
          <a:custGeom>
            <a:avLst/>
            <a:gdLst>
              <a:gd name="textAreaLeft" fmla="*/ 409320 w 3276720"/>
              <a:gd name="textAreaRight" fmla="*/ 2867400 w 32767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685800"/>
            <a:ext cx="7467480" cy="1219320"/>
          </a:xfrm>
          <a:custGeom>
            <a:avLst/>
            <a:gdLst>
              <a:gd name="textAreaLeft" fmla="*/ 1866960 w 7467480"/>
              <a:gd name="textAreaRight" fmla="*/ 5600880 w 746748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уп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я 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Функции</a:t>
            </a:r>
            <a:r>
              <a:rPr b="1" i="1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права</a:t>
            </a:r>
            <a:r>
              <a:rPr b="1" i="1" lang="en-US" sz="4400" spc="-1" strike="noStrike">
                <a:solidFill>
                  <a:srgbClr val="0033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Регуля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станавливает  модели поведения уча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Охраните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Защищает  интересы 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1295280"/>
            <a:ext cx="266688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ституция 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905120"/>
            <a:ext cx="3504960" cy="533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едеральные  зако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2590920"/>
            <a:ext cx="441936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азы Презид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3429000"/>
            <a:ext cx="518184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новления  Правитель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267080"/>
            <a:ext cx="586728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рмативные  акты  Министер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5257800"/>
            <a:ext cx="792504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рмативные акты  органов местного 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04920"/>
            <a:ext cx="4572000" cy="761760"/>
          </a:xfrm>
          <a:prstGeom prst="downArrowCallout">
            <a:avLst>
              <a:gd name="adj1" fmla="val 150061"/>
              <a:gd name="adj2" fmla="val 150047"/>
              <a:gd name="adj3" fmla="val 16667"/>
              <a:gd name="adj4" fmla="val 6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сточники  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9:27:27Z</dcterms:created>
  <dc:creator>User</dc:creator>
  <dc:description/>
  <dc:language>en-US</dc:language>
  <cp:lastModifiedBy>User</cp:lastModifiedBy>
  <dcterms:modified xsi:type="dcterms:W3CDTF">2006-01-17T21:11:37Z</dcterms:modified>
  <cp:revision>6</cp:revision>
  <dc:subject/>
  <dc:title>Права человека.</dc:title>
</cp:coreProperties>
</file>