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A69-569F-4C80-A2A1-52E5AAE0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FAD-1F0F-465D-9174-7AEF35BB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4A8-F6F0-4AE4-8643-1F17C4B0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220-30B2-4866-9DAC-00F650E3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3238-9215-4042-AD85-8EAE50CF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2D3-18B4-4FC1-92D0-12CDD053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25CD-8838-46F7-B105-0F8E0479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B09F-A2DD-4D34-9D21-29FA8CD7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6BE8-4792-47D6-9D09-091BEC08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1D61-3132-4D15-AE24-991D97AD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131A-2445-49E4-A666-265A4484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018-D9E8-4BA9-9E14-953B2BA5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EF02-E2A5-4B57-A8EA-56C97C53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C7B2-DFEC-4EF5-BF18-0997509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5661-7025-4DF3-B9EF-6BCF6DAA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F23F-74EF-4732-B5C6-A142786C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040C-32A0-4FC4-B94B-49099C37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4D4-FBE0-4E0B-B9CC-8BCD78BF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B6F-3C37-4802-9595-2C7529A6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68D-506D-4E7D-8921-A74DCDF4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B55-DF23-47DC-9FBE-15DB7A97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A7E-DB38-4DC2-B95D-F296DF20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D22-16FC-4024-A127-88E6358C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F3E-8C9F-48DE-9639-4B8FCBF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7360-301B-4A7F-9493-DC487F9527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7E35-B78B-4F7C-AA8C-6A88571299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666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5075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ПРОЕК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ahoma"/>
              </a:rPr>
              <a:t>«Моя семья –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Tahoma"/>
              </a:rPr>
              <a:t>Моё богатство!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Tahoma"/>
              </a:rPr>
              <a:t>             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Выполнила: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ученица 1 класса Макарова Дар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МБОУ «Юлдузская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Чистопольскогомуниципаль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района Республики Татарст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карова Дарья Алексеевна-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ница 1 класса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БОУ «Юлдузская СОШ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стопольского  муниципаль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йона Республики Татарст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436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ву на белом свете 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 со мной моя род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фотографию смотр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 с гордостью вам говорю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Знакомьтесь -вот моя семья!                                                        Очень дружная она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4176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смолкают в доме звуки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 нами не умрешь от скуки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день рождения- песни, пляски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рнавалы в Новый год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 лыжах зимой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 в сказке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ш семейный хоровод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7173720"/>
            <a:ext cx="82296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5013360"/>
            <a:ext cx="2233800" cy="167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376720" cy="1780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8097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работы не сидится!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юбим мы всегда трудиться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3571920"/>
            <a:ext cx="3097440" cy="230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240360" cy="225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492360" y="2276640"/>
            <a:ext cx="2265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аши увлечения- всем на удивле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895400" cy="324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30920" y="3357720"/>
            <a:ext cx="2094120" cy="309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771640" y="3789360"/>
            <a:ext cx="3240360" cy="242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50920" y="1268280"/>
            <a:ext cx="3097080" cy="1741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364000" y="1268280"/>
            <a:ext cx="3240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 так мы отдыхаем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еселимся и играем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025800" cy="2266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881440" cy="215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95280" y="4365720"/>
            <a:ext cx="3024360" cy="2266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564000" y="2924280"/>
            <a:ext cx="2022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9:51:14Z</dcterms:created>
  <dc:creator>Дом</dc:creator>
  <dc:description/>
  <dc:language>en-US</dc:language>
  <cp:lastModifiedBy>Ольга</cp:lastModifiedBy>
  <dcterms:modified xsi:type="dcterms:W3CDTF">2012-02-29T19:17:52Z</dcterms:modified>
  <cp:revision>4</cp:revision>
  <dc:subject/>
  <dc:title>Слайд 1</dc:title>
</cp:coreProperties>
</file>