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png" ContentType="image/png"/>
  <Override PartName="/ppt/media/image21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A9A-5A37-4D21-AA44-7ECFFD29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7A2-1163-4FCD-B302-FC9A03D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550-DC28-4C4F-B8B7-186E1010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84F-2527-47E3-9C3D-1AD1A5F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D82-3FC9-42BF-B39C-B9A4A1F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6BF-9D6F-4B5D-9AA4-8BD677A6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B8D-9C86-46A0-9370-04DAC37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0CF-6B6C-4C01-A4E8-1B1BE21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71B-CC19-43FA-BC00-AC24430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CB1-559A-4F52-909B-5E90FF7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288-380E-4853-A59D-63474DF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730-F84D-491B-A3DE-A047A83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CAD-8088-452A-8745-897527EE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560" y="-89640"/>
            <a:ext cx="1126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45464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 flipV="1">
            <a:off x="7308720" y="-5331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60280"/>
            <a:ext cx="388764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осславим Женщину-Мать, чья любовь не знает преград, чьей грудью вскормлен весь мир! Мать – это имя Бога на устах и в сердцах маленьких дете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осславим Женщину – М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6" dur="18903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79640" y="907920"/>
            <a:ext cx="6264360" cy="5042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7368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4365720"/>
            <a:ext cx="84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Как же я тебя люблю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милая моя мамоч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488808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329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55736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114560"/>
            <a:ext cx="21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765000"/>
            <a:ext cx="914400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onotype Corsiva"/>
              </a:rPr>
              <a:t>Родиться стоит поздно или р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onotype Corsiva"/>
              </a:rPr>
              <a:t>Хотя бы для того на этот св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onotype Corsiva"/>
              </a:rPr>
              <a:t>Чтоб вымолвить впервые слово «МАМА»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onotype Corsiva"/>
              </a:rPr>
              <a:t>Которого священней в мире н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55736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14560"/>
            <a:ext cx="21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125360"/>
            <a:ext cx="770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Monotype Corsiva"/>
              </a:rPr>
              <a:t>С праздником, дорогие наши                                            мамочки и бабушки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78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46040"/>
            <a:ext cx="8280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419040"/>
            <a:ext cx="770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56320" cy="710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16000" y="-24300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-396720" y="69228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971640" y="371628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15360000">
            <a:off x="7442280" y="336672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17218800">
            <a:off x="5425560" y="2142720"/>
            <a:ext cx="2067120" cy="219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16638000">
            <a:off x="6510600" y="4729320"/>
            <a:ext cx="224172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 rot="16800000">
            <a:off x="7441920" y="1566720"/>
            <a:ext cx="2067120" cy="219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 rot="13570200">
            <a:off x="4993920" y="-44964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 rot="16200000">
            <a:off x="7015320" y="-62280"/>
            <a:ext cx="206676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-252360" y="494172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 rot="3529800">
            <a:off x="971640" y="206064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 rot="19884000">
            <a:off x="5940360" y="141264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0" y="4221000"/>
            <a:ext cx="1076400" cy="10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 rot="1246800">
            <a:off x="468000" y="2602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 rot="20068800">
            <a:off x="5866920" y="429264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f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08720" cy="56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258920" y="198900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0920" y="299736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1332000" y="393372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952560" cy="6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763640" y="566100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3059280" y="6191280"/>
            <a:ext cx="952200" cy="66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4932360" y="573408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5796000" y="26028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6804000" y="602136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7812000" y="530064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732720" y="4292640"/>
            <a:ext cx="952200" cy="66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7956720" y="3429000"/>
            <a:ext cx="952200" cy="66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6804000" y="234936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8"/>
          <a:stretch/>
        </p:blipFill>
        <p:spPr>
          <a:xfrm>
            <a:off x="7885080" y="141300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7164360" y="62064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>
            <a:off x="3708360" y="18900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2987640" y="4724280"/>
            <a:ext cx="952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0:47:33Z</dcterms:created>
  <dc:creator>User</dc:creator>
  <dc:description/>
  <dc:language>en-US</dc:language>
  <cp:lastModifiedBy>Женя</cp:lastModifiedBy>
  <dcterms:modified xsi:type="dcterms:W3CDTF">2008-11-24T15:14:39Z</dcterms:modified>
  <cp:revision>6</cp:revision>
  <dc:subject/>
  <dc:title>Слайд 1</dc:title>
</cp:coreProperties>
</file>