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0FE-9796-4D1C-BFE2-F241C16F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AED-1BBD-4587-BF1E-3E4435FB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2E0-CDD2-4E8A-99D4-C09C370C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D00-B22E-4ABF-9341-242EA282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29AD-3521-422B-8B34-8B7E6B30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F27B-57BB-43BB-AC39-FD0E889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83C-690A-4510-BD00-E520CB37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747-DC23-4FD6-93E2-0DCC0F4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DFEA-7DFD-4695-A0A1-73A6CB3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45C-B82E-4870-B79A-3F0FF0A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0AA-E6D6-4193-B17D-A2C289A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446-EB20-4773-99AB-8617E9BD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D596-966D-4E9A-971D-A5C8147E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3552-850C-42CC-8182-5C9894B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8A2-5AD2-4001-8E74-149F1EE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C806-FF6D-4DE0-9E9D-3CCE9243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9B1-B691-4896-8C7F-4B36626A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1CD-D165-469D-B42A-09088055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97A-BD75-4F88-936B-E1FD205A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4BD-50AC-467D-91D5-C4DF04CD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F2F-A96F-46DD-92C5-140EF9BE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A6E-A048-475D-AFB0-885E02B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B47-43A7-4B9F-B998-BA14EA7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8E5-1467-49F6-8D7B-0586409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A01E-640B-417D-94AA-FC2F0DE7DF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9B1-4F5E-461E-AE64-7260B0017C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ternathistory.org.ua/files/271009_Rurik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kino-teatr.ru/movie/kadr/3025/2002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hyperlink" Target="http://spor.ucoz.ru/_nw/0/07275.jpg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2803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евраль  на Руси называли по-разном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Снежень, Лютень, Сечень, Бокогрей –  о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был последним месяцем в год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Сегодня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нь  Святого Максима</a:t>
            </a: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, который переводил книги на славянский язык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Monotype Corsiva"/>
              </a:rPr>
              <a:t>День памяти Вещего Олег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менинники – </a:t>
            </a: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Анна, Анастасия, Евгений , Викто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ределяем скло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197000"/>
          <a:ext cx="8497800" cy="41036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 скло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 скло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 скло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ществит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.р и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щест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.р.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.р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щест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.р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 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княги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княз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Ру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зем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солныш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лоша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124"/>
          <p:cNvSpPr/>
          <p:nvPr/>
        </p:nvSpPr>
        <p:spPr>
          <a:xfrm>
            <a:off x="4427640" y="2997360"/>
            <a:ext cx="36036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25"/>
          <p:cNvSpPr/>
          <p:nvPr/>
        </p:nvSpPr>
        <p:spPr>
          <a:xfrm>
            <a:off x="684360" y="3429000"/>
            <a:ext cx="43164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26"/>
          <p:cNvSpPr/>
          <p:nvPr/>
        </p:nvSpPr>
        <p:spPr>
          <a:xfrm>
            <a:off x="1547640" y="3429000"/>
            <a:ext cx="360360" cy="35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30"/>
          <p:cNvSpPr/>
          <p:nvPr/>
        </p:nvSpPr>
        <p:spPr>
          <a:xfrm>
            <a:off x="3995640" y="3429000"/>
            <a:ext cx="43200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31"/>
          <p:cNvSpPr/>
          <p:nvPr/>
        </p:nvSpPr>
        <p:spPr>
          <a:xfrm>
            <a:off x="471636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9"/>
          <p:cNvSpPr/>
          <p:nvPr/>
        </p:nvSpPr>
        <p:spPr>
          <a:xfrm>
            <a:off x="6948360" y="2781360"/>
            <a:ext cx="43200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Названия падеже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уби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рова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арвара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опила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чь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ен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од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а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ин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орите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редложны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5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5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5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63640" y="260280"/>
          <a:ext cx="5832720" cy="6067440"/>
        </p:xfrm>
        <a:graphic>
          <a:graphicData uri="http://schemas.openxmlformats.org/drawingml/2006/table">
            <a:tbl>
              <a:tblPr/>
              <a:tblGrid>
                <a:gridCol w="1440000"/>
                <a:gridCol w="1800000"/>
                <a:gridCol w="25927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Им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ги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ги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ги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ги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ж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й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ё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чё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княж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зем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763640" y="260280"/>
          <a:ext cx="5832720" cy="6067440"/>
        </p:xfrm>
        <a:graphic>
          <a:graphicData uri="http://schemas.openxmlformats.org/drawingml/2006/table">
            <a:tbl>
              <a:tblPr/>
              <a:tblGrid>
                <a:gridCol w="1440000"/>
                <a:gridCol w="1800000"/>
                <a:gridCol w="25927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Им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з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кня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м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м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чё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княз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солныш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63640" y="260280"/>
          <a:ext cx="5832720" cy="6067440"/>
        </p:xfrm>
        <a:graphic>
          <a:graphicData uri="http://schemas.openxmlformats.org/drawingml/2006/table">
            <a:tbl>
              <a:tblPr/>
              <a:tblGrid>
                <a:gridCol w="1440000"/>
                <a:gridCol w="1800000"/>
                <a:gridCol w="25927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Им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лош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Ру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лоша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Рус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лоша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Рус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лош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Ру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лошадь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Русь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73ff"/>
                          </a:solidFill>
                          <a:latin typeface="Comic Sans MS"/>
                        </a:rPr>
                        <a:t>О чё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лошад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 Рус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роверочная работа:</a:t>
            </a:r>
            <a:br>
              <a:rPr sz="48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Внимательно прочитай стихотворе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47640" y="2204640"/>
            <a:ext cx="68342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ироко ты,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усь, по лицу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земли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 крас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царственной развернулася!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тебя ли нет богатырских сил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рины святой громких подвиг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ж и есть за что, Русь могуча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любить тебя, назвать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матерью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 за честь твою против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друг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 тебя в нужде сложить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олову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бери правильный ответ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.В русском языке падеже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б) 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2.В русском языке склонений у существительных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не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3. В начальной форме слова отвечают на вопросы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кого? куда?        б)кто? что?        в)почему? для чег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4. В тексте   в начальной форме употребляе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1 сло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б)3 сло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все слова в начальной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5. В тексте  выделенные слова употреблен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во всех падежах    б) не хватает слова в Д.П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не хватает слова в П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роверь работу сосед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08000" y="1125360"/>
          <a:ext cx="6264360" cy="4864320"/>
        </p:xfrm>
        <a:graphic>
          <a:graphicData uri="http://schemas.openxmlformats.org/drawingml/2006/table">
            <a:tbl>
              <a:tblPr/>
              <a:tblGrid>
                <a:gridCol w="1565280"/>
                <a:gridCol w="1567080"/>
                <a:gridCol w="1566720"/>
                <a:gridCol w="156528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Ты молодец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6" descr="MCj04375810000[1]"/>
          <p:cNvPicPr/>
          <p:nvPr/>
        </p:nvPicPr>
        <p:blipFill>
          <a:blip r:embed="rId1"/>
          <a:stretch/>
        </p:blipFill>
        <p:spPr>
          <a:xfrm>
            <a:off x="1476360" y="1125360"/>
            <a:ext cx="5543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7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8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65040" y="-1152360"/>
            <a:ext cx="841392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Широко ты, Русь, по лицу земли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В красе царственной развернулася!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У тебя ли нет богатырских сил 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Старины святой громких подвигов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Уж и есть за что, Русь могучая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Полюбить тебя, назвать матерью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Стать за честь твою против недруг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За тебя в нужде сложить голов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                               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И. Никитин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dff"/>
                </a:solidFill>
                <a:latin typeface="Monotype Corsiva"/>
              </a:rPr>
              <a:t>Минутка красивого письм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img027"/>
          <p:cNvPicPr/>
          <p:nvPr/>
        </p:nvPicPr>
        <p:blipFill>
          <a:blip r:embed="rId1"/>
          <a:stretch/>
        </p:blipFill>
        <p:spPr>
          <a:xfrm>
            <a:off x="3059280" y="1844640"/>
            <a:ext cx="2938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Monotype Corsiva"/>
              </a:rPr>
              <a:t>Продолжи пословицу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Любовь к Родин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одина м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еловек без родины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Своя зем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10160" y="1828440"/>
            <a:ext cx="4533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-умей за неё постоя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- сильнее смер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Comic Sans MS"/>
              </a:rPr>
              <a:t>и в горсти ми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очитайте стихотвор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34920" y="1268280"/>
            <a:ext cx="66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Умный, сильный наш наро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Д…леко гл…дит вперё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Но преданья стар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Забывать мы не д…лжны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Слава ру…кой старин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Слава русской стор…н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Проверь себя са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34920" y="1125000"/>
            <a:ext cx="654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Наро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-  наро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ы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леко -  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л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г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дит - г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дя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вперё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- впере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и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не 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лжны – 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лг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ру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сс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кой  - словарное слово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стор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не – стор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703dff"/>
                </a:solidFill>
                <a:latin typeface="Times New Roman"/>
              </a:rPr>
              <a:t>н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78920" y="189000"/>
            <a:ext cx="8202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Картинка 17 из 66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oleg1111"/>
          <p:cNvPicPr/>
          <p:nvPr/>
        </p:nvPicPr>
        <p:blipFill>
          <a:blip r:embed="rId3"/>
          <a:stretch/>
        </p:blipFill>
        <p:spPr>
          <a:xfrm>
            <a:off x="3203640" y="260280"/>
            <a:ext cx="2520720" cy="295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Картинка 6 из 28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60280"/>
            <a:ext cx="2448000" cy="2881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olga-g"/>
          <p:cNvPicPr/>
          <p:nvPr/>
        </p:nvPicPr>
        <p:blipFill>
          <a:blip r:embed="rId6"/>
          <a:stretch/>
        </p:blipFill>
        <p:spPr>
          <a:xfrm>
            <a:off x="250920" y="3357720"/>
            <a:ext cx="2692440" cy="316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1227137473"/>
          <p:cNvPicPr/>
          <p:nvPr/>
        </p:nvPicPr>
        <p:blipFill>
          <a:blip r:embed="rId7"/>
          <a:stretch/>
        </p:blipFill>
        <p:spPr>
          <a:xfrm>
            <a:off x="3059280" y="335772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Картинка 32 из 56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3284640"/>
            <a:ext cx="2614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ервые русские князь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юрик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лег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гор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льг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вятослав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ладимир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Яросла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пределяем род существительных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няз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няг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олныш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усь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Зем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жской р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Женский р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едний р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627280" y="2708280"/>
            <a:ext cx="432000" cy="4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05928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124000" y="1989000"/>
            <a:ext cx="432000" cy="50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835280" y="4221000"/>
            <a:ext cx="43164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050920" y="4941720"/>
            <a:ext cx="43344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49" dur="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50" dur="500" autoRev="1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900"/>
                            </p:stCondLst>
                            <p:childTnLst>
                              <p:par>
                                <p:cTn id="2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500" autoRev="1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54" dur="500" autoRev="1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55" dur="500" autoRev="1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800"/>
                            </p:stCondLst>
                            <p:childTnLst>
                              <p:par>
                                <p:cTn id="25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500" autoRev="1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260" dur="500" autoRev="1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58:02Z</dcterms:created>
  <dc:creator>1</dc:creator>
  <dc:description/>
  <dc:language>en-US</dc:language>
  <cp:lastModifiedBy>Наталья Мироноа</cp:lastModifiedBy>
  <dcterms:modified xsi:type="dcterms:W3CDTF">2012-02-29T09:01:20Z</dcterms:modified>
  <cp:revision>6</cp:revision>
  <dc:subject/>
  <dc:title>Урок русского язы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