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43E-F6EB-49F5-9258-4E34FCDA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726-A660-4BF4-9692-07210BB4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A9D1C-D5D0-451D-82BA-D561E207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35223-403D-487D-AB4D-84884C1D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347D3-3ED1-4479-BBDC-279C870A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708EE-82B6-4724-B2C3-26EFB93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AEFA0-AEDE-4532-9E76-D3D7EB92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5909B-457E-4302-9FE2-FF1DEDC1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4CCDA-12A5-4CFE-9DEA-C4BFB70A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D4595-2D21-466D-BF97-1502B4AB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62439-A84B-4C0F-88C8-CC8D22A4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47E-B059-4006-AACA-6A4B9614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DAE-81D5-43E4-BB05-20E107AD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886E-94AB-4BDC-8B95-EDE408E5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20DC-5437-4B84-B997-CF090868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BBE6-C71D-40BA-A0FB-82EBDE6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BDFD-AB8B-4449-890E-DC98E5EB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42BB-71AB-4DB9-AC04-9D2443F6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D593-670E-4D44-AE79-CD2B4342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F375-5F68-455C-9061-2CE5FDCA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218-0FFA-4F04-8D0C-14F8EA11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264F-E6D1-4890-9E2F-C2FDBCDA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7100-E4A1-4DF6-8F6C-6236C77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5FBE-D266-4CFF-A544-39A79750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DDB7-4F4B-4A82-A9F2-4C7312FD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E85D-2215-4556-AE82-E5170916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A39E-2CDA-4482-B4E1-7B7DCED3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732C-2852-424F-B50E-F92FD408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27B4-2F7B-4539-BCD9-842FF9FD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F56A-2669-4BE6-9E85-98C83054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1C39-5176-4C2C-B83C-44B580B4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53F-3891-4E98-9E9C-82782A60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7FF9-1FC8-4556-944A-457053CE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C0D6-E782-43CE-973F-45D6E6D1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08F28-983F-41F5-BD50-8EC834A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6A6F-A7CF-4E3F-90A6-EA5C0B9F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9096-70B4-4E39-99F6-64400659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27AA-4A17-4844-BF50-7DFDE2A8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F57B-B7D6-4E3B-BE99-AE0D6E04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85362-C5DE-4527-B6E4-6EDB09AD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2D4B-FAAF-4E3A-B685-82A11A5D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ADA40-F32D-4A04-BA5E-EA2CD641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16D-62AC-46AC-8727-45F3C8F9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AB775-44BF-4D78-B07F-F467697A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7A6D-2CDE-456A-AB1B-02943460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9F4A0-5296-46C8-B0F2-0AF7D1B5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0F7F-2A02-4090-A74D-F1EA5BEA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4989E-9BDC-455B-B9BE-CBE32409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E8D9-3219-4480-98FE-3DB08C1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847C-00BC-4D83-AEDA-CC7A6AEA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E1F2C-2060-47CE-B743-4DD548EC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1044D-181E-417B-ABBC-2D3F8C05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4CE6C-098B-4F00-B7E7-F6154421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111-290D-4A7E-9940-DCD4B55F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A9769-75FF-4AEF-94F0-ACA99259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A644-67C1-456F-84D5-D8DD8349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25F96-A469-4A8F-A2A4-27FACEE4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98096-2DC1-4C30-823E-8FF44B06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CBDDC-B6A2-4AA5-9915-EC2E99DE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AF0A6-EDB2-4605-86FD-8E6B1926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AE79B-4069-419B-AD81-E995EE05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64975-BC18-425D-9A65-9800AF88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E411D-9E59-4EAE-B5BE-943C0458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2508-57CC-4BD2-9F5E-36000657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DEE-14BD-452B-ACB0-18D4A226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4CE22-55DF-42AE-A1BC-EC8891EC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5C830-0733-4D4A-9D69-F875AF42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C5A89-DDBC-4764-95BC-52DDB662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2B84A-214C-4C00-B031-7CB7F660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F127-99B1-4A44-86D5-F61DEC1D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898BC-C021-4E4A-BCD9-EB7CDDB3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EE93B-95E4-4CBB-9EE0-5C924F17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6D656-1274-412A-BCBC-08AFD37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0E35E-25A7-4ED9-B0A7-C87BB4D2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26AC8-42B6-4E16-9948-A3208568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0A3-DA34-41A9-AD9B-A3D0D23B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6D791-53C0-4508-BC4D-5B8802A6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C8053-780A-49B6-A2BB-01F23BF5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392F5-DA9A-4B89-B2E9-9A21C0BF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76AFC-70BE-408E-BD33-AE09FB81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18756-4EC0-4999-BB34-0091CC5E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40404-6F42-467C-8F7E-906014A7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1EDE2-FB7A-44AE-B132-E1AAFF75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86352-9C1F-47EA-851C-37D9A701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90AFD-0636-4E75-B540-EF2AF5EA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3AC6-E4CE-406C-AFD1-96D71AD2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7C3-D83C-435D-A467-44B9F92F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78F6C-C412-4E8A-A459-8BC8C4A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8A8D1-4F62-4DD1-8346-EBA9670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7AB04-590A-4798-BC9D-056326CF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5B2D7-85FB-4BF4-955E-489AC1FB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5739C-8E6E-481F-B3DB-8ED11D6D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29AE3-2DCC-41F5-A1C7-3639F143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C9059-080D-4E00-8B01-881E185B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C0407-E133-43AD-957D-D9B2212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933C5-CE7A-43AE-8B96-37CCE673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AC537-3DA5-490A-91ED-01E4E1F7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786-0E20-496F-9AC7-AB0F5826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F622F-D348-4DB0-98EC-1207515A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F2A42-B63B-4A74-8839-02F831B3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3A6F0-C14B-44B7-AEC2-3F508BBF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21C07-1FCD-4CBB-9C42-03CE2B69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0D02C-96FF-4604-AD10-725BE499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2E34F-4790-42EB-BBBF-A0045B28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BC5E1-32D9-4EC6-891B-9B8C4ECA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FC505-B8E8-4A28-83E4-F64F8C54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E03CE-CF43-4642-AC9E-5C1FC9D3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540B1-F54F-4064-AC61-9031949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764E-0CB6-46E6-8039-4CF69E650B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4F0F-1CA7-4283-AC59-B0CDC756110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0632-B267-4660-93D5-96EC2729380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CCDA-4643-429D-B950-C4592B8C8A5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BAED-2883-42D9-ABB4-788B77732B9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D1FA-CD2E-4A62-86EA-C410F335CC6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B951-59A8-4616-9670-183CA0155D1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A27F-01E7-41EC-A4C5-3814B9A2E91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9803-6F9A-4743-A90C-F9CB28098AD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2.xml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2.xml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324000" y="1414440"/>
            <a:ext cx="83563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>
            <a:hlinkClick r:id="rId2" action="ppaction://hlinksldjump"/>
          </p:cNvPr>
          <p:cNvSpPr/>
          <p:nvPr/>
        </p:nvSpPr>
        <p:spPr>
          <a:xfrm>
            <a:off x="468360" y="549360"/>
            <a:ext cx="8064360" cy="1008000"/>
          </a:xfrm>
          <a:prstGeom prst="roundRect">
            <a:avLst>
              <a:gd name="adj" fmla="val 16667"/>
            </a:avLst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кладное программное обеспе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AutoShape 3">
            <a:hlinkClick r:id="rId3" action="ppaction://hlinksldjump"/>
          </p:cNvPr>
          <p:cNvSpPr/>
          <p:nvPr/>
        </p:nvSpPr>
        <p:spPr>
          <a:xfrm>
            <a:off x="395280" y="2133720"/>
            <a:ext cx="2305080" cy="9349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общег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нач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AutoShape 4">
            <a:hlinkClick r:id="rId4" action="ppaction://hlinksldjump"/>
          </p:cNvPr>
          <p:cNvSpPr/>
          <p:nvPr/>
        </p:nvSpPr>
        <p:spPr>
          <a:xfrm>
            <a:off x="5867280" y="2205000"/>
            <a:ext cx="2376720" cy="9349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специальног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нач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9"/>
          <p:cNvSpPr/>
          <p:nvPr/>
        </p:nvSpPr>
        <p:spPr>
          <a:xfrm flipH="1">
            <a:off x="1331640" y="155736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10"/>
          <p:cNvSpPr/>
          <p:nvPr/>
        </p:nvSpPr>
        <p:spPr>
          <a:xfrm>
            <a:off x="6012000" y="155736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AutoShape 16">
            <a:hlinkClick r:id="rId5" action="ppaction://hlinksldjump"/>
          </p:cNvPr>
          <p:cNvSpPr/>
          <p:nvPr/>
        </p:nvSpPr>
        <p:spPr>
          <a:xfrm>
            <a:off x="8352000" y="6210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95280" y="3284640"/>
            <a:ext cx="5256360" cy="3313080"/>
          </a:xfrm>
          <a:prstGeom prst="rect">
            <a:avLst/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е редак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е редак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акторы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льтимедийные проигрывате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1619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AutoShape 2"/>
          <p:cNvSpPr/>
          <p:nvPr/>
        </p:nvSpPr>
        <p:spPr>
          <a:xfrm>
            <a:off x="468360" y="549360"/>
            <a:ext cx="8064360" cy="1008000"/>
          </a:xfrm>
          <a:prstGeom prst="roundRect">
            <a:avLst>
              <a:gd name="adj" fmla="val 16667"/>
            </a:avLst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кладное программное обеспе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AutoShape 3"/>
          <p:cNvSpPr/>
          <p:nvPr/>
        </p:nvSpPr>
        <p:spPr>
          <a:xfrm>
            <a:off x="395280" y="2133720"/>
            <a:ext cx="2305080" cy="9349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общег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нач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AutoShape 4"/>
          <p:cNvSpPr/>
          <p:nvPr/>
        </p:nvSpPr>
        <p:spPr>
          <a:xfrm>
            <a:off x="5867280" y="2205000"/>
            <a:ext cx="2376720" cy="9349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специальног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нач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9"/>
          <p:cNvSpPr/>
          <p:nvPr/>
        </p:nvSpPr>
        <p:spPr>
          <a:xfrm flipH="1">
            <a:off x="1331640" y="155736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Line 10"/>
          <p:cNvSpPr/>
          <p:nvPr/>
        </p:nvSpPr>
        <p:spPr>
          <a:xfrm>
            <a:off x="6012000" y="155736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AutoShape 16"/>
          <p:cNvSpPr/>
          <p:nvPr/>
        </p:nvSpPr>
        <p:spPr>
          <a:xfrm>
            <a:off x="8352000" y="6210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1979640" y="3357720"/>
            <a:ext cx="6840360" cy="3313080"/>
          </a:xfrm>
          <a:prstGeom prst="rect">
            <a:avLst/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дательские систем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хгалтерские программ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ы автоматизированного управ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ы компьютерного моделиров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матические пакет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е экспертные систем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овательные программ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12"/>
          <p:cNvSpPr/>
          <p:nvPr/>
        </p:nvSpPr>
        <p:spPr>
          <a:xfrm>
            <a:off x="702000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>
            <a:hlinkClick r:id="rId2" action="ppaction://hlinksldjump"/>
          </p:cNvPr>
          <p:cNvSpPr/>
          <p:nvPr/>
        </p:nvSpPr>
        <p:spPr>
          <a:xfrm>
            <a:off x="3708360" y="2205000"/>
            <a:ext cx="316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3">
            <a:hlinkClick r:id="rId3" action="ppaction://hlinksldjump"/>
          </p:cNvPr>
          <p:cNvSpPr/>
          <p:nvPr/>
        </p:nvSpPr>
        <p:spPr>
          <a:xfrm>
            <a:off x="1187280" y="3141720"/>
            <a:ext cx="158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">
            <a:hlinkClick r:id="rId4" action="ppaction://hlinksldjump"/>
          </p:cNvPr>
          <p:cNvSpPr/>
          <p:nvPr/>
        </p:nvSpPr>
        <p:spPr>
          <a:xfrm>
            <a:off x="6176880" y="3860640"/>
            <a:ext cx="2211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5">
            <a:hlinkClick r:id="rId5" action="ppaction://hlinksldjump"/>
          </p:cNvPr>
          <p:cNvSpPr/>
          <p:nvPr/>
        </p:nvSpPr>
        <p:spPr>
          <a:xfrm>
            <a:off x="2909880" y="4437000"/>
            <a:ext cx="3317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6">
            <a:hlinkClick r:id="rId6" action="ppaction://hlinksldjump"/>
          </p:cNvPr>
          <p:cNvSpPr/>
          <p:nvPr/>
        </p:nvSpPr>
        <p:spPr>
          <a:xfrm>
            <a:off x="3924360" y="2265480"/>
            <a:ext cx="31687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Rectangle 7">
            <a:hlinkClick r:id="rId7" action="ppaction://hlinksldjump"/>
          </p:cNvPr>
          <p:cNvSpPr/>
          <p:nvPr/>
        </p:nvSpPr>
        <p:spPr>
          <a:xfrm>
            <a:off x="6516720" y="3740040"/>
            <a:ext cx="18716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Rectangle 8">
            <a:hlinkClick r:id="rId8" action="ppaction://hlinksldjump"/>
          </p:cNvPr>
          <p:cNvSpPr/>
          <p:nvPr/>
        </p:nvSpPr>
        <p:spPr>
          <a:xfrm>
            <a:off x="3419640" y="4268880"/>
            <a:ext cx="28080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9">
            <a:hlinkClick r:id="rId9" action="ppaction://hlinksldjump"/>
          </p:cNvPr>
          <p:cNvSpPr/>
          <p:nvPr/>
        </p:nvSpPr>
        <p:spPr>
          <a:xfrm>
            <a:off x="1403280" y="3141720"/>
            <a:ext cx="158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utoShape 10">
            <a:hlinkClick r:id="rId10" action="ppaction://hlinksldjump"/>
          </p:cNvPr>
          <p:cNvSpPr/>
          <p:nvPr/>
        </p:nvSpPr>
        <p:spPr>
          <a:xfrm>
            <a:off x="684360" y="2421000"/>
            <a:ext cx="7993080" cy="2160360"/>
          </a:xfrm>
          <a:prstGeom prst="roundRect">
            <a:avLst>
              <a:gd name="adj" fmla="val 16667"/>
            </a:avLst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цип программного управления работ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пьюте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олагает возможность выполн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 внешнего вмешательства целой серии коман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utoShape 11"/>
          <p:cNvSpPr/>
          <p:nvPr/>
        </p:nvSpPr>
        <p:spPr>
          <a:xfrm>
            <a:off x="810108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1f1f"/>
                </a:solidFill>
                <a:latin typeface="Arial"/>
              </a:rPr>
              <a:t>З</a:t>
            </a:r>
            <a:r>
              <a:rPr b="1" lang="en-US" sz="2600" spc="-1" strike="noStrike">
                <a:solidFill>
                  <a:srgbClr val="ad1f1f"/>
                </a:solidFill>
                <a:latin typeface="Franklin Gothic Medium"/>
              </a:rPr>
              <a:t>адани</a:t>
            </a:r>
            <a:r>
              <a:rPr b="1" lang="en-US" sz="2600" spc="-1" strike="noStrike">
                <a:solidFill>
                  <a:srgbClr val="ad1f1f"/>
                </a:solidFill>
                <a:latin typeface="Arial"/>
              </a:rPr>
              <a:t>я</a:t>
            </a:r>
            <a:r>
              <a:rPr b="1" lang="en-US" sz="2600" spc="-1" strike="noStrike">
                <a:solidFill>
                  <a:srgbClr val="ad1f1f"/>
                </a:solidFill>
                <a:latin typeface="Franklin Gothic Medium"/>
              </a:rPr>
              <a:t>:</a:t>
            </a:r>
            <a:endParaRPr b="0" lang="en-US" sz="2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. Выберите из предложенного списка программы, относящиеся к  системному или прикладному ПО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А. Программа обучения английскому зыку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Б. Текстовый редактор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WORD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. Операционная система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MS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DO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. Антивирусная программа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DrWeb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Д. Операционная система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WINDOW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Е. Тренажер клавиатур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Ж. Программа-архиватор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WinZip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. Компьютерная игра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DOOM II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И. Графический редактор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CorelDraw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2.Без какого типа программного обеспечения работа компьютера невозможна?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476360" y="404640"/>
            <a:ext cx="7128000" cy="4824720"/>
          </a:xfrm>
          <a:prstGeom prst="cloudCallout">
            <a:avLst>
              <a:gd name="adj1" fmla="val -40222"/>
              <a:gd name="adj2" fmla="val 64939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окупность всех программ, предназначенных для выполнения на компьютере, называют программным обеспечением (ПО) компьюте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755640" y="404640"/>
            <a:ext cx="7920000" cy="792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Times New Roman"/>
              </a:rPr>
              <a:t>Программное обеспечение компьюте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AutoShape 4">
            <a:hlinkClick r:id="rId2" action="ppaction://hlinksldjump"/>
          </p:cNvPr>
          <p:cNvSpPr/>
          <p:nvPr/>
        </p:nvSpPr>
        <p:spPr>
          <a:xfrm>
            <a:off x="1835280" y="1844640"/>
            <a:ext cx="5545080" cy="86364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Системно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AutoShape 5">
            <a:hlinkClick r:id="rId3" action="ppaction://hlinksldjump"/>
          </p:cNvPr>
          <p:cNvSpPr/>
          <p:nvPr/>
        </p:nvSpPr>
        <p:spPr>
          <a:xfrm>
            <a:off x="1835280" y="3500280"/>
            <a:ext cx="5545080" cy="86364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Прикладно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6">
            <a:hlinkClick r:id="rId4" action="ppaction://hlinksldjump"/>
          </p:cNvPr>
          <p:cNvSpPr/>
          <p:nvPr/>
        </p:nvSpPr>
        <p:spPr>
          <a:xfrm>
            <a:off x="1835280" y="5013360"/>
            <a:ext cx="5545080" cy="86364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программиров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>
            <a:hlinkClick r:id="rId2" action="ppaction://hlinksldjump"/>
          </p:cNvPr>
          <p:cNvSpPr/>
          <p:nvPr/>
        </p:nvSpPr>
        <p:spPr>
          <a:xfrm>
            <a:off x="468360" y="549360"/>
            <a:ext cx="8064360" cy="1008000"/>
          </a:xfrm>
          <a:prstGeom prst="roundRect">
            <a:avLst>
              <a:gd name="adj" fmla="val 16667"/>
            </a:avLst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AutoShape 3">
            <a:hlinkClick r:id="rId3" action="ppaction://hlinksldjump"/>
          </p:cNvPr>
          <p:cNvSpPr/>
          <p:nvPr/>
        </p:nvSpPr>
        <p:spPr>
          <a:xfrm>
            <a:off x="611280" y="2060640"/>
            <a:ext cx="3456000" cy="936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AutoShape 4">
            <a:hlinkClick r:id="rId4" action="ppaction://hlinksldjump"/>
          </p:cNvPr>
          <p:cNvSpPr/>
          <p:nvPr/>
        </p:nvSpPr>
        <p:spPr>
          <a:xfrm>
            <a:off x="4716360" y="2060640"/>
            <a:ext cx="3456000" cy="936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рвисные программ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утилит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7"/>
          <p:cNvSpPr/>
          <p:nvPr/>
        </p:nvSpPr>
        <p:spPr>
          <a:xfrm flipH="1">
            <a:off x="1907640" y="1557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5796000" y="1557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AutoShape 10">
            <a:hlinkClick r:id="rId5" action="ppaction://hlinksldjump"/>
          </p:cNvPr>
          <p:cNvSpPr/>
          <p:nvPr/>
        </p:nvSpPr>
        <p:spPr>
          <a:xfrm>
            <a:off x="810108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 rot="10800000">
            <a:off x="826920" y="3499920"/>
            <a:ext cx="7490160" cy="2737080"/>
          </a:xfrm>
          <a:prstGeom prst="wedgeRectCallout">
            <a:avLst>
              <a:gd name="adj1" fmla="val 31324"/>
              <a:gd name="adj2" fmla="val 67976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это комплекс программ, обеспечивающих совместное функционирование всех устройств компьютера и предоставляющих пользователю доступ к ресурсам компью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2"/>
          <p:cNvSpPr/>
          <p:nvPr/>
        </p:nvSpPr>
        <p:spPr>
          <a:xfrm>
            <a:off x="468360" y="549360"/>
            <a:ext cx="8064360" cy="1008000"/>
          </a:xfrm>
          <a:prstGeom prst="roundRect">
            <a:avLst>
              <a:gd name="adj" fmla="val 16667"/>
            </a:avLst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AutoShape 3"/>
          <p:cNvSpPr/>
          <p:nvPr/>
        </p:nvSpPr>
        <p:spPr>
          <a:xfrm>
            <a:off x="611280" y="2060640"/>
            <a:ext cx="3456000" cy="936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4716360" y="2060640"/>
            <a:ext cx="3456000" cy="936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рвисные программ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утилит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Line 7"/>
          <p:cNvSpPr/>
          <p:nvPr/>
        </p:nvSpPr>
        <p:spPr>
          <a:xfrm flipH="1">
            <a:off x="1907640" y="1557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8"/>
          <p:cNvSpPr/>
          <p:nvPr/>
        </p:nvSpPr>
        <p:spPr>
          <a:xfrm>
            <a:off x="5796000" y="1557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810108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 rot="10800000">
            <a:off x="684360" y="3499920"/>
            <a:ext cx="7991280" cy="2449800"/>
          </a:xfrm>
          <a:prstGeom prst="wedgeRectCallout">
            <a:avLst>
              <a:gd name="adj1" fmla="val -37231"/>
              <a:gd name="adj2" fmla="val 69958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то программы диагностики работоспособности компьютер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верка, восстановление, очистка диска и д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граммы-архива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нтивирусные программ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ммуникационные программы и многие друг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В состав ОС входят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Драйверы устройст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Пользовательский интерфей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Справочная систе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Arial"/>
              </a:rPr>
              <a:t>Логотипы наиболее распространенных операционных систем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rcRect l="0" t="0" r="3686" b="-713"/>
          <a:stretch/>
        </p:blipFill>
        <p:spPr>
          <a:xfrm>
            <a:off x="900000" y="1916280"/>
            <a:ext cx="1871640" cy="172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rcRect l="0" t="0" r="3623" b="-1034"/>
          <a:stretch/>
        </p:blipFill>
        <p:spPr>
          <a:xfrm>
            <a:off x="4500720" y="1644480"/>
            <a:ext cx="2158920" cy="2000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6012000" y="4076640"/>
            <a:ext cx="2220840" cy="21178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2700360" y="4149720"/>
            <a:ext cx="188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>
            <a:hlinkClick r:id="rId2" action="ppaction://hlinksldjump"/>
          </p:cNvPr>
          <p:cNvSpPr/>
          <p:nvPr/>
        </p:nvSpPr>
        <p:spPr>
          <a:xfrm>
            <a:off x="468360" y="549360"/>
            <a:ext cx="8064360" cy="1008000"/>
          </a:xfrm>
          <a:prstGeom prst="roundRect">
            <a:avLst>
              <a:gd name="adj" fmla="val 16667"/>
            </a:avLst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ы программиров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AutoShape 16">
            <a:hlinkClick r:id="rId3" action="ppaction://hlinksldjump"/>
          </p:cNvPr>
          <p:cNvSpPr/>
          <p:nvPr/>
        </p:nvSpPr>
        <p:spPr>
          <a:xfrm>
            <a:off x="810108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971640" y="2637000"/>
            <a:ext cx="6985080" cy="3024000"/>
          </a:xfrm>
          <a:prstGeom prst="wedgeRoundRectCallout">
            <a:avLst>
              <a:gd name="adj1" fmla="val 1296"/>
              <a:gd name="adj2" fmla="val -86009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это комплекс программных средств, предназначенных для разработки компьютерных программ на языке программиров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/>
          <p:cNvSpPr/>
          <p:nvPr/>
        </p:nvSpPr>
        <p:spPr>
          <a:xfrm>
            <a:off x="468360" y="476280"/>
            <a:ext cx="8280360" cy="1008000"/>
          </a:xfrm>
          <a:prstGeom prst="roundRect">
            <a:avLst>
              <a:gd name="adj" fmla="val 16667"/>
            </a:avLst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кладное программное обеспе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AutoShape 16"/>
          <p:cNvSpPr/>
          <p:nvPr/>
        </p:nvSpPr>
        <p:spPr>
          <a:xfrm>
            <a:off x="810108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684360" y="2637000"/>
            <a:ext cx="7559640" cy="3024000"/>
          </a:xfrm>
          <a:prstGeom prst="wedgeRoundRectCallout">
            <a:avLst>
              <a:gd name="adj1" fmla="val 1199"/>
              <a:gd name="adj2" fmla="val -86009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программы, с помощью которых пользователь может работать с разными видами информации, не прибегая к программировани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2:29:53Z</dcterms:created>
  <dc:creator>Светлана</dc:creator>
  <dc:description/>
  <dc:language>en-US</dc:language>
  <cp:lastModifiedBy>дом</cp:lastModifiedBy>
  <dcterms:modified xsi:type="dcterms:W3CDTF">2012-02-29T17:14:00Z</dcterms:modified>
  <cp:revision>21</cp:revision>
  <dc:subject/>
  <dc:title>Программное обеспечение компьютера</dc:title>
</cp:coreProperties>
</file>