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848-CBA8-434E-9EF0-81224F21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808-F4D4-4530-997C-CA55D30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349-E28F-4296-8DC2-801ECD30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605-497B-4893-81BB-CEEA105F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F859-B82A-4493-B395-C6D82711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F91-3900-474F-A260-50277CE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86C4-6B97-48F1-A5AC-885F8CF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08F-DC5E-43D1-88AC-C06EE5C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40A4-1760-4AEC-97E5-F4AC8B6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A93-77CF-4F9C-9E05-CDE3DA79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AA8B-4368-482B-BA26-31D8009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F8F-7EAC-4878-A0C6-1EE8C16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CB35-4922-4E07-AC42-9C648CB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0571-3212-4FB1-877F-0AC60BC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48A3-F34D-4BAB-B273-3A103AA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F79E-A6B6-47F9-986A-0825D87B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7292-3601-45FD-BAD5-CBF11FA5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C12-33FD-4B90-B4A2-A6A529BD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640-B400-4A5F-85F4-B6432882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A71-C240-425B-BBB6-AC951E8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7C8-C3A5-4419-B1FE-A435F583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F1B-1F63-478F-9A97-0FCA70DE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FE6-3714-4FF6-9F0E-00AECB42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BFE-F28D-4B88-872D-0C031E59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817-78FF-49D7-B8C3-29E8C16E74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970D-BF1F-4DA5-B883-D639722B665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8699400" cy="1567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чащимся предлагается оценить свою готовность к уроку по данной те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 – го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 – скорее готов, чем не го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– трудно сказа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– скорее не готов, чем го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 – не готов совершен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75760" cy="14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чащийся может оценить  интерес к теме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 – интерес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 – скорее интересно, чем не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– трудно сказа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– скорее не интересно, чем интерес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– не интересно соверш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цените свое желание учить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! – большое желание учитьс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 – есть желание, но небольшо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…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но сказать, есть желание или нет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елания учиться на начало урока н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423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50560" y="1599840"/>
            <a:ext cx="88930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цените свои ощущения к предмет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! – желание изучать предмет усилилось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 – желание, не пропало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…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но сказать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елание изучать предмет пропал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ти должны выйти и отразить на доске (листе) свое состоя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0 – не получил информацию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 – получил информаци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перативная память класс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1111001010100011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 листе бумаги нарисован забор по числу учащихся в классе. Лист предается учащимися и каждый пишет на «дощечке» понравился или не понравился уро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уровень – мно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уровень – получи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уровень – не получи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щиеся ставят галочки на «своем» уровне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Равнобедренный треугольник 3"/>
          <p:cNvSpPr/>
          <p:nvPr/>
        </p:nvSpPr>
        <p:spPr>
          <a:xfrm>
            <a:off x="900000" y="2060640"/>
            <a:ext cx="2592360" cy="252072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755640" y="2781360"/>
            <a:ext cx="3311640" cy="0"/>
          </a:xfrm>
          <a:prstGeom prst="line">
            <a:avLst/>
          </a:prstGeom>
          <a:ln w="9360">
            <a:solidFill>
              <a:srgbClr val="8825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Прямая соединительная линия 7"/>
          <p:cNvSpPr/>
          <p:nvPr/>
        </p:nvSpPr>
        <p:spPr>
          <a:xfrm>
            <a:off x="684360" y="3645000"/>
            <a:ext cx="3456000" cy="0"/>
          </a:xfrm>
          <a:prstGeom prst="line">
            <a:avLst/>
          </a:prstGeom>
          <a:ln w="9360">
            <a:solidFill>
              <a:srgbClr val="8825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се понятно и все уложилось в памя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помнил – но не понял, ну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умать, «перевари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се понял, нужно постарать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омни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-  Ничего не понял и не запомнил, утону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море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5-конечная звезда 3"/>
          <p:cNvSpPr/>
          <p:nvPr/>
        </p:nvSpPr>
        <p:spPr>
          <a:xfrm>
            <a:off x="611280" y="1484280"/>
            <a:ext cx="865080" cy="576360"/>
          </a:xfrm>
          <a:custGeom>
            <a:avLst/>
            <a:gdLst>
              <a:gd name="textAreaLeft" fmla="*/ 267120 w 865080"/>
              <a:gd name="textAreaRight" fmla="*/ 597960 w 86508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864096" h="576064">
                <a:moveTo>
                  <a:pt x="1" y="220036"/>
                </a:moveTo>
                <a:lnTo>
                  <a:pt x="330057" y="220038"/>
                </a:lnTo>
                <a:lnTo>
                  <a:pt x="432048" y="0"/>
                </a:lnTo>
                <a:lnTo>
                  <a:pt x="534039" y="220038"/>
                </a:lnTo>
                <a:lnTo>
                  <a:pt x="864095" y="220036"/>
                </a:lnTo>
                <a:lnTo>
                  <a:pt x="597073" y="356025"/>
                </a:lnTo>
                <a:lnTo>
                  <a:pt x="699069" y="576062"/>
                </a:lnTo>
                <a:lnTo>
                  <a:pt x="432048" y="440071"/>
                </a:lnTo>
                <a:lnTo>
                  <a:pt x="165027" y="576062"/>
                </a:lnTo>
                <a:lnTo>
                  <a:pt x="267023" y="356025"/>
                </a:lnTo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Овал 4"/>
          <p:cNvSpPr/>
          <p:nvPr/>
        </p:nvSpPr>
        <p:spPr>
          <a:xfrm>
            <a:off x="611280" y="2349360"/>
            <a:ext cx="1081080" cy="57492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Табличка 5"/>
          <p:cNvSpPr/>
          <p:nvPr/>
        </p:nvSpPr>
        <p:spPr>
          <a:xfrm>
            <a:off x="684360" y="3573360"/>
            <a:ext cx="1008000" cy="792360"/>
          </a:xfrm>
          <a:custGeom>
            <a:avLst/>
            <a:gdLst>
              <a:gd name="textAreaLeft" fmla="*/ 93240 w 1008000"/>
              <a:gd name="textAreaRight" fmla="*/ 914760 w 100800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274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876" y="21600"/>
                </a:lnTo>
                <a:arcTo wR="3600" hR="3600" stAng="10800000" swAng="5400000"/>
                <a:lnTo>
                  <a:pt x="27476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Блок-схема: ИЛИ 6"/>
          <p:cNvSpPr/>
          <p:nvPr/>
        </p:nvSpPr>
        <p:spPr>
          <a:xfrm>
            <a:off x="755640" y="5013360"/>
            <a:ext cx="936720" cy="863640"/>
          </a:xfrm>
          <a:prstGeom prst="flowChartOr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4:53:58Z</dcterms:created>
  <dc:creator>user</dc:creator>
  <dc:description/>
  <dc:language>en-US</dc:language>
  <cp:lastModifiedBy>user</cp:lastModifiedBy>
  <dcterms:modified xsi:type="dcterms:W3CDTF">2012-02-17T14:02:30Z</dcterms:modified>
  <cp:revision>5</cp:revision>
  <dc:subject/>
  <dc:title>Разминка - рефлексия</dc:title>
</cp:coreProperties>
</file>